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gif" ContentType="image/gif"/>
  <Override PartName="/ppt/media/image34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F48-BF2A-4C0C-B794-5466DEEF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6F4-E0CB-45BD-9DBD-94091D67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F65-111C-4988-9DCD-D02447DF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D3D-6FF4-4654-84A3-528F38F8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B74-37E5-4554-B581-E5856D4E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E3E-4B42-4EB1-9D16-615FE286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5D6-052A-40BA-AFDE-51FD614A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81D-F659-4D25-A7BF-8DD305A5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A82-B175-4A2C-B23B-F53F1101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FAD-0DCD-4BAE-BDAE-3B4BEE4D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0AC-6375-4E1F-8C4E-2FB193E5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1BF-A1B5-4E5D-B469-E050660D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307E-448E-4078-8BC0-72B3CDEB2A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6858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0000"/>
                </a:solidFill>
                <a:latin typeface="Arial"/>
              </a:rPr>
              <a:t>Voor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6000" spc="-1" strike="noStrike">
                <a:solidFill>
                  <a:srgbClr val="0099ff"/>
                </a:solidFill>
                <a:latin typeface="Arial"/>
              </a:rPr>
              <a:t>2011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4952520"/>
            <a:ext cx="6120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000000"/>
                </a:solidFill>
                <a:latin typeface="Arial"/>
              </a:rPr>
              <a:t>wens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8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800" spc="-1" strike="noStrike">
                <a:solidFill>
                  <a:srgbClr val="000000"/>
                </a:solidFill>
                <a:latin typeface="Arial"/>
              </a:rPr>
              <a:t>julli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lfvertrouw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08720" cy="44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al in moeilijke moment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49880" cy="52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el echte vriend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2048040"/>
            <a:ext cx="6053040" cy="42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e broed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15976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egripvol zij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30192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U bescherm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151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36100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gen in al uw challeng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2600" y="981000"/>
            <a:ext cx="446220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5640" y="1844640"/>
            <a:ext cx="4835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w zin voor humor bewar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25440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16000" y="1557360"/>
            <a:ext cx="397044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op gaan voor al wat fijn 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1698" r="0" b="0"/>
          <a:stretch/>
        </p:blipFill>
        <p:spPr>
          <a:xfrm>
            <a:off x="324000" y="692280"/>
            <a:ext cx="4201920" cy="57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lfs al velies je voe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1674" r="0" b="0"/>
          <a:stretch/>
        </p:blipFill>
        <p:spPr>
          <a:xfrm>
            <a:off x="468360" y="1628640"/>
            <a:ext cx="838836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kkere hapj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54800" cy="5059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en fijne 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familiesfeer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draagzaamhe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Veel moed wanneer nodi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26904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ls U </a:t>
            </a: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rookt…kap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er me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707076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en fast food mee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33708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asje op…laat je rijden!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3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op voor bruisende drankj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809880" cy="50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0240" cy="5288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 de planeet… neem meer het openbaar vervo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es uw charters met zorg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48980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rouw niet alle uniform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8512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ar U van overla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1347840"/>
            <a:ext cx="8675640" cy="63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moeting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ede vrienden moge jullie allen veilig landen in  </a:t>
            </a: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2011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en SUPER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aar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voor allemaal…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rome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19308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Heel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veel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tederheid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zachtheid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5842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uke plann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562040"/>
            <a:ext cx="7274160" cy="50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e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57056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lekker uitrust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480360" cy="459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ets</cp:lastModifiedBy>
  <dcterms:modified xsi:type="dcterms:W3CDTF">2011-02-03T05:55:17Z</dcterms:modified>
  <cp:revision>18</cp:revision>
  <dc:subject/>
  <dc:title>Pour septembre…</dc:title>
</cp:coreProperties>
</file>