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gif" ContentType="image/gif"/>
  <Override PartName="/ppt/media/image34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432-D72E-43A1-A874-DF4EECD4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F17-8C68-441A-8C99-15B2FDB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2F7-34DA-4CE4-B1C9-059840EF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883-0EA1-410D-A165-15FBA22C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5CE-527A-46BF-A028-8660226D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796-FE65-4E29-9E95-D3E167C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D42-DCA9-4581-B848-EAD14CE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278-7378-4620-A945-1EBEA75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8F1-F871-406C-819A-E45F2BC2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927-CD9F-44EB-9E20-E5C8519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3D0-60A5-4715-92C8-6C1A634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42A-F101-4148-9C85-A416A37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B08A-B10C-499A-8534-EBDCD5B552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6858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6000" spc="-1" strike="noStrike">
                <a:solidFill>
                  <a:srgbClr val="0099ff"/>
                </a:solidFill>
                <a:latin typeface="Arial"/>
              </a:rPr>
              <a:t>2011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4952520"/>
            <a:ext cx="6120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wens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julli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lfvertrouw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al in moeilijke momen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4988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el echte vriend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048040"/>
            <a:ext cx="6053040" cy="42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e broed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597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egripvol zij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3019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U bescher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151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6100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gen in al uw challeng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2600" y="981000"/>
            <a:ext cx="44622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5640" y="1844640"/>
            <a:ext cx="4835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w zin voor humor bewar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2544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16000" y="1557360"/>
            <a:ext cx="3970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op gaan voor al wat fijn 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1698" r="0" b="0"/>
          <a:stretch/>
        </p:blipFill>
        <p:spPr>
          <a:xfrm>
            <a:off x="324000" y="692280"/>
            <a:ext cx="420192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lfs al velies je voe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674" r="0" b="0"/>
          <a:stretch/>
        </p:blipFill>
        <p:spPr>
          <a:xfrm>
            <a:off x="468360" y="1628640"/>
            <a:ext cx="83883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kkere hapj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54800" cy="5059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en fijne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familiesfeer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raagzaamhe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Veel moed wanneer nodi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26904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s U 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rookt…kap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r me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07076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en fast food mee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370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asje op…laat je rijden!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3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op voor bruisende drankj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80988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de planeet… neem meer het openbaar vervo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s uw charters met zorg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98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rouw niet alle uniform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851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ar U van overla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8675640" cy="63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moeting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de vrienden moge jullie allen veilig landen in  </a:t>
            </a: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2011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en SUPER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aar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voor allemaal…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rome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9308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Heel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veel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tederheid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achtheid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842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uke plann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562040"/>
            <a:ext cx="7274160" cy="50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e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705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cecece"/>
            </a:gs>
            <a:gs pos="100000">
              <a:srgbClr val="37373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ekker uitrus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459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11-02-03T05:55:17Z</dcterms:modified>
  <cp:revision>18</cp:revision>
  <dc:subject/>
  <dc:title>Pour septembre…</dc:title>
</cp:coreProperties>
</file>