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76A-2E71-4A89-9E1C-64F2AD77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EF82-0D9E-48DB-AB95-4D4623C1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163-F4D2-47FA-B298-880915AC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FBB-2B87-4179-A573-4D0426D7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E32-26FE-4DAE-9D25-382937E5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F22-1822-4445-A3F6-B5F13C62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8BA-1FCA-4F87-80F4-4671AE7D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E24-EDDE-434E-A47A-FE0A0308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71A3-74C8-49C2-83AC-4518D256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7A6-C6AE-4630-ACB2-BBA4A59D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DAD3-AF71-4264-B6B1-1230183E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DDD9-7B84-411F-AF9B-BF365A7A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F6DB3-FCB5-4A77-A33C-60F01728236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B37AA-F816-4299-B700-E3A267BE0FA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6:50:08Z</dcterms:created>
  <dc:creator>최봉수</dc:creator>
  <dc:description/>
  <dc:language>en-US</dc:language>
  <cp:lastModifiedBy>맛있다 군만두</cp:lastModifiedBy>
  <dcterms:modified xsi:type="dcterms:W3CDTF">2024-09-24T08:00:19Z</dcterms:modified>
  <cp:revision>4</cp:revision>
  <dc:subject/>
  <dc:title>슬라이드 1</dc:title>
</cp:coreProperties>
</file>