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9F7C-C461-40F5-8A41-1B607356A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8295-6EC0-4D91-8C34-E84EA97CE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361D-4E85-40D8-841B-39CFA160A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39C1-0BF9-497D-9AED-F8D367C98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F813-D782-46BD-BBD6-F285732FA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8172-37E5-469E-9110-E72DC6D61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C4A0-3F63-4D42-921B-FA292DB3E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C615-5B77-4D87-8E01-9A42790F1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F163-1B77-472D-8AC6-88DB06EE5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7FE8-EFE4-4062-B2E3-F474B4460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5C3B-AF57-42A5-A490-F15DBDE1F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21A3-1934-455F-AE0D-BC3AC867D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B82CE8-FADA-4B09-B681-40C4BF843E07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6D53CC-C7F3-4D5E-8404-B8BD2C6F0406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3.png"/><Relationship Id="rId4" Type="http://schemas.openxmlformats.org/officeDocument/2006/relationships/slide" Target="slide5.xml"/><Relationship Id="rId5" Type="http://schemas.openxmlformats.org/officeDocument/2006/relationships/image" Target="../media/image3.png"/><Relationship Id="rId6" Type="http://schemas.openxmlformats.org/officeDocument/2006/relationships/slide" Target="slide5.xml"/><Relationship Id="rId7" Type="http://schemas.openxmlformats.org/officeDocument/2006/relationships/slide" Target="slide3.xml"/><Relationship Id="rId8" Type="http://schemas.openxmlformats.org/officeDocument/2006/relationships/image" Target="../media/image3.png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1.xml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50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53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7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7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0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63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66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9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0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3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76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79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3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6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89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92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5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6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9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1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02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4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05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8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09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12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4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15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7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18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1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22" name="Picture 6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4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25" name="Picture 9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Text Box 10">
              <a:hlinkClick r:id="rId6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7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28" name="Picture 12" descr="">
              <a:hlinkClick r:id="rId7" action="ppaction://hlinksldjump"/>
            </p:cNvPr>
            <p:cNvPicPr/>
            <p:nvPr/>
          </p:nvPicPr>
          <p:blipFill>
            <a:blip r:embed="rId8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Text Box 13">
              <a:hlinkClick r:id="rId9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31" name="Picture 15" descr=""/>
            <p:cNvPicPr/>
            <p:nvPr/>
          </p:nvPicPr>
          <p:blipFill>
            <a:blip r:embed="rId10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 Box 16">
              <a:hlinkClick r:id="rId11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4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35" name="Picture 6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7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38" name="Picture 9" descr=""/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0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41" name="Picture 12" descr=""/>
            <p:cNvPicPr/>
            <p:nvPr/>
          </p:nvPicPr>
          <p:blipFill>
            <a:blip r:embed="rId5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13"/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3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44" name="Picture 15" descr=""/>
            <p:cNvPicPr/>
            <p:nvPr/>
          </p:nvPicPr>
          <p:blipFill>
            <a:blip r:embed="rId6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Text Box 16"/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06:50:08Z</dcterms:created>
  <dc:creator>최봉수</dc:creator>
  <dc:description/>
  <dc:language>en-US</dc:language>
  <cp:lastModifiedBy>맛있다 군만두</cp:lastModifiedBy>
  <dcterms:modified xsi:type="dcterms:W3CDTF">2024-09-24T08:00:19Z</dcterms:modified>
  <cp:revision>4</cp:revision>
  <dc:subject/>
  <dc:title>슬라이드 1</dc:title>
</cp:coreProperties>
</file>