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F9E-424A-4E0C-8347-6E112FF640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8943-A186-468B-B437-8D306E5AB5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0EC-4275-44F2-A2CE-27C821D2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3FC-614C-49F3-9923-316CF51E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B7F-BB7C-4098-B010-DDB6C6AA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153-154B-47A3-9CD0-0BF7BB8A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855-A559-4E36-BB5F-621475DF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6B5-A8B3-4B0D-B9B1-56BF0432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42C-6C1F-4155-BDA7-6EC5E3B1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F83-C156-457C-AAB5-3E1DD70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F2D-B690-4C06-BE15-F33C83A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6C9-4784-48DB-98DA-D438D88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392-16B1-484C-BACF-84EA9E4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D39-3296-4504-B123-F2F8FE7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2BE1-8D29-407B-89D1-FB4333B4E8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887-01D9-46ED-99E4-A9273515FE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لتاريخ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658-B365-491D-8BB8-F26E44E84B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لتذييل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E21-252D-4744-9395-3F36AF82A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52" name="مستطيل 5"/>
          <p:cNvSpPr/>
          <p:nvPr/>
        </p:nvSpPr>
        <p:spPr>
          <a:xfrm>
            <a:off x="0" y="457200"/>
            <a:ext cx="9144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-Negative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e the largest group of human bacteri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in part to the presence of lipid A in the bacterial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 fever, vasodilation, inflammation, shock, and disseminated intravascular coagulation (blood clots within blood 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Gram-negative bacterium that can breach the skin or mucous membranes, grow at 37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and evade the immune system can cause disease and death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ve Gram-negat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600200"/>
          <a:ext cx="8893080" cy="4968720"/>
        </p:xfrm>
        <a:graphic>
          <a:graphicData uri="http://schemas.openxmlformats.org/drawingml/2006/table">
            <a:tbl>
              <a:tblPr/>
              <a:tblGrid>
                <a:gridCol w="4446720"/>
                <a:gridCol w="4446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Gram-negative coc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seria gonorrhoe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seria mening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urved r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io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ylobac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cobac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-negative r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Family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bacteriace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ly important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herichia col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mon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gella, Klebsiella sp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us 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mo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organis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detella pertus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emophilu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al organis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ponema pall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iscellane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onell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amydi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4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D63-BCD5-41E7-9AD5-48BDD2BBC2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796-1DC8-4EF3-A99C-7FF3306220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genus of Gram-negative cocci that regularly causes diseas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otile, aerobic bacteria often arranged as diplo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d from many other Gram-negative pathogens by being oxidas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pecies are pathogenic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nococc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gonorrho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ingococc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meningi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gonorrhea, a sexually transmitte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cocci adhere to epithelial cells of the mucous membranes lining the genital, urinary, and digestive tracts of humans spreading to deeper tissue as they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rrhea i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symptomatic producing inflammation that causes painful urination and pus-filled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1222" t="1760" r="1222" b="5304"/>
          <a:stretch/>
        </p:blipFill>
        <p:spPr>
          <a:xfrm>
            <a:off x="563400" y="568440"/>
            <a:ext cx="799308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rrhea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symp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fect the cervix and other parts of the uterus, including the Fallopian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pelvic inflammatory disease (P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ult in ectopic pregnancy or ster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coccal infection of children can occur during childbirth producing inflammation of the cornea or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are the only natural carri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meningi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ember of the normal microbiota of the upper respiratory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life-threatening disease when the bacteria invade the blood or cerebrospin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meningitis in individuals und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droplets transmit the bacteria among people living in close contac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students living in dorm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ingococcal meningitis can result in death as early as 6 hours after initial symp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ingococcal septicemia, blood poisoning, can also be life threa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roduce blood coagulation and the formation of minute hemorrhagic le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bers of the intestinal microbiota of most animals and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biquitous in water, soil, and decaying veg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ic bacteria are the most common Gram-negative pathogens of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cobacilli or bac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gens and Virulenc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"/>
          <p:cNvPicPr/>
          <p:nvPr/>
        </p:nvPicPr>
        <p:blipFill>
          <a:blip r:embed="rId1"/>
          <a:srcRect l="747" t="1502" r="1190" b="6683"/>
          <a:stretch/>
        </p:blipFill>
        <p:spPr>
          <a:xfrm>
            <a:off x="374760" y="1069920"/>
            <a:ext cx="837072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لتاريخ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15E1-5B7B-4532-9AC0-E4C3491A87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FF4-2146-4000-89E6-526D28703D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obacteriaceae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ic Enterobacteriaceae are often classified into thre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iforms, which rapidly ferment lactose, are part of the normal microbiota, and may be opportunistic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liform opportunists, which do not ferment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iform Opportunistic 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or facultatively anaerobic, Gram-negative, rod-shaped bacteria that ferment lactose to form gas on lactose br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found in soil, on plants, and on decaying veg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e the intestinal tracts of animals and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liforms in water is indicative of impure water and of poor sewage 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and important of the 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lent strains have genes located on virulence plasmids that allow the bacteria to colonize human t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enteritis is the most common disease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ediated by exotoxins that produce the symptoms associated with gastroen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cause of non-nosocomial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coli O157:H7 is the most prevalent strain of pathogenic E.coli in developed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arrhea, hemorrhagic colitis, and hemolytic uremic syndrome, a sever kidne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pidemics associated with undercooked ground beef or unpasteurized milk or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type III secretion system and Shiga-like toxin that aid in the virulence of th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lebsi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digestive and respiratory systems of human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opportunistic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capsule that protect the bacteria from phag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.pneumoni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st commonly isolated pathogen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nvolved in bacteremia, meningitis, wound infections,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1205" t="1957" r="1547" b="5304"/>
          <a:stretch/>
        </p:blipFill>
        <p:spPr>
          <a:xfrm>
            <a:off x="1035000" y="638280"/>
            <a:ext cx="705348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rr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red pigment when grown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row on catheters, in saline solutions, and other hospital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life-threatening opportunistic infections in the urinary and respiratory tracts of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treat due to resistance to various antimicrobial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rratia marcesc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392" t="1957" r="1764" b="6271"/>
          <a:stretch/>
        </p:blipFill>
        <p:spPr>
          <a:xfrm>
            <a:off x="1467000" y="603360"/>
            <a:ext cx="618804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coliform Opportunistic Enterobacteriace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8080" y="1343160"/>
            <a:ext cx="84898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number of opportunistic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-negative, facultative anae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us mirabi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common species associated with huma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urinary tract infections in patients with long-term urinary cath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-induced kidney stones can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 to many antimicrobia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liform Opportunistic 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55760"/>
            <a:ext cx="914400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organella, Providencia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dwardsi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nosocomial infections in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involved in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Arial"/>
              </a:rPr>
              <a:t>Gram-Negative bacter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5AB-AAA4-4F5A-9612-0E2AE28ADB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A5A-DBC5-4DB9-8BC2-CB99AF9F6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ly Pathogenic 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ant members of this group almost always pathogenic due to numerous virulence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I secretion system allows entry of proteins that inhibit phagocytosis, rearrange the cytoskeletons of eukaryotic cells, or induce apop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lm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negative, motile, bac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intestines and feces of most birds, reptiles, and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almonella infections in humans are the result of consumption of food contaminated with animal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ltry and eggs are also common sour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mportant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. typhimu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uses salmonel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. typh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uses typhoid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hig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-negative, nonmotile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ily a parasite of the digestive tract of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a diarrhea-inducing enterotox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a sever form of dysentery called shigell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ers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 pathogens of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important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.entero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via consumption of food or water contaminated with animal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inflammation of the intestinal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.pseudo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Y.enterocolitica but produces a less severe intestinal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ers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.pes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onic pla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d by high fever and swollen, painful lymph nodes called bub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c pla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 developing infection of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obacteriaceae: Sites of Inf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rcRect l="4483" t="1564" r="1404" b="5281"/>
          <a:stretch/>
        </p:blipFill>
        <p:spPr>
          <a:xfrm>
            <a:off x="2062080" y="907920"/>
            <a:ext cx="499752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eurell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mall, nonmotile, facultativ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heme or cytochromes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steur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 microbiota in the oral and nasopharyngeal cavities of animals such as cats and d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are typically infected via animal bites and scratches or via inhalation of aerosols from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ases produce localized inflammation and swelling of the lymph nodes at the site of 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is by the identification of the bacteria in specimens collected from the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acterial drugs are an effectiv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48988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, pleomorphic bacil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ligate parasites due to their requirement of heme and NA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e the mucous membranes of humans and some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914040"/>
            <a:ext cx="896472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rains have a polysaccharide capsule that resists phagocytosis and is used in classification of 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.influenz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 b is the most signif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ost common form of meningitis in infants prior to the use of an effective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use a number of other diseases in you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Hib vaccine has eliminated much of the disease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influenz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trains still cause a variety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cell wall structure of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important medical gram negative bacteri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diseases caused by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virulent factors of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7AE1-F444-4138-B6EA-A16DE05DAB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75B-F841-4CF3-BE0A-1261505833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20" t="1783" r="1320" b="5900"/>
          <a:stretch/>
        </p:blipFill>
        <p:spPr>
          <a:xfrm>
            <a:off x="868320" y="574560"/>
            <a:ext cx="7383600" cy="59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t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89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bac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nimals but only cause disease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ecies are pat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tonella bacillifo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onel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by blooding-sucking sand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ruc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, nonmotile, aerobic coccobaci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nfect animals or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brucell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n asymptomatic or mil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ness is characterized by a fluctuating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become infected by coming in contact with contaminated dairy products or from infected animal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mon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-negative, aerobic baci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biquitous in soil, decaying organic matter, and almost every moist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atic in hospitals because they can be found in numerous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stic path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part of the normal microbi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stic pathogen of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lonize almost every organ and system and result in var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nfects the lungs of cystic fibrosi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cteria form a biofilm that protects them from phagocy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likelihood of death in thes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slender, pleomorphic bacte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versal inhabitants of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ans acquire the disease by inhaling the bacteria in aerosols from various water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acellular para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s Legionnaires’ dis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ults in pneumo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munocompromised individuals are more suscept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ion of the bacteria is not feasible but reducing their number is a successful control mea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-ve bacteria Constitute the largest group of human bacteri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a verity of diseas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ic Enterobacteriaceae classified into thre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iforms, which rapidly ferment lactose, are part of the normal microbiota, and may be opportunistic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liform opportunists, which do not ferment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53F9-6D02-46C7-A7FE-E6C40B6D4C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768C-ED49-40AD-B8C4-E22817EF39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670040" y="1603440"/>
            <a:ext cx="725472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Subtitle 2" descr=""/>
          <p:cNvPicPr/>
          <p:nvPr/>
        </p:nvPicPr>
        <p:blipFill>
          <a:blip r:embed="rId2"/>
          <a:stretch/>
        </p:blipFill>
        <p:spPr>
          <a:xfrm>
            <a:off x="-334800" y="3535200"/>
            <a:ext cx="8418240" cy="2725920"/>
          </a:xfrm>
          <a:prstGeom prst="rect">
            <a:avLst/>
          </a:prstGeom>
          <a:ln w="0">
            <a:noFill/>
          </a:ln>
        </p:spPr>
      </p:pic>
      <p:sp>
        <p:nvSpPr>
          <p:cNvPr id="162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30B-6370-4F3C-96F3-56B9680C9A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936F-879E-4600-A505-A03F7238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96E1-E9C4-4C8F-BCC1-84DF951FBE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AD8E-D627-48E3-9BC7-5275BDD4B6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498-E348-4B7B-945F-B789981E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CONTENT\ch04\0059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54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16880" y="53352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Gram positiv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Gram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379280" y="61707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4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0073023469\chapter3\f3-34_gram-negative_cel.jpg"/>
          <p:cNvPicPr/>
          <p:nvPr/>
        </p:nvPicPr>
        <p:blipFill>
          <a:blip r:embed="rId1"/>
          <a:stretch/>
        </p:blipFill>
        <p:spPr>
          <a:xfrm>
            <a:off x="93600" y="0"/>
            <a:ext cx="8871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2A9-A776-455C-AC4A-6F1BABAC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CONTENT\ch04\0058.jpg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69960" y="519120"/>
            <a:ext cx="8150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membrane is made of lipopolysaccha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ins allow molecules to pass through o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S is prot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A- strong inflamma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do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linked polysaccharide- anti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33:14Z</dcterms:created>
  <dc:creator>JUST</dc:creator>
  <dc:description/>
  <dc:language>en-US</dc:language>
  <cp:lastModifiedBy>imam</cp:lastModifiedBy>
  <dcterms:modified xsi:type="dcterms:W3CDTF">2011-12-03T20:16:25Z</dcterms:modified>
  <cp:revision>99</cp:revision>
  <dc:subject/>
  <dc:title>Bacterial cell Structure</dc:title>
</cp:coreProperties>
</file>