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4.xml.rels" ContentType="application/vnd.openxmlformats-package.relationships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4ED7-BD40-4FBD-ABB7-8B7BC725F70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636D-1979-4BE8-88BD-0D3A987D3FF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4B64-00D2-492C-A857-AFB7DBB57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49D9-1735-46F3-8762-02FDFC98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DEAE-EF7C-49FE-B728-D2FA9F018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F043-381B-408E-826B-E6B83B936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1C26-F585-4772-B45F-21089FE5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B05A-E9CD-407C-BCFF-D7EB7D05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6BE3-797E-419A-BEC6-93EE5E8B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427D-8151-44BE-BCEA-CBCA9AC6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756B-7D6B-42EE-99BB-B719BEB7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7411-0369-4861-BDC3-C7BDEE0B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BB43-BF6A-466F-B22A-099D13D4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F6B9-4F82-417B-8660-1F2E60A4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E224-7B55-4127-BD5E-F77839EE9B6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dnan Ja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D719-02DF-4D68-88EB-510A6317502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عنصر نائب للتاريخ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36F7-5046-4EDA-868A-AE6DBB970B1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عنصر نائب للتذييل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dnan Ja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عنصر نائب لرقم الشريحة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6144-A0FD-452B-8D48-4610519DDD0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1" descr="Imam Logo"/>
          <p:cNvPicPr/>
          <p:nvPr/>
        </p:nvPicPr>
        <p:blipFill>
          <a:blip r:embed="rId1"/>
          <a:stretch/>
        </p:blipFill>
        <p:spPr>
          <a:xfrm>
            <a:off x="2666880" y="914400"/>
            <a:ext cx="3314880" cy="4686480"/>
          </a:xfrm>
          <a:prstGeom prst="rect">
            <a:avLst/>
          </a:prstGeom>
          <a:ln w="0">
            <a:noFill/>
          </a:ln>
        </p:spPr>
      </p:pic>
      <p:sp>
        <p:nvSpPr>
          <p:cNvPr id="52" name="مستطيل 5"/>
          <p:cNvSpPr/>
          <p:nvPr/>
        </p:nvSpPr>
        <p:spPr>
          <a:xfrm>
            <a:off x="0" y="457200"/>
            <a:ext cx="914400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م الله الرحمن الرحي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stellar"/>
              </a:rPr>
              <a:t>Al-Imam Mohammed Bin Saud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stellar"/>
              </a:rPr>
              <a:t>College of 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m-Negative 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0400" y="914400"/>
            <a:ext cx="8489880" cy="47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itute the largest group of human bacterial path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in part to the presence of lipid A in the bacterial cell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ggers fever, vasodilation, inflammation, shock, and disseminated intravascular coagulation (blood clots within blood vess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every Gram-negative bacterium that can breach the skin or mucous membranes, grow at 37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, and evade the immune system can cause disease and death in hum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esentative Gram-negati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0" y="1600200"/>
          <a:ext cx="8893080" cy="4968720"/>
        </p:xfrm>
        <a:graphic>
          <a:graphicData uri="http://schemas.openxmlformats.org/drawingml/2006/table">
            <a:tbl>
              <a:tblPr/>
              <a:tblGrid>
                <a:gridCol w="4446720"/>
                <a:gridCol w="4446360"/>
              </a:tblGrid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Gram-negative coc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isseria gonorrhoea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isseria meningit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Curved ro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brio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pylobacter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icobacter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4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-negative ro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Family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erobacteriacea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ally important spec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cherichia coli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monel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eric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gella, Klebsiella spp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us s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eudomona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p &amp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ed organis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rdetella pertus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emophilu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ral organis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ponema pallid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Miscellaneo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ionella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amydia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84" name="Date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50DA-C59F-457B-8CB7-E3F4426CC20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dnan Ja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0E40-B96D-4DE9-A864-4D06556AFC2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Neiss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0400" y="914400"/>
            <a:ext cx="8489880" cy="42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genus of Gram-negative cocci that regularly causes diseases in hum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motile, aerobic bacteria often arranged as diplococ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ed from many other Gram-negative pathogens by being oxidase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pecies are pathogenic to hum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nococcus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. gonorrhoe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ningococcus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. meningit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Neisseria gonorrhoe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 gonorrhea, a sexually transmitted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nococci adhere to epithelial cells of the mucous membranes lining the genital, urinary, and digestive tracts of humans spreading to deeper tissue as they multi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norrhea in 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symptomatic producing inflammation that causes painful urination and pus-filled dis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Neisseria gonorrhoe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rcRect l="1222" t="1760" r="1222" b="5304"/>
          <a:stretch/>
        </p:blipFill>
        <p:spPr>
          <a:xfrm>
            <a:off x="563400" y="568440"/>
            <a:ext cx="7993080" cy="59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Neisseria gonorrhoe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0400" y="914400"/>
            <a:ext cx="8489880" cy="40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norrhea in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asymptom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infect the cervix and other parts of the uterus, including the Fallopian tu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result in pelvic inflammatory disease (P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result in ectopic pregnancy or ster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nococcal infection of children can occur during childbirth producing inflammation of the cornea or blin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Neisseria meningitid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0400" y="914400"/>
            <a:ext cx="848988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s are the only natural carrier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. meningit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member of the normal microbiota of the upper respiratory 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life-threatening disease when the bacteria invade the blood or cerebrospinal fl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mon cause of meningitis in individuals under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iratory droplets transmit the bacteria among people living in close contact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pecially students living in dormi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Neisseria meningitid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ningococcal meningitis can result in death as early as 6 hours after initial sympto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ningococcal septicemia, blood poisoning, can also be life threate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produce blood coagulation and the formation of minute hemorrhagic le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erobacteriace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mbers of the intestinal microbiota of most animals and hum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biquitous in water, soil, and decaying vege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teric bacteria are the most common Gram-negative pathogens of hum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ccobacilli or baci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gens and Virulence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1" descr=""/>
          <p:cNvPicPr/>
          <p:nvPr/>
        </p:nvPicPr>
        <p:blipFill>
          <a:blip r:embed="rId1"/>
          <a:srcRect l="747" t="1502" r="1190" b="6683"/>
          <a:stretch/>
        </p:blipFill>
        <p:spPr>
          <a:xfrm>
            <a:off x="374760" y="1069920"/>
            <a:ext cx="8370720" cy="46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MICROBIOLO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Adnan S. Jaran BSc. MSc. PhD. AIBM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عنصر نائب للتاريخ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CC53-F6FF-4FD3-99D1-6EB492E4B7A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عنصر نائب للتذييل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dnan Ja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عنصر نائب لرقم الشريحة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7682-EC25-493A-BE17-5D58C035131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214200" y="857160"/>
            <a:ext cx="8888400" cy="249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PRINCIPLES OF DISEASE I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BLOCK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Times New Roman"/>
              </a:rPr>
              <a:t>  </a:t>
            </a:r>
            <a:br>
              <a:rPr sz="1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(PATH 122)</a:t>
            </a:r>
            <a:br>
              <a:rPr sz="18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redit Hours: 5 (2+2+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erobacteriaceae Class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hogenic Enterobacteriaceae are often classified into three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iforms, which rapidly ferment lactose, are part of the normal microbiota, and may be opportunistic patho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coliform opportunists, which do not ferment lact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 patho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iform Opportunistic Enterobacteriace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0400" y="914040"/>
            <a:ext cx="848988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robic or facultatively anaerobic, Gram-negative, rod-shaped bacteria that ferment lactose to form gas on lactose br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ly found in soil, on plants, and on decaying veg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nize the intestinal tracts of animals and hum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ce of coliforms in water is indicative of impure water and of poor sewage treat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Escherichia co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0400" y="9144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common and important of the coli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ulent strains have genes located on virulence plasmids that allow the bacteria to colonize human tiss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troenteritis is the most common disease associated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.co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mediated by exotoxins that produce the symptoms associated with gastroenter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ommon cause of non-nosocomial urinary tract inf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Escherichia co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coli O157:H7 is the most prevalent strain of pathogenic E.coli in developed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diarrhea, hemorrhagic colitis, and hemolytic uremic syndrome, a sever kidney dis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epidemics associated with undercooked ground beef or unpasteurized milk or ju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a type III secretion system and Shiga-like toxin that aid in the virulence of the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Klebsie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0400" y="914040"/>
            <a:ext cx="848988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in the digestive and respiratory systems of humans and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cause opportunistic inf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 a capsule that protect the bacteria from phagocyt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.pneumonia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most commonly isolated pathogenic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pneumo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involved in bacteremia, meningitis, wound infections, U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Klebsiella pneumoni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rcRect l="1205" t="1957" r="1547" b="5304"/>
          <a:stretch/>
        </p:blipFill>
        <p:spPr>
          <a:xfrm>
            <a:off x="1035000" y="638280"/>
            <a:ext cx="7053480" cy="583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errat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 a red pigment when grown at room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grow on catheters, in saline solutions, and other hospital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cause life-threatening opportunistic infections in the urinary and respiratory tracts of immunocompromised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treat due to resistance to various antimicrobial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erratia marcesc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rcRect l="1392" t="1957" r="1764" b="6271"/>
          <a:stretch/>
        </p:blipFill>
        <p:spPr>
          <a:xfrm>
            <a:off x="1467000" y="603360"/>
            <a:ext cx="6188040" cy="58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9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ncoliform Opportunistic Enterobacteriacea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98080" y="1343160"/>
            <a:ext cx="848988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a number of opportunistic path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t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-negative, facultative anaero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teus mirabil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most common species associated with human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cause urinary tract infections in patients with long-term urinary cath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ction-induced kidney stones can devel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t to many antimicrobial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coliform Opportunistic Enterobacteriace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355760"/>
            <a:ext cx="9144000" cy="18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Morganella, Providencia,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Edwardsie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 nosocomial infections in immunocompromised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ily involved in urinary tract inf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b050"/>
                </a:solidFill>
                <a:latin typeface="Arial"/>
              </a:rPr>
              <a:t>Gram-Negative bacteri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9F10-B915-45D3-A190-90345C061DF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dnan Ja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96BE-9A2E-466E-8692-6DB0DFED587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uly Pathogenic Enterobacteriace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ortant members of this group almost always pathogenic due to numerous virulence fa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III secretion system allows entry of proteins that inhibit phagocytosis, rearrange the cytoskeletons of eukaryotic cells, or induce apopt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almone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0400" y="914400"/>
            <a:ext cx="84898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m-negative, motile, bacil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in the intestines and feces of most birds, reptiles, and mam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almonella infections in humans are the result of consumption of food contaminated with animal f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ultry and eggs are also common source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lmone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important path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. typhimuri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causes salmonell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. typh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causes typhoid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hige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m-negative, nonmotile bac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marily a parasite of the digestive tract of hum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duce a diarrhea-inducing enterotox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use a sever form of dysentery called shigello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5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Yersi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0400" y="914040"/>
            <a:ext cx="848988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rmal pathogens of an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ree important spe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.enterocoli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ed via consumption of food or water contaminated with animal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inflammation of the intestinal 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.pseudotubercul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Y.enterocolitica but produces a less severe intestinal inflam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Yersi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400" y="914040"/>
            <a:ext cx="8489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.pes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bonic plagu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zed by high fever and swollen, painful lymph nodes called bub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neumonic plagu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ly developing infection of the lu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terobacteriaceae: Sites of Inf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"/>
          <p:cNvPicPr/>
          <p:nvPr/>
        </p:nvPicPr>
        <p:blipFill>
          <a:blip r:embed="rId1"/>
          <a:srcRect l="4483" t="1564" r="1404" b="5281"/>
          <a:stretch/>
        </p:blipFill>
        <p:spPr>
          <a:xfrm>
            <a:off x="2062080" y="907920"/>
            <a:ext cx="4997520" cy="569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teurellace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re small, nonmotile, facultative anaer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heme or cytochromes for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asteure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rmal microbiota in the oral and nasopharyngeal cavities of animals such as cats and do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umans are typically infected via animal bites and scratches or via inhalation of aerosols from anim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cases produce localized inflammation and swelling of the lymph nodes at the site of inf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agnosis is by the identification of the bacteria in specimens collected from the pati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bacterial drugs are an effective trea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5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Haemophi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489880" cy="23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mall, pleomorphic bacil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ligate parasites due to their requirement of heme and NAD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for grow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onize the mucous membranes of humans and some anim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5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Haemophilus influenz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9280" y="914040"/>
            <a:ext cx="896472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trains have a polysaccharide capsule that resists phagocytosis and is used in classification of the 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.influenza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ype b is the most significa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the most common form of meningitis in infants prior to the use of an effective vac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cause a number of other diseases in young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the Hib vaccine has eliminated much of the disease caus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.influenza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strains still cause a variety of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know the cell wall structure of gram negative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know the important medical gram negative bacteria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know the diseases caused by gram negative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know the virulent factors of gram negative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Date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3BDE-C5FA-4BA8-8185-17A826224D2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dnan Ja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0E03-EBB1-404E-A853-37975040256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Haemophilus influenz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rcRect l="1320" t="1783" r="1320" b="5900"/>
          <a:stretch/>
        </p:blipFill>
        <p:spPr>
          <a:xfrm>
            <a:off x="868320" y="574560"/>
            <a:ext cx="7383600" cy="591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tone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48988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robic bacil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in animals but only cause disease in hum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species are pathoge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artonella bacillifor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tonell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tted by blooding-sucking sand f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Bruce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mall, nonmotile, aerobic coccobacil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infect animals or hum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uses brucello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an asymptomatic or mild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ness is characterized by a fluctuating f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s become infected by coming in contact with contaminated dairy products or from infected animal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5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eudomon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m-negative, aerobic bacil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biquitous in soil, decaying organic matter, and almost every moist 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lematic in hospitals because they can be found in numerous lo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portunistic pathog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50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20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seudomonas aerugino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rely part of the normal microbio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rtunistic pathogen of immunocompromised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colonize almost every organ and system and result in various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infects the lungs of cystic fibrosis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acteria form a biofilm that protects them from phagocyt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s the likelihood of death in these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5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Legionella pneumophi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robic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slender, pleomorphic bacter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niversal inhabitants of wa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umans acquire the disease by inhaling the bacteria in aerosols from various water sour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racellular parasi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uses Legionnaires’ disea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sults in pneumon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mmunocompromised individuals are more suscepti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limination of the bacteria is not feasible but reducing their number is a successful control meas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50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0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500"/>
                            </p:stCondLst>
                            <p:childTnLst>
                              <p:par>
                                <p:cTn id="5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30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95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-ve bacteria Constitute the largest group of human bacterial path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 a verity of diseases in hum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hogenic Enterobacteriaceae classified into three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iforms, which rapidly ferment lactose, are part of the normal microbiota, and may be opportunistic patho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coliform opportunists, which do not ferment lact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 patho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ate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760A-5797-4E73-8B48-02A0EFBC302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dnan Ja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6A0C-E8E9-4692-9635-A87BBF45844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Title 1" descr=""/>
          <p:cNvPicPr/>
          <p:nvPr/>
        </p:nvPicPr>
        <p:blipFill>
          <a:blip r:embed="rId1"/>
          <a:stretch/>
        </p:blipFill>
        <p:spPr>
          <a:xfrm>
            <a:off x="1670040" y="1603440"/>
            <a:ext cx="7254720" cy="2262240"/>
          </a:xfrm>
          <a:prstGeom prst="rect">
            <a:avLst/>
          </a:prstGeom>
          <a:ln w="0">
            <a:noFill/>
          </a:ln>
        </p:spPr>
      </p:pic>
      <p:pic>
        <p:nvPicPr>
          <p:cNvPr id="161" name="Subtitle 2" descr=""/>
          <p:cNvPicPr/>
          <p:nvPr/>
        </p:nvPicPr>
        <p:blipFill>
          <a:blip r:embed="rId2"/>
          <a:stretch/>
        </p:blipFill>
        <p:spPr>
          <a:xfrm>
            <a:off x="-334800" y="3535200"/>
            <a:ext cx="8418240" cy="2725920"/>
          </a:xfrm>
          <a:prstGeom prst="rect">
            <a:avLst/>
          </a:prstGeom>
          <a:ln w="0">
            <a:noFill/>
          </a:ln>
        </p:spPr>
      </p:pic>
      <p:sp>
        <p:nvSpPr>
          <p:cNvPr id="162" name="Date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9AE5-AEEA-4A40-AF82-25B21E31B9B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3338-EFAA-4DDB-95A5-63D5E5471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dnan Ja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A316-5524-4931-9822-54F7081394B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dnan Ja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220F-FF8E-45E2-B6D5-9310725ADAD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FC42-D0F9-4810-95A9-B1F15507E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D:\CONTENT\ch04\0059.jpg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0544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416880" y="533520"/>
            <a:ext cx="83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Gram positive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Gram ne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7379280" y="617076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 4.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D:\0073023469\chapter3\f3-34_gram-negative_cel.jpg"/>
          <p:cNvPicPr/>
          <p:nvPr/>
        </p:nvPicPr>
        <p:blipFill>
          <a:blip r:embed="rId1"/>
          <a:stretch/>
        </p:blipFill>
        <p:spPr>
          <a:xfrm>
            <a:off x="93600" y="0"/>
            <a:ext cx="88711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D613-4605-418C-8406-002745095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D:\CONTENT\ch04\0058.jpg"/>
          <p:cNvPicPr/>
          <p:nvPr/>
        </p:nvPicPr>
        <p:blipFill>
          <a:blip r:embed="rId1"/>
          <a:stretch/>
        </p:blipFill>
        <p:spPr>
          <a:xfrm>
            <a:off x="76320" y="152280"/>
            <a:ext cx="8915400" cy="6686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669960" y="519120"/>
            <a:ext cx="81500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er membrane is made of lipopolysaccha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ins allow molecules to pass through ou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PS is prot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id A- strong inflammator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dotox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-linked polysaccharide- antige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21:33:14Z</dcterms:created>
  <dc:creator>JUST</dc:creator>
  <dc:description/>
  <dc:language>en-US</dc:language>
  <cp:lastModifiedBy>imam</cp:lastModifiedBy>
  <dcterms:modified xsi:type="dcterms:W3CDTF">2011-12-03T20:16:25Z</dcterms:modified>
  <cp:revision>99</cp:revision>
  <dc:subject/>
  <dc:title>Bacterial cell Structure</dc:title>
</cp:coreProperties>
</file>