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9CE-EE11-442C-BD10-57A352C2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E4C-628F-4521-A3E7-4B1FBFBB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EE0-B4FE-48C9-B066-B23DA5D5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62F-7B33-4EBD-A5CC-7B72528A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B020-8DFB-4371-BD61-8175C49D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5F0C-1BF8-47FD-AE9D-9EC9BDDB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E1AA-EC4B-4470-9B0E-00F09EEC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3D5C-5A31-4870-87AC-2172090C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680C-98F7-4AA0-8E08-FB07765C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1B29-1B22-4153-9995-CD0E9D41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69A8-0588-4025-AFD1-17D1D9B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E61-D04B-43DC-B320-E399168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32AD-CA5F-4146-9F11-CCC1A42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FCA5-8C70-4650-947D-2A10EED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6D0D-81E5-4241-B650-7A6C3CBF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4B21-FE16-4650-89DA-42314959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6DD6-80E5-4C95-AAC3-96C121B7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6C8-A0D4-4039-B63B-711B924A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CBE-64D0-40B8-8CF6-FF3B290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B1A-F6CA-4002-A213-FB1355AC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8CE-FA65-44E8-8C20-74B6B02E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F7D-B996-4AFC-9790-1F48F44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D61-1562-4409-826B-E7E1F60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042-F962-44AF-9D71-BB9C4B02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09CB-47D8-4C19-B9DF-F4A076AFA0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F914-DAD0-4964-8425-CF454FE9F5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pter 4 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ompounds and Their Bond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48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81480" y="3475080"/>
            <a:ext cx="2465280" cy="2109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0400" y="5715000"/>
            <a:ext cx="3048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C69-6C55-4B1B-A3D8-AD083696D9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6978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correct formula for each of the following ionic compou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Al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AlC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M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Learning Check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CFB-EF63-467B-8116-4A09019AB4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480" y="1869840"/>
            <a:ext cx="71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2Na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+ S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= 2(1+) + 1(2-)  = 0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A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Al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Al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+ 3Cl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= (3+) + 3(1-)   = 0</a:t>
            </a:r>
            <a:r>
              <a:rPr b="0" lang="en-US" sz="2400" spc="-1" strike="noStrike" baseline="-25000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: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3Mg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+2N</a:t>
            </a:r>
            <a:r>
              <a:rPr b="0" lang="en-US" sz="2400" spc="-1" strike="noStrike" baseline="30000">
                <a:solidFill>
                  <a:srgbClr val="ff6600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= 3(2+) + 2(3-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BBC-7E8E-4133-B4E0-08B7B5D5B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onic compound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positive and negativ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ttractions called 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ion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 positively and negatively charged 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igh melting and boiling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olid at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Ionic Compound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099-0892-4436-A446-267EF7243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alt is An Ionic Compound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024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hloride or “table salt” is an example of an ionic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390760"/>
            <a:ext cx="6019920" cy="362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47920" y="5867280"/>
            <a:ext cx="3047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8D0-45A9-4242-B91C-1942B5468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onic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positively and negatively charged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u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charg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otal positive charge = total negativ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mbol of the metal is written first followed by the symbol of the non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Ionic Formula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323-CC66-4FE4-909C-F72AEA453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rge Balance for NaCl, “Salt”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 atom loses its valence elect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 atom gains an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mbol of the metal is written first followed by the symbol of the non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4857480" cy="2589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0" y="5334120"/>
            <a:ext cx="3048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4D7-5ABF-4121-B2BA-0D582A615A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rge Balance In MgCl</a:t>
            </a:r>
            <a:r>
              <a:rPr b="1" lang="en-US" sz="40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g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g atom loses two valence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 atoms each gain one elect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 indicate the number of ions needed to give charg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14800" y="2068560"/>
            <a:ext cx="4724280" cy="34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648320" y="5791320"/>
            <a:ext cx="3047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927-5E50-44F6-8B1D-642E99E402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Charge Balance in Na</a:t>
            </a:r>
            <a:r>
              <a:rPr b="1" lang="en-US" sz="4000" spc="-1" strike="noStrike" baseline="-25000">
                <a:solidFill>
                  <a:srgbClr val="336699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4876560" cy="271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1676520"/>
            <a:ext cx="74678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Na atoms lose one valence electron 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 atom gains two elec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spcAft>
                <a:spcPts val="15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 show the number of ions needed to give charge ba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6156360"/>
            <a:ext cx="30481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©  2007  by Pearson Education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blishing as Benjamin Cumm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793-086B-48A1-9D49-590BB3D55B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Writing Ionic Formulas from Charge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39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 is used to write the formula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nitride, a compound containing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N</a:t>
            </a:r>
            <a:r>
              <a:rPr b="1" lang="en-US" sz="2400" spc="-1" strike="noStrike" baseline="30000">
                <a:solidFill>
                  <a:srgbClr val="00808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008080"/>
                </a:solidFill>
                <a:latin typeface="Arial"/>
                <a:ea typeface="Arial"/>
              </a:rPr>
              <a:t>−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(+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+ 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1(3-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=      0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2316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E6A-92A7-43EF-AC3C-BF9B33D110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ionic formula of the compound with 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symbols of th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the char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</a:t>
            </a:r>
            <a:r>
              <a:rPr b="1" lang="en-US" sz="2400" spc="-1" strike="noStrike" baseline="30000">
                <a:solidFill>
                  <a:srgbClr val="ff66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two</a:t>
            </a:r>
            <a:r>
              <a:rPr b="0" lang="en-US" sz="2400" spc="-1" strike="noStrike" baseline="30000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339933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e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a50021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ionic formula using a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subscrip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wo chloride ions that give charge bal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a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l</a:t>
            </a:r>
            <a:r>
              <a:rPr b="1" lang="en-US" sz="2400" spc="-1" strike="noStrike" baseline="-25000">
                <a:solidFill>
                  <a:srgbClr val="3399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Times New Roman"/>
              </a:rPr>
              <a:t>Formula from Ionic Charges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DEE-E9EE-4107-A07C-62FD029D1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19:51:51Z</dcterms:created>
  <dc:creator>Timberlake</dc:creator>
  <dc:description/>
  <dc:language>en-US</dc:language>
  <cp:lastModifiedBy> </cp:lastModifiedBy>
  <dcterms:modified xsi:type="dcterms:W3CDTF">2006-06-16T17:49:43Z</dcterms:modified>
  <cp:revision>49</cp:revision>
  <dc:subject/>
  <dc:title>PowerPoint Presentation</dc:title>
</cp:coreProperties>
</file>