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671E-F24F-476B-95DC-BAFA23F3D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9D6B-55C5-421A-A2AF-491531FE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0486-0045-4497-99A0-0099B4EA1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6A29-15A7-46AE-B13A-43A4280D4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D4AB-4B04-4FBB-92A1-6FE7FF269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5612-0CDB-4E08-BFE9-9BDB7E54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81F4-4D43-461A-9734-3D3AAAE7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4D19-E408-475C-96DD-92D54FA2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FB8E-0917-4040-AC80-E2C855F9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0A14-93F0-489F-B5E4-719BDFFF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8D49-522D-4BF7-8FCB-BB66FA08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949F-F1C5-457A-BA98-A86079F4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A20F-7F8E-4B38-98E0-9A9A041E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B433-6DE8-439E-8729-A3C4DB02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4B08-1990-4EE4-A7A6-0A479550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7E89-8ED5-4AC7-BD1C-3E596C5D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B8C2-2FB0-4E53-9BD9-2F85050B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007A-A634-4C2F-BFBB-5FB46A0A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CF6D-BAF3-458C-A578-1453BB48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85FE-CF8B-4770-B845-1BF0A20F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E98F-948D-463C-98CD-1CB635E5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A015-578F-4C18-8649-9F61CE59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386B-7BF9-4117-9DF3-1D955294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E53D-75BF-4B5E-8C41-F3D78B46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5002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CCA8-238B-4CBE-B925-AF15F5E70C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4D4A-54A4-4CC8-A37D-14545EF275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Chapter 4  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Compounds and Their Bonds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248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381480" y="3475080"/>
            <a:ext cx="2465280" cy="2109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00400" y="5715000"/>
            <a:ext cx="304812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 2007  by Pearson Education, In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E316-73AD-42E3-BB71-7958CAE7B3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769788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correct formula for each of the following ionic compou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 N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N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A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 Al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 AlC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 M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 M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M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M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Learning Check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DE14-EF8B-4DA1-AF78-6E1DE42671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480" y="1869840"/>
            <a:ext cx="71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: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2Na</a:t>
            </a:r>
            <a:r>
              <a:rPr b="0" lang="en-US" sz="2400" spc="-1" strike="noStrike" baseline="30000">
                <a:solidFill>
                  <a:srgbClr val="ff66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+ S</a:t>
            </a:r>
            <a:r>
              <a:rPr b="0" lang="en-US" sz="2400" spc="-1" strike="noStrike" baseline="30000">
                <a:solidFill>
                  <a:srgbClr val="ff6600"/>
                </a:solidFill>
                <a:latin typeface="Arial"/>
              </a:rPr>
              <a:t>2-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 = 2(1+) + 1(2-)  = 0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A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 Al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: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Al</a:t>
            </a:r>
            <a:r>
              <a:rPr b="0" lang="en-US" sz="2400" spc="-1" strike="noStrike" baseline="30000">
                <a:solidFill>
                  <a:srgbClr val="ff6600"/>
                </a:solidFill>
                <a:latin typeface="Arial"/>
              </a:rPr>
              <a:t>3+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+ 3Cl</a:t>
            </a:r>
            <a:r>
              <a:rPr b="0" lang="en-US" sz="2400" spc="-1" strike="noStrike" baseline="30000">
                <a:solidFill>
                  <a:srgbClr val="ff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    = (3+) + 3(1-)   = 0</a:t>
            </a:r>
            <a:r>
              <a:rPr b="0" lang="en-US" sz="2400" spc="-1" strike="noStrike" baseline="-25000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 M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M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: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3Mg</a:t>
            </a:r>
            <a:r>
              <a:rPr b="0" lang="en-US" sz="2400" spc="-1" strike="noStrike" baseline="30000">
                <a:solidFill>
                  <a:srgbClr val="ff66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+2N</a:t>
            </a:r>
            <a:r>
              <a:rPr b="0" lang="en-US" sz="2400" spc="-1" strike="noStrike" baseline="30000">
                <a:solidFill>
                  <a:srgbClr val="ff6600"/>
                </a:solidFill>
                <a:latin typeface="Arial"/>
              </a:rPr>
              <a:t>3-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= 3(2+) + 2(3-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Solution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5248-2457-4F81-944D-A0DBDF6925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400" y="17521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Ionic compound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 of positive and negative 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ttractions called </a:t>
            </a: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ionic 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 positively and negatively charged 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high melting and boiling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solid at room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Ionic Compounds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378C-AA82-4CBC-85FB-09CCD96796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Salt is An Ionic Compound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024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dium chloride or “table salt” is an example of an ionic comp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71600" y="2390760"/>
            <a:ext cx="6019920" cy="3629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447920" y="5867280"/>
            <a:ext cx="304776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 2007  by Pearson Education, In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6EEC-D5D3-452B-8FF2-2D6C502355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90720" y="1905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ionic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s of positively and negatively charged 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eut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charge bal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otal positive charge = total negative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00"/>
              </a:spcBef>
              <a:spcAft>
                <a:spcPts val="150"/>
              </a:spcAft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mbol of the metal is written first followed by the symbol of the nonme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Ionic Formulas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CE6B-A225-4C61-A7C1-3F83F6AC6C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Charge Balance for NaCl, “Salt”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3124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a atom loses its valence electr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l atom gains an electr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00"/>
              </a:spcBef>
              <a:spcAft>
                <a:spcPts val="150"/>
              </a:spcAft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mbol of the metal is written first followed by the symbol of the nonme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62520" y="2133720"/>
            <a:ext cx="4857480" cy="2589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572000" y="5334120"/>
            <a:ext cx="304812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 2007  by Pearson Education, In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E0BC-D1D8-4DE5-9F87-1D830E8539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Charge Balance In MgCl</a:t>
            </a:r>
            <a:r>
              <a:rPr b="1" lang="en-US" sz="4000" spc="-1" strike="noStrike" baseline="-25000">
                <a:solidFill>
                  <a:srgbClr val="336699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3124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g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g atom loses two valence electr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l atoms each gain one electr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spcAft>
                <a:spcPts val="150"/>
              </a:spcAft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cripts indicate the number of ions needed to give charge bal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114800" y="2068560"/>
            <a:ext cx="4724280" cy="3457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648320" y="5791320"/>
            <a:ext cx="304776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 2007  by Pearson Education, In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0FE6-DB6F-4E2D-AA7E-B967619389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Charge Balance in Na</a:t>
            </a:r>
            <a:r>
              <a:rPr b="1" lang="en-US" sz="4000" spc="-1" strike="noStrike" baseline="-25000">
                <a:solidFill>
                  <a:srgbClr val="336699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76720" y="3733920"/>
            <a:ext cx="4876560" cy="2719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838080" y="1676520"/>
            <a:ext cx="74678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Na atoms lose one valence electron ea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 atom gains two electr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spcAft>
                <a:spcPts val="150"/>
              </a:spcAft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cripts show the number of ions needed to give charge bal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6156360"/>
            <a:ext cx="304812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 2007  by Pearson Education, In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510D-090D-428B-89AA-F9D74DB1AE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Writing Ionic Formulas from Charges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717560"/>
            <a:ext cx="73915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balance is used to write the formula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dium nitride, a compound containing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Na</a:t>
            </a:r>
            <a:r>
              <a:rPr b="1" lang="en-US" sz="2400" spc="-1" strike="noStrike" baseline="30000">
                <a:solidFill>
                  <a:srgbClr val="ff66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Na</a:t>
            </a:r>
            <a:r>
              <a:rPr b="1" lang="en-US" sz="2400" spc="-1" strike="noStrike" baseline="30000">
                <a:solidFill>
                  <a:srgbClr val="ff6600"/>
                </a:solidFill>
                <a:latin typeface="Arial"/>
              </a:rPr>
              <a:t>+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N</a:t>
            </a:r>
            <a:r>
              <a:rPr b="1" lang="en-US" sz="2400" spc="-1" strike="noStrike" baseline="30000">
                <a:solidFill>
                  <a:srgbClr val="008080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008080"/>
                </a:solidFill>
                <a:latin typeface="Arial"/>
                <a:ea typeface="Arial"/>
              </a:rPr>
              <a:t>−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Na</a:t>
            </a:r>
            <a:r>
              <a:rPr b="1" lang="en-US" sz="2400" spc="-1" strike="noStrike" baseline="-25000">
                <a:solidFill>
                  <a:srgbClr val="ff66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Na</a:t>
            </a:r>
            <a:r>
              <a:rPr b="1" lang="en-US" sz="2400" spc="-1" strike="noStrike" baseline="30000">
                <a:solidFill>
                  <a:srgbClr val="ff66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3(+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+  </a:t>
            </a: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1(3-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=      0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46483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52316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6132-2048-425F-9CF1-D5AC9DF98C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1599840"/>
            <a:ext cx="739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e ionic formula of the compound with B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e symbols of the 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Ba</a:t>
            </a:r>
            <a:r>
              <a:rPr b="1" lang="en-US" sz="2400" spc="-1" strike="noStrike" baseline="30000">
                <a:solidFill>
                  <a:srgbClr val="ff66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Cl</a:t>
            </a:r>
            <a:r>
              <a:rPr b="1" lang="en-US" sz="2400" spc="-1" strike="noStrike" baseline="30000">
                <a:solidFill>
                  <a:srgbClr val="339933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 the charg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Ba</a:t>
            </a:r>
            <a:r>
              <a:rPr b="1" lang="en-US" sz="2400" spc="-1" strike="noStrike" baseline="30000">
                <a:solidFill>
                  <a:srgbClr val="ff66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Cl</a:t>
            </a:r>
            <a:r>
              <a:rPr b="1" lang="en-US" sz="2400" spc="-1" strike="noStrike" baseline="30000">
                <a:solidFill>
                  <a:srgbClr val="339933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400" spc="-1" strike="noStrike">
                <a:solidFill>
                  <a:srgbClr val="339933"/>
                </a:solidFill>
                <a:latin typeface="Arial"/>
              </a:rPr>
              <a:t>two</a:t>
            </a:r>
            <a:r>
              <a:rPr b="0" lang="en-US" sz="2400" spc="-1" strike="noStrike" baseline="30000">
                <a:solidFill>
                  <a:srgbClr val="3399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Cl</a:t>
            </a:r>
            <a:r>
              <a:rPr b="0" lang="en-US" sz="2400" spc="-1" strike="noStrike" baseline="30000">
                <a:solidFill>
                  <a:srgbClr val="339933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ed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Cl</a:t>
            </a:r>
            <a:r>
              <a:rPr b="1" lang="en-US" sz="2400" spc="-1" strike="noStrike" baseline="30000">
                <a:solidFill>
                  <a:srgbClr val="339933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e ionic formula using a </a:t>
            </a:r>
            <a:r>
              <a:rPr b="0" i="1" lang="en-US" sz="2400" spc="-1" strike="noStrike">
                <a:solidFill>
                  <a:srgbClr val="339933"/>
                </a:solidFill>
                <a:latin typeface="Arial"/>
              </a:rPr>
              <a:t>subscript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wo chloride ions that give charge bal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Ba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Cl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Formula from Ionic Charges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55D3-D845-4246-8E12-B8DEE4FE2C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5T19:51:51Z</dcterms:created>
  <dc:creator>Timberlake</dc:creator>
  <dc:description/>
  <dc:language>en-US</dc:language>
  <cp:lastModifiedBy> </cp:lastModifiedBy>
  <dcterms:modified xsi:type="dcterms:W3CDTF">2006-06-16T17:49:43Z</dcterms:modified>
  <cp:revision>49</cp:revision>
  <dc:subject/>
  <dc:title>PowerPoint Presentation</dc:title>
</cp:coreProperties>
</file>