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.gif" ContentType="image/gif"/>
  <Override PartName="/ppt/media/click.wav" ContentType="audio/x-wav"/>
  <Override PartName="/ppt/media/image48.jpeg" ContentType="image/jpeg"/>
  <Override PartName="/ppt/media/image40.png" ContentType="image/png"/>
  <Override PartName="/ppt/media/The_Lion_Sleep_Tonight(mail))).wav" ContentType="audio/x-wav"/>
  <Override PartName="/ppt/media/image45.jpeg" ContentType="image/jpeg"/>
  <Override PartName="/ppt/media/image44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46.jpeg" ContentType="image/jpeg"/>
  <Override PartName="/ppt/media/image30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41.png" ContentType="image/png"/>
  <Override PartName="/ppt/media/image52.jpeg" ContentType="image/jpeg"/>
  <Override PartName="/ppt/media/image29.jpeg" ContentType="image/jpeg"/>
  <Override PartName="/ppt/media/image5.png" ContentType="image/png"/>
  <Override PartName="/ppt/media/image2.gif" ContentType="image/gif"/>
  <Override PartName="/ppt/media/image35.jpeg" ContentType="image/jpeg"/>
  <Override PartName="/ppt/media/image10.png" ContentType="image/png"/>
  <Override PartName="/ppt/media/image27.jpeg" ContentType="image/jpeg"/>
  <Override PartName="/ppt/media/image5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2D8B-77B6-41F2-9BBE-4856F6215585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4773-6CD8-4959-947B-5439814FBAA1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9741-52BF-4EE7-AC27-02FDC5B98A8C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AE4F-E4D3-4FE1-B327-163D9D3B9A90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F4B0-6688-4433-8A90-DBCBF1464AC4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CFF3-CA6B-4642-B606-817DB914C032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2DF2-AEB9-4369-93D8-A6BB0F9141E7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E37D-9A40-4BEF-87BE-40069B93CF91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6210-C965-491E-A09C-00CE010F0F86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2045-5906-4B03-B249-7E6AA39C8391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7DDF-870E-4D12-AA48-3877471F385E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139E-1307-4DB4-94C6-C7FD461ADEA6}" type="slidenum"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82A-5D21-432E-B65E-0A729988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982-4AD8-4605-8666-74EC6280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F05-27A5-4DD5-AC51-854AD58C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540-5DC3-4BD2-8978-26CF1264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5B5C-E790-4613-939D-FAA16BB7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7907-4653-40C1-B03D-DE941A1F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9540-3C7E-44B0-A1E5-FF6B2A70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12C4-5C72-4D83-983E-311B0F3A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8EDE-D1A1-4EF8-A014-B91024E7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42DA-C2E4-4BE6-BB09-D1083D1C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8855-909A-4FDB-B2CE-19BB7B50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0C7-E4D7-4813-93B9-9EAB145D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4B0C-E01A-4E7E-98A0-E899C0A5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6997-7AAE-4643-8901-DDEB5FB0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FB54-8BD9-4727-BD9B-68D0D6B7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1C3B-FB0E-4B53-9E67-D57D7B57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3F1C-E2CD-4EBF-A873-A3AC8FC5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D7D-4D22-4567-B617-5874BAF5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67B-FF82-486E-A94F-B55C7183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A0F-07D9-4B71-B6D8-0C2F59CF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B82-CF7E-4EEF-8DAE-92F2FDB7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9237-3E96-4425-8245-49FE6151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AA4-E9AE-4BC7-AF43-B8A53062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95C-75E1-4C87-86FA-0D769954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BC61-F002-4796-842E-EA6E17C529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9F5D-17DE-4F0B-8602-FB1B4D89D7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32.xml"/><Relationship Id="rId4" Type="http://schemas.openxmlformats.org/officeDocument/2006/relationships/slide" Target="slide43.xml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" Target="slide56.xml"/><Relationship Id="rId8" Type="http://schemas.openxmlformats.org/officeDocument/2006/relationships/image" Target="../media/image3.gif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_Lion_Sleep_Tonight(mail)))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E grapjes (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25092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Garamond"/>
              </a:rPr>
              <a:t>Eskimo f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1258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 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ur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ven de beer losl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95640" y="616572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127" name="">
            <a:hlinkClick r:id="rId7" action="ppaction://hlinksldjump"/>
          </p:cNvPr>
          <p:cNvSpPr/>
          <p:nvPr/>
        </p:nvSpPr>
        <p:spPr>
          <a:xfrm>
            <a:off x="17928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Garamond"/>
              </a:rPr>
              <a:t>Even duw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6877080" y="1484280"/>
            <a:ext cx="1368360" cy="84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067280" y="2347920"/>
            <a:ext cx="1009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076560" y="2347920"/>
            <a:ext cx="2990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076640" y="2347920"/>
            <a:ext cx="990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14800" y="2347920"/>
            <a:ext cx="9144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48240" y="2347920"/>
            <a:ext cx="1847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452760" y="2347920"/>
            <a:ext cx="22384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95520" y="2347920"/>
            <a:ext cx="23529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443400" y="2347920"/>
            <a:ext cx="2257200" cy="216216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113400" y="977760"/>
            <a:ext cx="935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ypewriter-CE-Light"/>
              </a:rPr>
              <a:t>Nu er steeds meer voormalige oostblok-landen toe wensen te treden tot de E.U.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ypewriter-CE-Light"/>
              </a:rPr>
              <a:t>zullen onze woordenboeken enigzins aangepast moeten wo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ypewriter-CE-Light"/>
              </a:rPr>
              <a:t> </a:t>
            </a:r>
            <a:r>
              <a:rPr b="1" lang="en-US" sz="1800" spc="-1" strike="noStrike">
                <a:solidFill>
                  <a:srgbClr val="66ff66"/>
                </a:solidFill>
                <a:latin typeface="Typewriter-CE-Light"/>
              </a:rPr>
              <a:t>omdat enkel bestaande woorden een ruimere betekenis zullen krijg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ypewriter-CE-Light"/>
              </a:rPr>
              <a:t>Enkele voorbeelden zullen zij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ypewriter-CE-Ligh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66840" y="8380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Parkeerbele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22920" y="573408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Afsleepdien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05120" y="2347920"/>
            <a:ext cx="1733760" cy="2162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90920" y="114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ow Eskimos really are fish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515920" y="165744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Snelheidscontro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9200" y="266544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Cartu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3440" y="367344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Motortu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45960" y="217440"/>
            <a:ext cx="25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ypewriter-CE-Light"/>
              </a:rPr>
              <a:t>Kermisatract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18480" y="64008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Interc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3320" y="21744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Veevervo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1440" y="583416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Openbaar toil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36240" y="49687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Luchthav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7760" y="4610160"/>
            <a:ext cx="33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Gemeentereinigings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dien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05080" y="417672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Car-was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05720" y="619272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Watersportrecreat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48120" y="2347920"/>
            <a:ext cx="1247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1000" y="189000"/>
            <a:ext cx="43718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Vervoer Gevaarlijke Stoff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287360" y="7308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ypewriter-CE-Light"/>
              </a:rPr>
              <a:t>Tandartspraktij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"/>
          <p:cNvPicPr/>
          <p:nvPr/>
        </p:nvPicPr>
        <p:blipFill>
          <a:blip r:embed="rId2"/>
          <a:stretch/>
        </p:blipFill>
        <p:spPr>
          <a:xfrm>
            <a:off x="5265720" y="1866960"/>
            <a:ext cx="3122640" cy="3122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971640" y="476280"/>
            <a:ext cx="712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be015"/>
                </a:solidFill>
                <a:latin typeface="Arial"/>
                <a:ea typeface="Arial"/>
              </a:rPr>
              <a:t>2000                                               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195640" y="5661000"/>
            <a:ext cx="475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be015"/>
                </a:solidFill>
                <a:latin typeface="Arial"/>
                <a:ea typeface="Arial"/>
              </a:rPr>
              <a:t>Van BEF naar EUR…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3924360" y="3068640"/>
            <a:ext cx="1152360" cy="719280"/>
          </a:xfrm>
          <a:prstGeom prst="rightArrow">
            <a:avLst>
              <a:gd name="adj1" fmla="val 50000"/>
              <a:gd name="adj2" fmla="val 4005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6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9" descr="bel067_f"/>
          <p:cNvPicPr/>
          <p:nvPr/>
        </p:nvPicPr>
        <p:blipFill>
          <a:blip r:embed="rId3"/>
          <a:stretch/>
        </p:blipFill>
        <p:spPr>
          <a:xfrm>
            <a:off x="250920" y="1773360"/>
            <a:ext cx="3295440" cy="163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bel067_f"/>
          <p:cNvPicPr/>
          <p:nvPr/>
        </p:nvPicPr>
        <p:blipFill>
          <a:blip r:embed="rId4"/>
          <a:stretch/>
        </p:blipFill>
        <p:spPr>
          <a:xfrm>
            <a:off x="539640" y="3141720"/>
            <a:ext cx="32958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18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( 0,46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0,85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8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0" name="Picture 130" descr="Image1"/>
          <p:cNvPicPr/>
          <p:nvPr/>
        </p:nvPicPr>
        <p:blipFill>
          <a:blip r:embed="rId2"/>
          <a:stretch/>
        </p:blipFill>
        <p:spPr>
          <a:xfrm>
            <a:off x="2340000" y="1268280"/>
            <a:ext cx="4048200" cy="2610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31"/>
          <p:cNvSpPr/>
          <p:nvPr/>
        </p:nvSpPr>
        <p:spPr>
          <a:xfrm>
            <a:off x="2556000" y="333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STOKBR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4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( 0,69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1,50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1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 Box 17"/>
          <p:cNvSpPr/>
          <p:nvPr/>
        </p:nvSpPr>
        <p:spPr>
          <a:xfrm>
            <a:off x="2556000" y="333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S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8" descr=""/>
          <p:cNvPicPr/>
          <p:nvPr/>
        </p:nvPicPr>
        <p:blipFill>
          <a:blip r:embed="rId2"/>
          <a:stretch/>
        </p:blipFill>
        <p:spPr>
          <a:xfrm>
            <a:off x="3421080" y="1628640"/>
            <a:ext cx="2301840" cy="19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35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( 0,91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1,50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6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16"/>
          <p:cNvSpPr/>
          <p:nvPr/>
        </p:nvSpPr>
        <p:spPr>
          <a:xfrm>
            <a:off x="2556000" y="333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KOFF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19" descr=""/>
          <p:cNvPicPr/>
          <p:nvPr/>
        </p:nvPicPr>
        <p:blipFill>
          <a:blip r:embed="rId2"/>
          <a:stretch/>
        </p:blipFill>
        <p:spPr>
          <a:xfrm>
            <a:off x="2698920" y="1341360"/>
            <a:ext cx="3746160" cy="28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7200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( 182,92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315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7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16"/>
          <p:cNvSpPr/>
          <p:nvPr/>
        </p:nvSpPr>
        <p:spPr>
          <a:xfrm>
            <a:off x="2556000" y="333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FUEL </a:t>
            </a:r>
            <a:r>
              <a:rPr b="0" lang="fr-FR" sz="1800" spc="-1" strike="noStrike">
                <a:solidFill>
                  <a:srgbClr val="006666"/>
                </a:solidFill>
                <a:latin typeface="Arial"/>
                <a:ea typeface="Arial"/>
              </a:rPr>
              <a:t>( 500 liter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8" descr=""/>
          <p:cNvPicPr/>
          <p:nvPr/>
        </p:nvPicPr>
        <p:blipFill>
          <a:blip r:embed="rId2"/>
          <a:stretch/>
        </p:blipFill>
        <p:spPr>
          <a:xfrm>
            <a:off x="3054240" y="1014480"/>
            <a:ext cx="2425680" cy="32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8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( 0,20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0,56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18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16"/>
          <p:cNvSpPr/>
          <p:nvPr/>
        </p:nvSpPr>
        <p:spPr>
          <a:xfrm>
            <a:off x="2556000" y="333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MELK </a:t>
            </a:r>
            <a:r>
              <a:rPr b="0" lang="fr-FR" sz="1800" spc="-1" strike="noStrike">
                <a:solidFill>
                  <a:srgbClr val="006666"/>
                </a:solidFill>
                <a:latin typeface="Arial"/>
                <a:ea typeface="Arial"/>
              </a:rPr>
              <a:t>( Liter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9" descr=""/>
          <p:cNvPicPr/>
          <p:nvPr/>
        </p:nvPicPr>
        <p:blipFill>
          <a:blip r:embed="rId2"/>
          <a:stretch/>
        </p:blipFill>
        <p:spPr>
          <a:xfrm>
            <a:off x="3757680" y="1133640"/>
            <a:ext cx="1628640" cy="24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9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( 0,23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4,30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177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Text Box 16"/>
          <p:cNvSpPr/>
          <p:nvPr/>
        </p:nvSpPr>
        <p:spPr>
          <a:xfrm>
            <a:off x="1547640" y="33336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AARDAPPELEN</a:t>
            </a:r>
            <a:r>
              <a:rPr b="0" lang="fr-FR" sz="1800" spc="-1" strike="noStrike">
                <a:solidFill>
                  <a:srgbClr val="006666"/>
                </a:solidFill>
                <a:latin typeface="Arial"/>
                <a:ea typeface="Arial"/>
              </a:rPr>
              <a:t>( 5 kg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8" descr=""/>
          <p:cNvPicPr/>
          <p:nvPr/>
        </p:nvPicPr>
        <p:blipFill>
          <a:blip r:embed="rId2"/>
          <a:stretch/>
        </p:blipFill>
        <p:spPr>
          <a:xfrm>
            <a:off x="3195720" y="1484280"/>
            <a:ext cx="2751120" cy="20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59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( 1,50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3,20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11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16"/>
          <p:cNvSpPr/>
          <p:nvPr/>
        </p:nvSpPr>
        <p:spPr>
          <a:xfrm>
            <a:off x="2556000" y="333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J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0" descr=""/>
          <p:cNvPicPr/>
          <p:nvPr/>
        </p:nvPicPr>
        <p:blipFill>
          <a:blip r:embed="rId2"/>
          <a:stretch/>
        </p:blipFill>
        <p:spPr>
          <a:xfrm>
            <a:off x="3757680" y="1359000"/>
            <a:ext cx="1628640" cy="25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28960" y="2347920"/>
            <a:ext cx="14860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30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( 0,76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1,50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9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Text Box 16"/>
          <p:cNvSpPr/>
          <p:nvPr/>
        </p:nvSpPr>
        <p:spPr>
          <a:xfrm>
            <a:off x="1547640" y="33336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K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18" descr=""/>
          <p:cNvPicPr/>
          <p:nvPr/>
        </p:nvPicPr>
        <p:blipFill>
          <a:blip r:embed="rId2"/>
          <a:stretch/>
        </p:blipFill>
        <p:spPr>
          <a:xfrm>
            <a:off x="3605040" y="1773360"/>
            <a:ext cx="1932120" cy="17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755640" y="4483080"/>
          <a:ext cx="7345440" cy="1754280"/>
        </p:xfrm>
        <a:graphic>
          <a:graphicData uri="http://schemas.openxmlformats.org/drawingml/2006/table">
            <a:tbl>
              <a:tblPr/>
              <a:tblGrid>
                <a:gridCol w="3095640"/>
                <a:gridCol w="2641680"/>
                <a:gridCol w="1608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Versch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288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23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frank ( 0,57</a:t>
                      </a: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0,95 </a:t>
                      </a:r>
                      <a:r>
                        <a:rPr b="0" lang="fr-FR" sz="1800" spc="-1" strike="noStrike">
                          <a:solidFill>
                            <a:srgbClr val="66ff66"/>
                          </a:solidFill>
                          <a:latin typeface="Garamond"/>
                        </a:rPr>
                        <a:t>e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+ 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288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Text Box 16"/>
          <p:cNvSpPr/>
          <p:nvPr/>
        </p:nvSpPr>
        <p:spPr>
          <a:xfrm>
            <a:off x="1547640" y="33336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  <a:ea typeface="Arial"/>
              </a:rPr>
              <a:t>BOTER </a:t>
            </a:r>
            <a:r>
              <a:rPr b="0" lang="fr-FR" sz="1800" spc="-1" strike="noStrike">
                <a:solidFill>
                  <a:srgbClr val="006666"/>
                </a:solidFill>
                <a:latin typeface="Arial"/>
                <a:ea typeface="Arial"/>
              </a:rPr>
              <a:t>( 250 g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18" descr=""/>
          <p:cNvPicPr/>
          <p:nvPr/>
        </p:nvPicPr>
        <p:blipFill>
          <a:blip r:embed="rId2"/>
          <a:stretch/>
        </p:blipFill>
        <p:spPr>
          <a:xfrm>
            <a:off x="3108240" y="1268280"/>
            <a:ext cx="292752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684360" y="765000"/>
            <a:ext cx="756108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Times New Roman"/>
                <a:ea typeface="Arial"/>
              </a:rPr>
              <a:t>Spijtig dat er nog steeds mensen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Times New Roman"/>
                <a:ea typeface="Arial"/>
              </a:rPr>
              <a:t>die ons proberen wijs te ma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Times New Roman"/>
                <a:ea typeface="Arial"/>
              </a:rPr>
              <a:t>dat er met de komst van de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NIETS</a:t>
            </a:r>
            <a:r>
              <a:rPr b="1" lang="fr-FR" sz="2400" spc="-1" strike="noStrike">
                <a:solidFill>
                  <a:srgbClr val="66ff66"/>
                </a:solidFill>
                <a:latin typeface="Times New Roman"/>
                <a:ea typeface="Arial"/>
              </a:rPr>
              <a:t> veranderd is!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24000" y="2057400"/>
            <a:ext cx="866772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VEN DE BEER LOSLATE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7924680" y="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495680" y="5791320"/>
            <a:ext cx="4105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PS ROCKY 1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12320" y="4495680"/>
            <a:ext cx="51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00"/>
                </a:solidFill>
                <a:latin typeface="Arial"/>
                <a:ea typeface="Arial"/>
              </a:rPr>
              <a:t>AUTOMA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00"/>
                </a:solidFill>
                <a:latin typeface="Arial"/>
                <a:ea typeface="Arial"/>
              </a:rPr>
              <a:t>MUZIEK: The lion sleeps tonight - The Tok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random/>
    <p:sndAc>
      <p:stSnd>
        <p:snd r:embed="rId2" name="The_Lion_Sleep_Tonight(mail)))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04920" y="2819520"/>
            <a:ext cx="8677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eem jij de foto's,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k geef de beer de vrijheid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7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64674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924680" y="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-3348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167360" y="2347920"/>
            <a:ext cx="8092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295280" y="-34920"/>
            <a:ext cx="6629400" cy="6892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7924680" y="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6934320" cy="68184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924680" y="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924680" y="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85760" y="2454120"/>
            <a:ext cx="87724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e volgende keer neem ik de foto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n kan jij de beer loslate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35280" y="5157720"/>
            <a:ext cx="54957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Groetjes van Rocky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6920" y="1557360"/>
            <a:ext cx="684072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8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       </a:t>
            </a:r>
            <a:r>
              <a:rPr b="0" lang="nl-NL" sz="58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Even</a:t>
            </a:r>
            <a:r>
              <a:rPr b="0" lang="nl-NL" sz="58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 duwen</a:t>
            </a:r>
            <a:br>
              <a:rPr sz="5800"/>
            </a:br>
            <a:endParaRPr b="1" lang="en-US" sz="5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633744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Lig ik vannacht heerlijk te slapen, wordt er om 4 uur flink op de deur gebonkt en aangebeld. </a:t>
            </a: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4299120"/>
            <a:ext cx="799308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Ik schrik me rot en vlieg naar het raam om te kijken wie het is en ja hoor ladderzat staat daar iemand aan de deur te schreeuwen:</a:t>
            </a:r>
            <a:br>
              <a:rPr sz="3900"/>
            </a:b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289440" y="4299120"/>
            <a:ext cx="943308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"Hé, kom me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effe helpen duwen !!"</a:t>
            </a:r>
            <a:br>
              <a:rPr sz="3900"/>
            </a:b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905280" y="2347920"/>
            <a:ext cx="1333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289440" y="3789360"/>
            <a:ext cx="943308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Ik roep terug: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"doe normaal joh,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het is 4 uur s' nachts,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ik ken je niet eens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en jij wilt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dat ik kom duwen,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doeoeiii"</a:t>
            </a: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4299120"/>
            <a:ext cx="820908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nl-NL" sz="35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Terug in bed zegt mijn vrouw: </a:t>
            </a:r>
            <a:br>
              <a:rPr sz="3500"/>
            </a:br>
            <a:r>
              <a:rPr b="1" lang="nl-NL" sz="35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"Doe niet zo overdreven, het is jou toch ook wel eens overkomen dat je met panne stond en toen was je ook blij dat iemand jou hielp met duwen. </a:t>
            </a:r>
            <a:br>
              <a:rPr sz="3500"/>
            </a:br>
            <a:r>
              <a:rPr b="1" lang="nl-NL" sz="35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Kan je die sukkelaar echt niet even helpen?"</a:t>
            </a:r>
            <a:br>
              <a:rPr sz="3500"/>
            </a:br>
            <a:br>
              <a:rPr sz="3900"/>
            </a:br>
            <a:endParaRPr b="1" lang="en-US" sz="35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3860280"/>
            <a:ext cx="82072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"Hoezo", sputter ik tegen: "die vent is ladderzat."</a:t>
            </a:r>
            <a:br>
              <a:rPr sz="3900"/>
            </a:b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Waarop zij zegt: "nou ja, zo ken ik je helemaal niet."</a:t>
            </a: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3789360"/>
            <a:ext cx="806436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Dus ik me maar weer aankleden en naar beneden toe,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doe de voordeur open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en roep: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"Hé kerel ik kom je effe helpen duwen, 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waar zit je!!!! "</a:t>
            </a: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1916280"/>
            <a:ext cx="792000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Hoor ik de dronkaard schreeuwen:</a:t>
            </a: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                        </a:t>
            </a: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"/>
          <p:cNvSpPr/>
          <p:nvPr/>
        </p:nvSpPr>
        <p:spPr>
          <a:xfrm>
            <a:off x="1332000" y="4169160"/>
            <a:ext cx="654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792000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"Hier in de tuin </a:t>
            </a:r>
            <a:br>
              <a:rPr sz="3900"/>
            </a:b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op de </a:t>
            </a:r>
            <a:br>
              <a:rPr sz="3900"/>
            </a:br>
            <a:br>
              <a:rPr sz="3900"/>
            </a:br>
            <a:r>
              <a:rPr b="1" lang="nl-NL" sz="39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                    schommel !!!”                   </a:t>
            </a: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4169160"/>
            <a:ext cx="654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howcard Gothic"/>
                <a:ea typeface="Times New Roman"/>
              </a:rPr>
              <a:t>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7667640" y="6066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033800" y="2347920"/>
            <a:ext cx="10764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057560" y="2347920"/>
            <a:ext cx="1028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038480" y="2347920"/>
            <a:ext cx="10670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01-13T19:42:18Z</dcterms:modified>
  <cp:revision>56</cp:revision>
  <dc:subject/>
  <dc:title>Dia 1</dc:title>
</cp:coreProperties>
</file>