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.gif" ContentType="image/gif"/>
  <Override PartName="/ppt/media/click.wav" ContentType="audio/x-wav"/>
  <Override PartName="/ppt/media/image48.jpeg" ContentType="image/jpeg"/>
  <Override PartName="/ppt/media/image40.png" ContentType="image/png"/>
  <Override PartName="/ppt/media/The_Lion_Sleep_Tonight(mail))).wav" ContentType="audio/x-wav"/>
  <Override PartName="/ppt/media/image45.jpeg" ContentType="image/jpeg"/>
  <Override PartName="/ppt/media/image4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1.png" ContentType="image/png"/>
  <Override PartName="/ppt/media/image52.jpeg" ContentType="image/jpeg"/>
  <Override PartName="/ppt/media/image29.jpeg" ContentType="image/jpeg"/>
  <Override PartName="/ppt/media/image5.png" ContentType="image/png"/>
  <Override PartName="/ppt/media/image2.gif" ContentType="image/gif"/>
  <Override PartName="/ppt/media/image35.jpeg" ContentType="image/jpeg"/>
  <Override PartName="/ppt/media/image10.png" ContentType="image/png"/>
  <Override PartName="/ppt/media/image27.jpeg" ContentType="image/jpeg"/>
  <Override PartName="/ppt/media/image5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D01-9704-481E-AAAD-01E4440080A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D84C-0605-4E17-80E7-78AC825FBBB0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EA5-8064-498C-A863-1485C76A57B3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38D-11D1-427B-81FF-F9E295C17E19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34C-E884-4B29-92A5-2628B21810ED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FE5-7536-40AC-A4D1-A5FFE7B93E19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C45-2AA5-4B30-BA2F-5DC5FA702985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993A-4E03-4F88-9629-BA8D6F10A62D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6DF6-F8FA-4387-BE7F-120E8F8B89A3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3015-B655-4E3E-80D6-07C11463E16A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B2C-2FDD-4EB3-B16F-BE71E9DA79B5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C3C-136E-4B80-993F-75F569FDCE8D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01E-6B15-4348-AC73-B6160B18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B33-EA07-4245-81D5-4019AAC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622-894C-4D5E-B2BA-D882940F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5C2-BD04-41CE-99BA-234E821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14C3-4997-476F-80F2-2F1DEFD9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0588-F2B5-41C7-A834-A1A59CDB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8992-B83C-4950-AB5B-3C9B2650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AB6-9545-44DE-8D93-ED4A3FB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127-4918-4648-A8B9-FDC6DC6D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B4A-A012-4DDE-8D06-D790633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C8CA-BA1B-49B7-A936-61331CD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1D7-847F-4EFA-BDB7-A46E97B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072-E2A9-41B3-A4B6-F7CF5BE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C2CE-087B-4551-BDD7-8DC2EC6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197-4147-4457-A2F6-615EDBB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B247-BFE4-4D43-943D-66ED99FF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EA13-C1B4-4002-A7CE-391BC119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E5-6171-4938-8F96-8741F15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889-E676-4F08-BA75-03928E9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CF3-C0C5-42A2-AE46-3D099625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DF5-188F-4EE3-8762-4518B76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8B7-B165-4D49-8DEC-3D6648B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A3D-DD2F-49AE-B25D-851A6F5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601-491E-4938-9493-E6F0A80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65D4-1061-45F7-AD48-15DAB58B24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4E2-E0BE-42CA-A86F-21E18F491A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2.xml"/><Relationship Id="rId4" Type="http://schemas.openxmlformats.org/officeDocument/2006/relationships/slide" Target="slide43.xml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" Target="slide56.xml"/><Relationship Id="rId8" Type="http://schemas.openxmlformats.org/officeDocument/2006/relationships/image" Target="../media/image3.gif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_Lion_Sleep_Tonight(mail)))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E grapjes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Garamond"/>
              </a:rPr>
              <a:t>Eskimo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ur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ven de beer losl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17928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Garamond"/>
              </a:rPr>
              <a:t>Even duw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877080" y="148428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67280" y="2347920"/>
            <a:ext cx="1009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76560" y="234792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76640" y="2347920"/>
            <a:ext cx="990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2347920"/>
            <a:ext cx="914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48240" y="2347920"/>
            <a:ext cx="1847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52760" y="2347920"/>
            <a:ext cx="2238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95520" y="2347920"/>
            <a:ext cx="2352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43400" y="2347920"/>
            <a:ext cx="2257200" cy="216216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113400" y="977760"/>
            <a:ext cx="935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Nu er steeds meer voormalige oostblok-landen toe wensen te treden tot de E.U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zullen onze woordenboeken enigzins aangepast moeten wo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 </a:t>
            </a: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omdat enkel bestaande woorden een ruimere betekenis zullen kr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Enkele voorbeelden zullen zij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66840" y="8380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Parkeer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22920" y="57340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Afsleepdie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5120" y="2347920"/>
            <a:ext cx="1733760" cy="2162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90920" y="114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Eskimos really are fish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15920" y="16574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Snelheidscontr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9200" y="266544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Cartu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3440" y="367344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Motortu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960" y="21744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ypewriter-CE-Light"/>
              </a:rPr>
              <a:t>Kermisatract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8480" y="6400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Interc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3320" y="21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Veevervo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1440" y="58341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Openbaar toil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36240" y="49687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Luchtha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7760" y="461016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Gemeentereinigings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dien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05080" y="41767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Car-wa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5720" y="619272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Watersportrecreat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48120" y="2347920"/>
            <a:ext cx="12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1000" y="189000"/>
            <a:ext cx="43718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Vervoer Gevaarlijke Stof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87360" y="730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Tandartspraktij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5265720" y="1866960"/>
            <a:ext cx="3122640" cy="3122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971640" y="476280"/>
            <a:ext cx="712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e015"/>
                </a:solidFill>
                <a:latin typeface="Arial"/>
                <a:ea typeface="Arial"/>
              </a:rPr>
              <a:t>2000                                               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195640" y="5661000"/>
            <a:ext cx="475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e015"/>
                </a:solidFill>
                <a:latin typeface="Arial"/>
                <a:ea typeface="Arial"/>
              </a:rPr>
              <a:t>Van BEF naar EUR…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3924360" y="306864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9" descr="bel067_f"/>
          <p:cNvPicPr/>
          <p:nvPr/>
        </p:nvPicPr>
        <p:blipFill>
          <a:blip r:embed="rId3"/>
          <a:stretch/>
        </p:blipFill>
        <p:spPr>
          <a:xfrm>
            <a:off x="250920" y="1773360"/>
            <a:ext cx="3295440" cy="163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bel067_f"/>
          <p:cNvPicPr/>
          <p:nvPr/>
        </p:nvPicPr>
        <p:blipFill>
          <a:blip r:embed="rId4"/>
          <a:stretch/>
        </p:blipFill>
        <p:spPr>
          <a:xfrm>
            <a:off x="539640" y="3141720"/>
            <a:ext cx="3295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8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46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8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8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130" descr="Image1"/>
          <p:cNvPicPr/>
          <p:nvPr/>
        </p:nvPicPr>
        <p:blipFill>
          <a:blip r:embed="rId2"/>
          <a:stretch/>
        </p:blipFill>
        <p:spPr>
          <a:xfrm>
            <a:off x="2340000" y="1268280"/>
            <a:ext cx="4048200" cy="2610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1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STOKBR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4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69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17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S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8" descr=""/>
          <p:cNvPicPr/>
          <p:nvPr/>
        </p:nvPicPr>
        <p:blipFill>
          <a:blip r:embed="rId2"/>
          <a:stretch/>
        </p:blipFill>
        <p:spPr>
          <a:xfrm>
            <a:off x="3421080" y="1628640"/>
            <a:ext cx="230184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91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KOFF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9" descr=""/>
          <p:cNvPicPr/>
          <p:nvPr/>
        </p:nvPicPr>
        <p:blipFill>
          <a:blip r:embed="rId2"/>
          <a:stretch/>
        </p:blipFill>
        <p:spPr>
          <a:xfrm>
            <a:off x="2698920" y="1341360"/>
            <a:ext cx="374616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720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( 182,92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1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FUEL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500 li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8" descr=""/>
          <p:cNvPicPr/>
          <p:nvPr/>
        </p:nvPicPr>
        <p:blipFill>
          <a:blip r:embed="rId2"/>
          <a:stretch/>
        </p:blipFill>
        <p:spPr>
          <a:xfrm>
            <a:off x="3054240" y="1014480"/>
            <a:ext cx="242568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8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20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56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MELK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Li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9" descr=""/>
          <p:cNvPicPr/>
          <p:nvPr/>
        </p:nvPicPr>
        <p:blipFill>
          <a:blip r:embed="rId2"/>
          <a:stretch/>
        </p:blipFill>
        <p:spPr>
          <a:xfrm>
            <a:off x="3757680" y="1133640"/>
            <a:ext cx="162864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9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23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4,3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77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AARDAPPELEN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5 k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8" descr=""/>
          <p:cNvPicPr/>
          <p:nvPr/>
        </p:nvPicPr>
        <p:blipFill>
          <a:blip r:embed="rId2"/>
          <a:stretch/>
        </p:blipFill>
        <p:spPr>
          <a:xfrm>
            <a:off x="3195720" y="1484280"/>
            <a:ext cx="275112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59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1,50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,2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J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0" descr=""/>
          <p:cNvPicPr/>
          <p:nvPr/>
        </p:nvPicPr>
        <p:blipFill>
          <a:blip r:embed="rId2"/>
          <a:stretch/>
        </p:blipFill>
        <p:spPr>
          <a:xfrm>
            <a:off x="3757680" y="1359000"/>
            <a:ext cx="162864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28960" y="2347920"/>
            <a:ext cx="1486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76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9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K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2"/>
          <a:stretch/>
        </p:blipFill>
        <p:spPr>
          <a:xfrm>
            <a:off x="3605040" y="1773360"/>
            <a:ext cx="193212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3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57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9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BOTER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250 g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8" descr=""/>
          <p:cNvPicPr/>
          <p:nvPr/>
        </p:nvPicPr>
        <p:blipFill>
          <a:blip r:embed="rId2"/>
          <a:stretch/>
        </p:blipFill>
        <p:spPr>
          <a:xfrm>
            <a:off x="3108240" y="1268280"/>
            <a:ext cx="292752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684360" y="765000"/>
            <a:ext cx="7561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Spijtig dat er nog steeds mens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die ons proberen wijs te 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dat er met de komst van de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NIETS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 veranderd is!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4000" y="2057400"/>
            <a:ext cx="8667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VEN DE BEER LOSLATE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95680" y="5791320"/>
            <a:ext cx="4105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PS ROCKY 1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2320" y="4495680"/>
            <a:ext cx="51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  <a:ea typeface="Arial"/>
              </a:rPr>
              <a:t>AUTOMA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  <a:ea typeface="Arial"/>
              </a:rPr>
              <a:t>MUZIEK: The lion sleeps tonight - The To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2" name="The_Lion_Sleep_Tonight(mail)))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2819520"/>
            <a:ext cx="8677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em jij de foto's,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k geef de beer de vrijhei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4674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67360" y="2347920"/>
            <a:ext cx="80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295280" y="-34920"/>
            <a:ext cx="6629400" cy="6892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934320" cy="6818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5760" y="2454120"/>
            <a:ext cx="8772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volgende keer neem ik de foto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n kan jij de beer loslate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35280" y="5157720"/>
            <a:ext cx="5495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roetjes van Rocky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68407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     </a:t>
            </a:r>
            <a:r>
              <a:rPr b="0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ven</a:t>
            </a:r>
            <a:r>
              <a:rPr b="0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 duwen</a:t>
            </a:r>
            <a:br>
              <a:rPr sz="5800"/>
            </a:b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33744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Lig ik vannacht heerlijk te slapen, wordt er om 4 uur flink op de deur gebonkt en aangebeld. 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4299120"/>
            <a:ext cx="799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schrik me rot en vlieg naar het raam om te kijken wie het is en ja hoor ladderzat staat daar iemand aan de deur te schreeuwen:</a:t>
            </a: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289440" y="4299120"/>
            <a:ext cx="943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é, kom me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ffe helpen duwen !!"</a:t>
            </a: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05280" y="2347920"/>
            <a:ext cx="1333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289440" y="3789360"/>
            <a:ext cx="943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roep terug: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doe normaal joh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het is 4 uur s' nachts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ken je niet eens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n jij wilt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at ik kom duwen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oeoeiii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4299120"/>
            <a:ext cx="8209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Terug in bed zegt mijn vrouw: </a:t>
            </a:r>
            <a:br>
              <a:rPr sz="35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Doe niet zo overdreven, het is jou toch ook wel eens overkomen dat je met panne stond en toen was je ook blij dat iemand jou hielp met duwen. </a:t>
            </a:r>
            <a:br>
              <a:rPr sz="35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Kan je die sukkelaar echt niet even helpen?"</a:t>
            </a:r>
            <a:br>
              <a:rPr sz="3500"/>
            </a:br>
            <a:br>
              <a:rPr sz="3900"/>
            </a:b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82072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oezo", sputter ik tegen: "die vent is ladderzat."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Waarop zij zegt: "nou ja, zo ken ik je helemaal niet.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3789360"/>
            <a:ext cx="80643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us ik me maar weer aankleden en naar beneden toe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oe de voordeur open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n roep: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é kerel ik kom je effe helpen duwen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waar zit je!!!! 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79200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Hoor ik de dronkaard schreeuwen: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                      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416916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2000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ier in de tuin 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op de 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                    schommel !!!”                   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416916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33800" y="2347920"/>
            <a:ext cx="1076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57560" y="2347920"/>
            <a:ext cx="1028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2347920"/>
            <a:ext cx="10670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1-13T19:42:18Z</dcterms:modified>
  <cp:revision>56</cp:revision>
  <dc:subject/>
  <dc:title>Dia 1</dc:title>
</cp:coreProperties>
</file>