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02040" y="-360"/>
            <a:ext cx="2984400" cy="50148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939960" y="750960"/>
            <a:ext cx="5008320" cy="375768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9516960"/>
            <a:ext cx="2984400" cy="50184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02040" y="9516960"/>
            <a:ext cx="2984400" cy="50184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746D-9947-4101-8F55-9869D49D73F0}"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39960" y="750960"/>
            <a:ext cx="5008320" cy="3757680"/>
          </a:xfrm>
          <a:prstGeom prst="rect">
            <a:avLst/>
          </a:prstGeom>
          <a:ln w="0">
            <a:noFill/>
          </a:ln>
        </p:spPr>
      </p:sp>
      <p:sp>
        <p:nvSpPr>
          <p:cNvPr id="393"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94" name="Slide Number Placeholder 3"/>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C118-4687-4758-BDD7-1F679D8DF9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828F5-99FD-430C-B8DC-AE303C671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0124B-27C9-4E50-A20B-57C2AC712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69D2B-A676-445F-A25B-DB56D9271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62E6D-FCE6-4A49-900E-59DA0C6F8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27A8D-60E3-487E-88CC-A3984A3AC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651CF-2523-4570-A6F3-2110D6C40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3D7A2-6FFA-4D4B-BA9F-37D7DA963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F311E-4243-44AC-B407-21F9A8AB4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77099-0175-46DF-B3EA-F33F3E532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B4EAA-1501-4C5F-9A65-41C2B25ED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E0D83-FE65-482F-B0ED-47F69E430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30665-590F-444F-9D61-BADFC0C11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645E1-C625-40DF-9203-AEB256124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54BB8-C3BE-4203-A9BB-1C3D38B45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18815-9D7C-4253-81C6-0A83133A5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EE015-444C-4752-A520-8C9AF7173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7349D-AD7E-436A-A24F-C1920CD83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3986410-815F-4347-BF06-1874414A9A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44DD57-DE0C-4DFE-895E-0D0AB2CAD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7124CB-45FC-43CD-BD83-6A5B49682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4FC6A4-AFDC-45DF-B35F-9B877F23C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08B315-63E0-4EF3-AD37-4D9BA6A56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0B3AE-F7BF-4E1A-AE5E-CC43E8B66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7C4F0C-989E-4FF2-ACAE-323833B15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5BC3C3-F6AF-447F-8246-5B577A50D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AA818A-AD63-49F7-9458-6A57C7EFC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82F295-C3F5-43CB-9D2F-42A5DC4F7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0E8FDC-EA1C-47FF-A0AE-BB56D05B05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02330CA-A840-4568-973F-BBC5B5F95C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64A21D-2002-4E1D-893B-3D9DC36FB8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1F737F-CA63-4FDC-B981-BDFD19E9A6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16C9987-FB37-4543-86F0-DCCF0B9B24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D234B11-A3FA-4D50-95C8-4EA4DBD2E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2E48-F88A-4F9C-8839-B4935043C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E08B2ED-EDAE-4231-96E5-BB555C1F4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BF444A-0E86-4DA0-9F5D-77FEFCCC72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CB408B4-6347-4885-BD97-8FC5D0DDB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DDD297-A85B-4584-AFC5-9B0303715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DD2368-80CE-4A24-B82A-BB50BB403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E6BF02-ECCE-4152-A2D8-DD3AA3CB0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27B940-DC17-4581-845C-F80A2F4D1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6098CDE-1539-4D01-83E3-528C29EF02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9712E42-C44D-4FF3-B29A-CA9F57869C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0C7744-037A-45A6-B02C-7C7E8FA657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319AC-8DED-4208-8A7A-06113DB47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F69AC26-4748-495C-9312-EA6BF398C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B6CFD9-EEDD-43E6-A087-977821C73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BFA6E9-3805-4255-8D01-1F1974A184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444401-2ADA-43E2-A13A-5966437B0F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FB4426-25A4-4DC0-BBEA-E752A3E04E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96BFC0-1E0F-42D1-8797-6B58DC1062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2C76CD-BFB6-4BE1-A0FA-25B17F275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2DC71A-1080-4179-A93E-1E5289C57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9AC7E7-08FB-48F2-AF3B-2037E26DF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3F67296-02CB-43E5-8C16-7F97699E90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DDEFC-A3B9-4031-9F99-6BBE0BC30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0935B8F-0F80-4FAA-B3C5-28CC47F62B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C94270-EC3D-4873-971D-59934242EF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DD400-F5C9-435A-ABDD-1540A2B159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B158AC-653D-4493-A8F5-E7ABF84124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DC15A8-FE74-4009-AF50-6BE80957DD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37031-7D5F-4B5E-8F5A-8FFBF06A13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70CB29-3F95-4D2D-8786-570217159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02E26-60DD-4A15-894C-1BDDDB7CE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32F4CF-3C51-4891-A8B6-83AC3D6AC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EBCDA-798D-4C87-AB04-4D0A60C9D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0951-98CB-4D87-B215-8623CB60F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64D1D-735C-4B9E-A499-CA023D368E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EB790C-7705-4439-A22A-9D3CCE0961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B5EE7F-9F40-43D1-A577-CA38905553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2C124D2-8CEA-4B60-9040-1C218C0AB1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BA1AE70-B757-47A2-B9C8-8C2C2CA98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B0B9710-E8CC-4EF9-8331-C17DF226B3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CA0CCD5-73D4-4118-B389-D5D2C1DA1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36CED21-351C-44B1-9E02-78CEC3B53E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2FE9AD-5416-45C9-B4E5-04CD95B6AA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C19C82-511F-4B06-9D58-0294681F9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6E60-DEFB-4F2D-818E-75AAB77F4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2C57BD-3A39-4BA0-9841-935D79BDB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234F5D-0CD5-41DA-A9F7-42739889E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08831B6-A2F5-4A9A-99C0-7F1A55609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71E598E-BB66-49EC-A788-4056DDB542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4865012-7984-433A-B0BD-25D7C7B5B9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8BB6BB-AE68-4A8D-880B-499E281520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EAC01-C726-4389-B5C8-ED8E37FA48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C16FE6-102A-49EE-B1EC-58AAF7C732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F9A872-3AEC-4C4D-97CC-38DD7C8F04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AAE780-E7B1-40F6-BE20-23824ECD02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73D8-1804-4023-B2E2-9EBD3B1DB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5D5F3E-8177-4E95-8DBE-D2EB268147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CA5644-3CD4-4F12-8390-5A2AB8366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CC1D9A-EC22-46F6-8AD5-9005A8F4F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74F402-F42F-40A9-AA5D-B77C82B1A4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581B0C-45CA-441B-9C63-0E2A687A54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0E4423-0F0A-4A93-B566-86E8A007E2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471AB7-A770-4E5C-BE00-DBDB4DB70A1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FE50-7F73-4E44-B0DA-56E8017EE00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7164-F683-4996-AD56-4B5CD75D2F34}"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49B4-680F-4EA0-89D3-194A9848ACAC}"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6DB5-9C1B-42A3-A6DB-624519DF722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5FFD-DFAD-4439-A401-6AD032E99AE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2570-DCC3-4152-99C2-7F2AE6099D4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8865-1872-4218-A20E-4229B85B25A7}"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AFD4-6864-446A-B5F3-F2A93F7BB62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071440" y="3214800"/>
            <a:ext cx="6476760" cy="1714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2800"/>
            </a:br>
            <a:br>
              <a:rPr sz="2800"/>
            </a:br>
            <a:br>
              <a:rPr sz="2800"/>
            </a:br>
            <a:br>
              <a:rPr sz="2800"/>
            </a:br>
            <a:br>
              <a:rPr sz="2800"/>
            </a:br>
            <a:br>
              <a:rPr sz="4000"/>
            </a:br>
            <a:br>
              <a:rPr sz="4000"/>
            </a:br>
            <a:br>
              <a:rPr sz="4000"/>
            </a:br>
            <a:r>
              <a:rPr b="1" i="1" lang="en-US" sz="2800" spc="-1" strike="noStrike">
                <a:solidFill>
                  <a:srgbClr val="ebddc3"/>
                </a:solidFill>
                <a:latin typeface="Tw Cen MT"/>
              </a:rPr>
              <a:t>HASIL PENELITIAN </a:t>
            </a:r>
            <a:br>
              <a:rPr sz="2800"/>
            </a:br>
            <a:r>
              <a:rPr b="1" i="1" lang="en-US" sz="2800" spc="-1" strike="noStrike">
                <a:solidFill>
                  <a:srgbClr val="ebddc3"/>
                </a:solidFill>
                <a:latin typeface="Tw Cen MT"/>
              </a:rPr>
              <a:t>HIBAH KOMPETENSI 2014</a:t>
            </a:r>
            <a:br>
              <a:rPr sz="4000"/>
            </a:br>
            <a:r>
              <a:rPr b="0" lang="en-US" sz="2400" spc="-1" strike="noStrike">
                <a:solidFill>
                  <a:srgbClr val="ebddc3"/>
                </a:solidFill>
                <a:latin typeface="Tw Cen MT"/>
              </a:rPr>
              <a:t>PROGRAM MAGISTER KAJIAN WANITA PPS UB</a:t>
            </a:r>
            <a:endParaRPr b="0" lang="en-US" sz="2400" spc="-1" strike="noStrike">
              <a:solidFill>
                <a:srgbClr val="ebddc3"/>
              </a:solidFill>
              <a:latin typeface="Tw Cen MT"/>
            </a:endParaRPr>
          </a:p>
        </p:txBody>
      </p:sp>
      <p:sp>
        <p:nvSpPr>
          <p:cNvPr id="358" name="PlaceHolder 2"/>
          <p:cNvSpPr>
            <a:spLocks noGrp="1"/>
          </p:cNvSpPr>
          <p:nvPr>
            <p:ph type="subTitle"/>
          </p:nvPr>
        </p:nvSpPr>
        <p:spPr>
          <a:xfrm>
            <a:off x="2142720" y="6000480"/>
            <a:ext cx="7000920" cy="857160"/>
          </a:xfrm>
          <a:prstGeom prst="rect">
            <a:avLst/>
          </a:prstGeom>
          <a:noFill/>
          <a:ln w="0">
            <a:noFill/>
          </a:ln>
        </p:spPr>
        <p:txBody>
          <a:bodyPr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rof.Dr.Ir.Keppi Sukesi,MS. </a:t>
            </a:r>
            <a:endParaRPr b="0" lang="en-US" sz="2400" spc="-1" strike="noStrike">
              <a:solidFill>
                <a:srgbClr val="ffffff"/>
              </a:solidFill>
              <a:latin typeface="Tw Cen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                  Henny Rosalinda,SIP,MA.    </a:t>
            </a:r>
            <a:endParaRPr b="0" lang="en-US" sz="2400" spc="-1" strike="noStrike">
              <a:solidFill>
                <a:srgbClr val="ffffff"/>
              </a:solidFill>
              <a:latin typeface="Tw Cen MT"/>
            </a:endParaRPr>
          </a:p>
        </p:txBody>
      </p:sp>
      <p:pic>
        <p:nvPicPr>
          <p:cNvPr id="359" name="Picture 2" descr=""/>
          <p:cNvPicPr/>
          <p:nvPr/>
        </p:nvPicPr>
        <p:blipFill>
          <a:blip r:embed="rId1"/>
          <a:stretch/>
        </p:blipFill>
        <p:spPr>
          <a:xfrm>
            <a:off x="357120" y="4071960"/>
            <a:ext cx="1281240" cy="1509840"/>
          </a:xfrm>
          <a:prstGeom prst="rect">
            <a:avLst/>
          </a:prstGeom>
          <a:ln w="0">
            <a:noFill/>
          </a:ln>
        </p:spPr>
      </p:pic>
      <p:sp>
        <p:nvSpPr>
          <p:cNvPr id="360" name="Rectangle 1"/>
          <p:cNvSpPr/>
          <p:nvPr/>
        </p:nvSpPr>
        <p:spPr>
          <a:xfrm>
            <a:off x="0" y="270360"/>
            <a:ext cx="9144000" cy="35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rPr>
              <a:t> </a:t>
            </a:r>
            <a:r>
              <a:rPr b="1" lang="en-US" sz="3200" spc="-1" strike="noStrike">
                <a:solidFill>
                  <a:srgbClr val="000000"/>
                </a:solidFill>
                <a:latin typeface="Tw Cen MT"/>
              </a:rPr>
              <a:t>PENGUATAN KAPASITAS STAKEHOLDER  UNTUK  PENINGKATAN PROFESIONALITAS PEREMPUAN BURUH MIGRAN INDONESIA (BMI)  DI DAERAH PENGIRIMAN HONG KONG DALAM MENGHADAPI </a:t>
            </a:r>
            <a:r>
              <a:rPr b="1" lang="en-US" sz="3200" spc="-1" strike="noStrike">
                <a:solidFill>
                  <a:srgbClr val="ff0000"/>
                </a:solidFill>
                <a:latin typeface="Tw Cen MT"/>
              </a:rPr>
              <a:t>MORATORIUM TENAGA KERJA  DOMESTIK 2017</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sil Penelitian</a:t>
            </a:r>
            <a:endParaRPr b="0" lang="en-US" sz="44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ambaran Umum Lokasi Penelitian : Kab Malang dan  Tulungagung, Desa Tawang Rejeni dan Junjung</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alisis Kebijakan/Perundangan Perempuan BMI</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ratorium Pengiriman TKI ke LN</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spon Masyarakat terhadap Moratorium TKW LN</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dentifikasi Kelembagaan Pengirim dan Penerima TKW LN</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raft Model Pemberdayaan BMI Profesional</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raft Model Pemberdayaan  BMI Purna</a:t>
            </a: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Terima Kasih </a:t>
            </a:r>
            <a:r>
              <a:rPr b="0" lang="en-US" sz="4400" spc="-1" strike="noStrike">
                <a:solidFill>
                  <a:srgbClr val="775f55"/>
                </a:solidFill>
                <a:latin typeface="Wingdings"/>
                <a:ea typeface="Wingdings"/>
              </a:rPr>
              <a:t></a:t>
            </a:r>
            <a:r>
              <a:rPr b="0" lang="en-US" sz="4400" spc="-1" strike="noStrike">
                <a:solidFill>
                  <a:srgbClr val="775f55"/>
                </a:solidFill>
                <a:latin typeface="Tw Cen MT"/>
              </a:rPr>
              <a:t> </a:t>
            </a:r>
            <a:endParaRPr b="0" lang="en-US" sz="4400" spc="-1" strike="noStrike">
              <a:solidFill>
                <a:srgbClr val="775f55"/>
              </a:solidFill>
              <a:latin typeface="Tw Cen MT"/>
            </a:endParaRPr>
          </a:p>
        </p:txBody>
      </p:sp>
      <p:pic>
        <p:nvPicPr>
          <p:cNvPr id="387" name="Picture 5" descr="lola-dan-tkw1.jpg"/>
          <p:cNvPicPr/>
          <p:nvPr/>
        </p:nvPicPr>
        <p:blipFill>
          <a:blip r:embed="rId1"/>
          <a:stretch/>
        </p:blipFill>
        <p:spPr>
          <a:xfrm>
            <a:off x="3286080" y="1500120"/>
            <a:ext cx="2714760" cy="4929120"/>
          </a:xfrm>
          <a:prstGeom prst="rect">
            <a:avLst/>
          </a:prstGeom>
          <a:ln w="0">
            <a:noFill/>
          </a:ln>
        </p:spPr>
      </p:pic>
      <p:pic>
        <p:nvPicPr>
          <p:cNvPr id="388" name="Picture 6" descr="tki baru pulang.jpg"/>
          <p:cNvPicPr/>
          <p:nvPr/>
        </p:nvPicPr>
        <p:blipFill>
          <a:blip r:embed="rId2"/>
          <a:stretch/>
        </p:blipFill>
        <p:spPr>
          <a:xfrm>
            <a:off x="247680" y="1544760"/>
            <a:ext cx="3071880" cy="2000160"/>
          </a:xfrm>
          <a:prstGeom prst="rect">
            <a:avLst/>
          </a:prstGeom>
          <a:ln w="0">
            <a:noFill/>
          </a:ln>
        </p:spPr>
      </p:pic>
      <p:pic>
        <p:nvPicPr>
          <p:cNvPr id="389" name="Picture 7" descr="tki rame banget.jpg"/>
          <p:cNvPicPr/>
          <p:nvPr/>
        </p:nvPicPr>
        <p:blipFill>
          <a:blip r:embed="rId3"/>
          <a:stretch/>
        </p:blipFill>
        <p:spPr>
          <a:xfrm>
            <a:off x="247680" y="3544920"/>
            <a:ext cx="3071880" cy="2786040"/>
          </a:xfrm>
          <a:prstGeom prst="rect">
            <a:avLst/>
          </a:prstGeom>
          <a:ln w="0">
            <a:noFill/>
          </a:ln>
        </p:spPr>
      </p:pic>
      <p:pic>
        <p:nvPicPr>
          <p:cNvPr id="390" name="Picture 8" descr="tki-dikirim.jpg"/>
          <p:cNvPicPr/>
          <p:nvPr/>
        </p:nvPicPr>
        <p:blipFill>
          <a:blip r:embed="rId4"/>
          <a:stretch/>
        </p:blipFill>
        <p:spPr>
          <a:xfrm>
            <a:off x="5970600" y="1500120"/>
            <a:ext cx="2959200" cy="2357640"/>
          </a:xfrm>
          <a:prstGeom prst="rect">
            <a:avLst/>
          </a:prstGeom>
          <a:ln w="0">
            <a:noFill/>
          </a:ln>
        </p:spPr>
      </p:pic>
      <p:pic>
        <p:nvPicPr>
          <p:cNvPr id="391" name="Content Placeholder 10" descr="kartini-sang-legenda1.jpg"/>
          <p:cNvPicPr/>
          <p:nvPr/>
        </p:nvPicPr>
        <p:blipFill>
          <a:blip r:embed="rId5"/>
          <a:stretch/>
        </p:blipFill>
        <p:spPr>
          <a:xfrm>
            <a:off x="5970600" y="3857760"/>
            <a:ext cx="3000240" cy="2571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Pendahuluan</a:t>
            </a:r>
            <a:endParaRPr b="0" lang="en-US" sz="4400" spc="-1" strike="noStrike">
              <a:solidFill>
                <a:srgbClr val="775f55"/>
              </a:solidFill>
              <a:latin typeface="Tw Cen MT"/>
            </a:endParaRPr>
          </a:p>
        </p:txBody>
      </p:sp>
      <p:sp>
        <p:nvSpPr>
          <p:cNvPr id="362" name="PlaceHolder 2"/>
          <p:cNvSpPr>
            <a:spLocks noGrp="1"/>
          </p:cNvSpPr>
          <p:nvPr>
            <p:ph/>
          </p:nvPr>
        </p:nvSpPr>
        <p:spPr>
          <a:xfrm>
            <a:off x="612720" y="1714320"/>
            <a:ext cx="8153280" cy="4857480"/>
          </a:xfrm>
          <a:prstGeom prst="rect">
            <a:avLst/>
          </a:prstGeom>
          <a:noFill/>
          <a:ln w="0">
            <a:noFill/>
          </a:ln>
        </p:spPr>
        <p:txBody>
          <a:bodyPr anchor="t">
            <a:normAutofit/>
          </a:bodyPr>
          <a:p>
            <a:pPr marL="341280" indent="-3412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Hong Kong adalah negara tujuan mayoritas BMI</a:t>
            </a:r>
            <a:r>
              <a:rPr b="0" lang="id-ID" sz="2900" spc="-1" strike="noStrike">
                <a:solidFill>
                  <a:srgbClr val="000000"/>
                </a:solidFill>
                <a:latin typeface="Arial"/>
                <a:ea typeface="Arial"/>
              </a:rPr>
              <a:t> dari Jawa Timur</a:t>
            </a:r>
            <a:r>
              <a:rPr b="0" lang="en-US" sz="2900" spc="-1" strike="noStrike">
                <a:solidFill>
                  <a:srgbClr val="000000"/>
                </a:solidFill>
                <a:latin typeface="Arial"/>
                <a:ea typeface="Arial"/>
              </a:rPr>
              <a:t>  </a:t>
            </a:r>
            <a:endParaRPr b="0" lang="en-US" sz="2900" spc="-1" strike="noStrike">
              <a:solidFill>
                <a:srgbClr val="000000"/>
              </a:solidFill>
              <a:latin typeface="Tw Cen MT"/>
            </a:endParaRPr>
          </a:p>
          <a:p>
            <a:pPr marL="341280" indent="-3412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Penelitian Wijaya dan Sukesi (2012) menunjukkan banyaknya masalah BMI di Hong Kong, sangat kurangnya perlindungan BMI, profesional dianggap lebih rendah dari BM Philipina, dll.</a:t>
            </a:r>
            <a:endParaRPr b="0" lang="en-US" sz="2900" spc="-1" strike="noStrike">
              <a:solidFill>
                <a:srgbClr val="000000"/>
              </a:solidFill>
              <a:latin typeface="Tw Cen MT"/>
            </a:endParaRPr>
          </a:p>
          <a:p>
            <a:pPr marL="341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Rectangle 4"/>
          <p:cNvSpPr/>
          <p:nvPr/>
        </p:nvSpPr>
        <p:spPr>
          <a:xfrm>
            <a:off x="1440" y="2438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5"/>
          <p:cNvSpPr/>
          <p:nvPr/>
        </p:nvSpPr>
        <p:spPr>
          <a:xfrm>
            <a:off x="1960560" y="2438280"/>
            <a:ext cx="522432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2" descr=""/>
          <p:cNvPicPr/>
          <p:nvPr/>
        </p:nvPicPr>
        <p:blipFill>
          <a:blip r:embed="rId1"/>
          <a:stretch/>
        </p:blipFill>
        <p:spPr>
          <a:xfrm>
            <a:off x="8077320" y="0"/>
            <a:ext cx="1066680" cy="1257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71680" y="2142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Pendahuluan</a:t>
            </a:r>
            <a:endParaRPr b="0" lang="en-US" sz="4400" spc="-1" strike="noStrike">
              <a:solidFill>
                <a:srgbClr val="775f55"/>
              </a:solidFill>
              <a:latin typeface="Tw Cen MT"/>
            </a:endParaRPr>
          </a:p>
        </p:txBody>
      </p:sp>
      <p:sp>
        <p:nvSpPr>
          <p:cNvPr id="367" name=""/>
          <p:cNvSpPr txBox="1"/>
          <p:nvPr/>
        </p:nvSpPr>
        <p:spPr>
          <a:xfrm>
            <a:off x="571680" y="1928880"/>
            <a:ext cx="8153280" cy="4286160"/>
          </a:xfrm>
          <a:prstGeom prst="rect">
            <a:avLst/>
          </a:prstGeom>
          <a:noFill/>
          <a:ln w="0">
            <a:noFill/>
          </a:ln>
        </p:spPr>
        <p:txBody>
          <a:bodyPr anchor="t">
            <a:normAutofit/>
          </a:bodyPr>
          <a:p>
            <a:pPr marL="54000" indent="-5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Dalam konteks hukum, perlu penegakan  INPRES no 6 thn 2006, tentang perlindungan hukum bagi BMI di dalam maupun di luar negeri sebagai tindak lanjut implementasi UU no 39 thn. 2004.</a:t>
            </a:r>
            <a:endParaRPr b="0" lang="en-US" sz="2900" spc="-1" strike="noStrike">
              <a:solidFill>
                <a:srgbClr val="000000"/>
              </a:solidFill>
              <a:latin typeface="Tw Cen MT"/>
            </a:endParaRPr>
          </a:p>
          <a:p>
            <a:pPr marL="54000" indent="-5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 </a:t>
            </a:r>
            <a:r>
              <a:rPr b="0" lang="en-US" sz="2900" spc="-1" strike="noStrike">
                <a:solidFill>
                  <a:srgbClr val="000000"/>
                </a:solidFill>
                <a:latin typeface="Arial"/>
                <a:ea typeface="Arial"/>
              </a:rPr>
              <a:t>Moratorium, 2017 adalah suatu ancaman</a:t>
            </a:r>
            <a:endParaRPr b="0" lang="en-US" sz="2900" spc="-1" strike="noStrike">
              <a:solidFill>
                <a:srgbClr val="000000"/>
              </a:solidFill>
              <a:latin typeface="Tw Cen MT"/>
            </a:endParaRPr>
          </a:p>
          <a:p>
            <a:pPr marL="54000" indent="-5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Diperlukan law study dari tingkat Nasional, Provinsi, Kabupaten dan Kota </a:t>
            </a:r>
            <a:endParaRPr b="0" lang="en-US" sz="2900" spc="-1" strike="noStrike">
              <a:solidFill>
                <a:srgbClr val="000000"/>
              </a:solidFill>
              <a:latin typeface="Tw Cen MT"/>
            </a:endParaRPr>
          </a:p>
        </p:txBody>
      </p:sp>
      <p:pic>
        <p:nvPicPr>
          <p:cNvPr id="368" name="Picture 2" descr=""/>
          <p:cNvPicPr/>
          <p:nvPr/>
        </p:nvPicPr>
        <p:blipFill>
          <a:blip r:embed="rId1"/>
          <a:stretch/>
        </p:blipFill>
        <p:spPr>
          <a:xfrm>
            <a:off x="8077320" y="0"/>
            <a:ext cx="1066680" cy="12574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w Cen MT"/>
              </a:rPr>
              <a:t>Rumusan Masalah</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900" spc="-1" strike="noStrike">
                <a:solidFill>
                  <a:srgbClr val="000000"/>
                </a:solidFill>
                <a:latin typeface="Tw Cen MT"/>
              </a:rPr>
              <a:t>Kebijakan pemerintah Indonesia dan pemerintah Hong Kong terkait  pemberangkatan, proses penyiapan dan  perlindungan, penempatan dan purna migrasi baik secara regulatori dan distributip yang  dicanangkan oleh Pemerintah Indonesia  belum menjangkau dan belum mengantisipasi moratorium 2017.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umusan Masalah</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900" spc="-1" strike="noStrike">
                <a:solidFill>
                  <a:srgbClr val="000000"/>
                </a:solidFill>
                <a:latin typeface="Tw Cen MT"/>
              </a:rPr>
              <a:t>Kapasitas kelembagaan pengirim perempuan BMI belum professional  sehingga belum berkemampuan mempersiapkan tenaga trampil sesuai </a:t>
            </a:r>
            <a:r>
              <a:rPr b="0" lang="id-ID" sz="2900" spc="-1" strike="noStrike">
                <a:solidFill>
                  <a:srgbClr val="ff0000"/>
                </a:solidFill>
                <a:latin typeface="Tw Cen MT"/>
              </a:rPr>
              <a:t>standard kebutuhan Negara penerima. </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perlukan m</a:t>
            </a:r>
            <a:r>
              <a:rPr b="0" lang="id-ID" sz="2900" spc="-1" strike="noStrike">
                <a:solidFill>
                  <a:srgbClr val="000000"/>
                </a:solidFill>
                <a:latin typeface="Tw Cen MT"/>
              </a:rPr>
              <a:t>odel rekayasa perlindungan BMI di Hong Kong</a:t>
            </a:r>
            <a:r>
              <a:rPr b="0" lang="en-US" sz="2900" spc="-1" strike="noStrike">
                <a:solidFill>
                  <a:srgbClr val="000000"/>
                </a:solidFill>
                <a:latin typeface="Tw Cen MT"/>
              </a:rPr>
              <a:t>, </a:t>
            </a:r>
            <a:r>
              <a:rPr b="0" lang="id-ID" sz="2900" spc="-1" strike="noStrike">
                <a:solidFill>
                  <a:srgbClr val="000000"/>
                </a:solidFill>
                <a:latin typeface="Tw Cen MT"/>
              </a:rPr>
              <a:t>sesuai kebutuhan tenaga trampil, dan bagi BMI purna </a:t>
            </a:r>
            <a:r>
              <a:rPr b="0" lang="id-ID" sz="2900" spc="-1" strike="noStrike">
                <a:solidFill>
                  <a:srgbClr val="ff0000"/>
                </a:solidFill>
                <a:latin typeface="Tw Cen MT"/>
              </a:rPr>
              <a:t>belum  ada kesiapan pengelolaan dan pemberdayaannya. </a:t>
            </a:r>
            <a:endParaRPr b="0" lang="en-US" sz="29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w Cen MT"/>
              </a:rPr>
              <a:t>Tujuan Khusus</a:t>
            </a:r>
            <a:endParaRPr b="0" lang="en-US" sz="4400" spc="-1" strike="noStrike">
              <a:solidFill>
                <a:srgbClr val="775f55"/>
              </a:solidFill>
              <a:latin typeface="Tw Cen MT"/>
            </a:endParaRPr>
          </a:p>
        </p:txBody>
      </p:sp>
      <p:sp>
        <p:nvSpPr>
          <p:cNvPr id="374" name=""/>
          <p:cNvSpPr txBox="1"/>
          <p:nvPr/>
        </p:nvSpPr>
        <p:spPr>
          <a:xfrm>
            <a:off x="571680" y="1642680"/>
            <a:ext cx="8153280" cy="4786200"/>
          </a:xfrm>
          <a:prstGeom prst="rect">
            <a:avLst/>
          </a:prstGeom>
          <a:noFill/>
          <a:ln w="0">
            <a:noFill/>
          </a:ln>
        </p:spPr>
        <p:txBody>
          <a:bodyPr anchor="t">
            <a:normAutofit/>
          </a:bodyPr>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Tw Cen MT"/>
              </a:rPr>
              <a:t>Menganalisis kebijakan di tingkat nasional sampai daerah dalam penyiapan Calon BMI, pengiriman dan  penempatan perempuan BMI di Hong Kong  dan implementasinya menghadapi moratorium tahun 2017, </a:t>
            </a: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Tw Cen MT"/>
              </a:rPr>
              <a:t>Merumuskan strategi penguatan kapasitas kelembagaan stakeholder sesuai kebutuhan BMI perempuan  sebagai pekerja professional dan Hong Kong sebagai Negara penerima mengahadapi moratorium tahun 2017; </a:t>
            </a: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Tw Cen MT"/>
              </a:rPr>
              <a:t>Merumuskan model pemberdayaan dan penyiapan perempuan BMI pasca moratorium 2017 baik yang masih akan bekerja di luar negeri maupun yang bekerja di dalam negeri </a:t>
            </a:r>
            <a:endParaRPr b="0" lang="en-US" sz="2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375" name="Picture 2" descr=""/>
          <p:cNvPicPr/>
          <p:nvPr/>
        </p:nvPicPr>
        <p:blipFill>
          <a:blip r:embed="rId1"/>
          <a:stretch/>
        </p:blipFill>
        <p:spPr>
          <a:xfrm>
            <a:off x="8077320" y="0"/>
            <a:ext cx="1066680" cy="12574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w Cen MT"/>
              </a:rPr>
              <a:t>Road Map Penelitian</a:t>
            </a:r>
            <a:endParaRPr b="0" lang="en-US" sz="4400" spc="-1" strike="noStrike">
              <a:solidFill>
                <a:srgbClr val="775f55"/>
              </a:solidFill>
              <a:latin typeface="Tw Cen MT"/>
            </a:endParaRPr>
          </a:p>
        </p:txBody>
      </p:sp>
      <p:graphicFrame>
        <p:nvGraphicFramePr>
          <p:cNvPr id="377" name="Object 2"/>
          <p:cNvGraphicFramePr/>
          <p:nvPr/>
        </p:nvGraphicFramePr>
        <p:xfrm>
          <a:off x="785880" y="1643040"/>
          <a:ext cx="7572240" cy="4797360"/>
        </p:xfrm>
        <a:graphic>
          <a:graphicData uri="http://schemas.openxmlformats.org/presentationml/2006/ole">
            <p:oleObj r:id="rId1" spid="">
              <p:embed/>
              <p:pic>
                <p:nvPicPr>
                  <p:cNvPr id="378" name="Object 2" descr=""/>
                  <p:cNvPicPr/>
                  <p:nvPr/>
                </p:nvPicPr>
                <p:blipFill>
                  <a:blip r:embed="rId2"/>
                  <a:stretch/>
                </p:blipFill>
                <p:spPr>
                  <a:xfrm>
                    <a:off x="785880" y="1643040"/>
                    <a:ext cx="7572240" cy="479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Tw Cen MT"/>
              </a:rPr>
              <a:t>Metoda Penelitian</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tode yang digunakan : Metode Penelitian Berperspektif Gender, dengan pendekatan :</a:t>
            </a: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cipatory action research</a:t>
            </a: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rientasi pada kebijakan Nasional</a:t>
            </a: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nded</a:t>
            </a: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ottom up</a:t>
            </a: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neliti dan yang diteliti berkedudukan setara</a:t>
            </a: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ngalaman pribadi</a:t>
            </a:r>
            <a:endParaRPr b="0" lang="en-US" sz="2900" spc="-1" strike="noStrike">
              <a:solidFill>
                <a:srgbClr val="000000"/>
              </a:solidFill>
              <a:latin typeface="Tw Cen MT"/>
            </a:endParaRPr>
          </a:p>
          <a:p>
            <a:pPr marL="306000" indent="-306000">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olektif dalam jejaring</a:t>
            </a:r>
            <a:endParaRPr b="0" lang="en-US" sz="2900" spc="-1" strike="noStrike">
              <a:solidFill>
                <a:srgbClr val="000000"/>
              </a:solidFill>
              <a:latin typeface="Tw Cen MT"/>
            </a:endParaRPr>
          </a:p>
        </p:txBody>
      </p:sp>
      <p:pic>
        <p:nvPicPr>
          <p:cNvPr id="381" name="Picture 2" descr=""/>
          <p:cNvPicPr/>
          <p:nvPr/>
        </p:nvPicPr>
        <p:blipFill>
          <a:blip r:embed="rId1"/>
          <a:stretch/>
        </p:blipFill>
        <p:spPr>
          <a:xfrm>
            <a:off x="8077320" y="0"/>
            <a:ext cx="1066680" cy="12574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kasi dan Pentahapan Penelitian</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hap I, Tahun ke I</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kasi Kab Malang dan Tulungagung, Jati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dentifikasi Stakehold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i Perundanga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aseline studi terhadap Calon BMI, BMI Purna, Keluarga BMI, Stakeholder di Hong Ko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i Kelembagaa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22:01:05Z</dcterms:created>
  <dc:creator>Henny Rosalinda</dc:creator>
  <dc:description/>
  <dc:language>en-US</dc:language>
  <cp:lastModifiedBy>USER</cp:lastModifiedBy>
  <dcterms:modified xsi:type="dcterms:W3CDTF">2015-04-30T02:11:26Z</dcterms:modified>
  <cp:revision>129</cp:revision>
  <dc:subject/>
  <dc:title>Presentation 3</dc:title>
</cp:coreProperties>
</file>