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907588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86800" cy="967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822240" y="725040"/>
            <a:ext cx="5243760" cy="363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0" y="91911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902040" y="91911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6EDE-7819-4385-88E3-AF65738BB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902040" y="9191520"/>
            <a:ext cx="2984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9337-8398-4B7E-913D-388E1BCE0F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822240" y="725400"/>
            <a:ext cx="5243760" cy="36306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902040" y="9191520"/>
            <a:ext cx="2984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F43B-94C0-4BA0-B005-BD74409759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822240" y="725400"/>
            <a:ext cx="5243760" cy="36306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902040" y="9191520"/>
            <a:ext cx="2984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539C-E586-4D45-9CCD-F11D7887DA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822240" y="725400"/>
            <a:ext cx="5243760" cy="36306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902040" y="9191520"/>
            <a:ext cx="2984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6545-8C03-4842-AAC1-28B157266B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822240" y="725400"/>
            <a:ext cx="5243760" cy="36306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902040" y="9191520"/>
            <a:ext cx="2984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3021-330C-44B7-800F-5BCC684F64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822240" y="725400"/>
            <a:ext cx="5243760" cy="36306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902040" y="9191520"/>
            <a:ext cx="2984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A0E1-88DF-4C97-B2F4-B7A0F2C3D6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822240" y="725400"/>
            <a:ext cx="5243760" cy="36306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06BB-5114-445D-8B04-BCDF3E6E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5000" y="394848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2C78-65B0-4CFA-ACB5-98AE6761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0634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66DE-2795-4F0F-9C73-5E34449CC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9500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0964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52428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EC9A-75D6-43F8-B65D-3F58C99F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E2BE-7280-4085-96BB-4182DC37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6391-106C-4664-8D50-C9F8EAB2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AD28-29AB-46A1-92F9-2B5FD5D4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0CB8-BF87-4233-A7B4-94E87D2A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241B-3341-4745-9AA8-AA78C81A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9E7C-AAE8-4C91-BC8D-B2C2702D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F03B-AC3D-4C8D-A465-2FAB2A54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BEDB-0F26-4177-8AD0-2CC572AB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0634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14BB-825B-4542-915B-08AC0DA6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1FE0-8CAC-4C7E-B0D0-7269FA60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5000" y="394848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12D3-3892-4B52-B9CF-EA8189BA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0634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D93E-A8A1-467D-8BD7-365DC3457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500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0964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52428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8242-42DA-4AD5-AE91-476CF9E0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E3D5-4C58-4F5B-BBFA-2F5B7147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9461-20D4-41B7-AEF8-3BD6ED38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72B8-C604-473E-94F5-AE3F07B8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DB15-18D0-4E2D-AADC-B5657465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DA27-24D2-48D7-91C4-B16DB002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634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BE01-00F5-4E4A-B64F-AAF5FF74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DE19-6AD3-407A-9319-7C82D984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905760" cy="4046760"/>
            <a:chOff x="0" y="2438280"/>
            <a:chExt cx="990576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647520" y="4114440"/>
              <a:ext cx="528336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62240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776560" y="2438280"/>
              <a:ext cx="412920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521400" y="2438280"/>
              <a:ext cx="338436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189480" y="3932280"/>
              <a:ext cx="31968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498720" y="3798720"/>
              <a:ext cx="31824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602040" y="2914560"/>
              <a:ext cx="90792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321600" y="3198960"/>
              <a:ext cx="12402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775120" y="3000240"/>
              <a:ext cx="412740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602040" y="2943360"/>
              <a:ext cx="99216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9161280" y="2606760"/>
              <a:ext cx="828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602040" y="2743200"/>
              <a:ext cx="123120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938560" y="3605040"/>
              <a:ext cx="54648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46256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68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0CF5-98B6-4115-A0BB-027AEE068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905760" cy="4046760"/>
            <a:chOff x="0" y="2438280"/>
            <a:chExt cx="990576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647520" y="4114440"/>
              <a:ext cx="528336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62240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776560" y="2438280"/>
              <a:ext cx="412920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521400" y="2438280"/>
              <a:ext cx="338436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6189480" y="3932280"/>
              <a:ext cx="31968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6498720" y="3798720"/>
              <a:ext cx="31824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602040" y="2914560"/>
              <a:ext cx="90792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321600" y="3198960"/>
              <a:ext cx="12402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775120" y="3000240"/>
              <a:ext cx="412740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602040" y="2943360"/>
              <a:ext cx="99216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9161280" y="2606760"/>
              <a:ext cx="828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602040" y="2743200"/>
              <a:ext cx="123120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938560" y="3605040"/>
              <a:ext cx="54648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46256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68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CCD7-408A-4078-88B5-181C9F6E0F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2"/>
          <p:cNvSpPr/>
          <p:nvPr/>
        </p:nvSpPr>
        <p:spPr>
          <a:xfrm>
            <a:off x="8039160" y="6553080"/>
            <a:ext cx="1866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900" spc="-1" strike="noStrike">
                <a:solidFill>
                  <a:srgbClr val="ffff00"/>
                </a:solidFill>
                <a:latin typeface="Garamond"/>
              </a:rPr>
              <a:t>LPPOM MUI JAWA TENGAH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fld id="{49361089-0B9F-49E5-AD11-9C6CFA06249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2590920"/>
            <a:ext cx="8420040" cy="1218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99"/>
                </a:solidFill>
                <a:latin typeface="Garamond"/>
              </a:rPr>
              <a:t>MAJELIS ULAMA INDONESIA PROPINSI JAWA TENGAH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MBAGA PENGKAJIAN PANGAN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BAT-OBATAN DAN KOSMETIKA ( LPPOM 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4" descr="logo-mui"/>
          <p:cNvPicPr/>
          <p:nvPr/>
        </p:nvPicPr>
        <p:blipFill>
          <a:blip r:embed="rId1"/>
          <a:stretch/>
        </p:blipFill>
        <p:spPr>
          <a:xfrm>
            <a:off x="577800" y="457200"/>
            <a:ext cx="1568520" cy="1447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sh15"/>
          <p:cNvPicPr/>
          <p:nvPr/>
        </p:nvPicPr>
        <p:blipFill>
          <a:blip r:embed="rId2"/>
          <a:stretch/>
        </p:blipFill>
        <p:spPr>
          <a:xfrm>
            <a:off x="7759800" y="304920"/>
            <a:ext cx="1650960" cy="15238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7759800" y="1828800"/>
            <a:ext cx="165096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P PO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048120" y="8380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Garamond"/>
                <a:cs typeface="Arial"/>
              </a:rPr>
              <a:t>بسم الله الرحمن الرحيم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380880" y="5486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ODOJ REGIONAL SEMARA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7000"/>
                            </p:stCondLst>
                            <p:childTnLst>
                              <p:par>
                                <p:cTn id="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3"/>
          <p:cNvSpPr/>
          <p:nvPr/>
        </p:nvSpPr>
        <p:spPr>
          <a:xfrm>
            <a:off x="1127160" y="501480"/>
            <a:ext cx="8874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risan Bakso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2508120" y="498600"/>
            <a:ext cx="8874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nnet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7264440" y="501480"/>
            <a:ext cx="8874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osis (Casing)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127160" y="960480"/>
            <a:ext cx="887400" cy="31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PARU-PARU</a:t>
            </a: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2508120" y="960480"/>
            <a:ext cx="887400" cy="31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ENZI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7264440" y="960480"/>
            <a:ext cx="887400" cy="31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USUS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1455840" y="1374840"/>
            <a:ext cx="8874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Sistein/Sistin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Sikat Gigi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Kuas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Jaket Bulu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2638440" y="1684440"/>
            <a:ext cx="888840" cy="31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BULU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4414680" y="1477800"/>
            <a:ext cx="887400" cy="30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JERO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6189840" y="1684440"/>
            <a:ext cx="888840" cy="31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KIKIL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2627280" y="2614680"/>
            <a:ext cx="887400" cy="31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KULI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1455840" y="2408400"/>
            <a:ext cx="88740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Kollagen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Disamak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Krecek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Rambak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GELATIN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239760" y="1995480"/>
            <a:ext cx="88740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Jaket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Tas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Sepatu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Dompet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6189840" y="2614680"/>
            <a:ext cx="888840" cy="51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DAGIN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( PORK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736040" y="1305000"/>
            <a:ext cx="8874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Sop Kikil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Rambak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GELATIN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5796000" y="2155680"/>
            <a:ext cx="18748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Konsumen Babi (</a:t>
            </a: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Non Musli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7850160" y="2057400"/>
            <a:ext cx="19731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icampur dengan daging sapi di pasar- pasar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umah Makan (</a:t>
            </a: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Non Musli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akso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acon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am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sta Hati unggas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sam Amino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2409840" y="3235320"/>
            <a:ext cx="1117440" cy="31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DARA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6189840" y="3235320"/>
            <a:ext cx="888840" cy="51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LEMAK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(Lard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4414680" y="4270320"/>
            <a:ext cx="887400" cy="30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TULAN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3"/>
          <p:cNvSpPr/>
          <p:nvPr/>
        </p:nvSpPr>
        <p:spPr>
          <a:xfrm>
            <a:off x="4414680" y="4788000"/>
            <a:ext cx="887400" cy="30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GELATI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24"/>
          <p:cNvSpPr/>
          <p:nvPr/>
        </p:nvSpPr>
        <p:spPr>
          <a:xfrm>
            <a:off x="7724880" y="3506760"/>
            <a:ext cx="148104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ampuran Sosis/Susu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hortening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enyedap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inyak Babi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25"/>
          <p:cNvSpPr/>
          <p:nvPr/>
        </p:nvSpPr>
        <p:spPr>
          <a:xfrm>
            <a:off x="8991720" y="4484520"/>
            <a:ext cx="10843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encampur Vegetable Oil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orengan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ak Pia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ak Moy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ak Mie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ak …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26"/>
          <p:cNvSpPr/>
          <p:nvPr/>
        </p:nvSpPr>
        <p:spPr>
          <a:xfrm>
            <a:off x="2946240" y="3778200"/>
            <a:ext cx="887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unia Medis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Banyak)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Text Box 27"/>
          <p:cNvSpPr/>
          <p:nvPr/>
        </p:nvSpPr>
        <p:spPr>
          <a:xfrm>
            <a:off x="2646360" y="4167360"/>
            <a:ext cx="88740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osfor (P)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Text Box 28"/>
          <p:cNvSpPr/>
          <p:nvPr/>
        </p:nvSpPr>
        <p:spPr>
          <a:xfrm>
            <a:off x="2638440" y="4788000"/>
            <a:ext cx="8888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mulsifier 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29"/>
          <p:cNvSpPr/>
          <p:nvPr/>
        </p:nvSpPr>
        <p:spPr>
          <a:xfrm>
            <a:off x="2638440" y="5097600"/>
            <a:ext cx="8888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ermen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30"/>
          <p:cNvSpPr/>
          <p:nvPr/>
        </p:nvSpPr>
        <p:spPr>
          <a:xfrm>
            <a:off x="4282920" y="5408640"/>
            <a:ext cx="11844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Kapsul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31"/>
          <p:cNvSpPr/>
          <p:nvPr/>
        </p:nvSpPr>
        <p:spPr>
          <a:xfrm>
            <a:off x="6189840" y="5097600"/>
            <a:ext cx="8888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elembut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Text Box 32"/>
          <p:cNvSpPr/>
          <p:nvPr/>
        </p:nvSpPr>
        <p:spPr>
          <a:xfrm>
            <a:off x="6189840" y="4788000"/>
            <a:ext cx="8888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abilizer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Text Box 33"/>
          <p:cNvSpPr/>
          <p:nvPr/>
        </p:nvSpPr>
        <p:spPr>
          <a:xfrm>
            <a:off x="6197760" y="4476600"/>
            <a:ext cx="8874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alsium (Ca)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34"/>
          <p:cNvSpPr/>
          <p:nvPr/>
        </p:nvSpPr>
        <p:spPr>
          <a:xfrm>
            <a:off x="6207120" y="4167360"/>
            <a:ext cx="88740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Karbon Aktif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35"/>
          <p:cNvSpPr/>
          <p:nvPr/>
        </p:nvSpPr>
        <p:spPr>
          <a:xfrm>
            <a:off x="2146320" y="5738760"/>
            <a:ext cx="51292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BI &amp; PRODUK  TURUNANNYA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Text Box 36"/>
          <p:cNvSpPr/>
          <p:nvPr/>
        </p:nvSpPr>
        <p:spPr>
          <a:xfrm>
            <a:off x="568440" y="5975280"/>
            <a:ext cx="89773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TUK MENJAGA KESELAMATAN DARI MAKANAN HARAM “SERTIFIKAT HALAL” DARI LPPOM MUI PUSAT/DAERAH SANGAT PENTING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Dengan Sertifikasi Halal, bahan-bahan yang tidak halal/diragukan, diganti dengan bahan-bahan yang Halal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Line 37"/>
          <p:cNvSpPr/>
          <p:nvPr/>
        </p:nvSpPr>
        <p:spPr>
          <a:xfrm flipH="1" flipV="1">
            <a:off x="4863600" y="1787400"/>
            <a:ext cx="11160" cy="51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Line 38"/>
          <p:cNvSpPr/>
          <p:nvPr/>
        </p:nvSpPr>
        <p:spPr>
          <a:xfrm flipH="1" flipV="1">
            <a:off x="3044520" y="1996560"/>
            <a:ext cx="1041480" cy="51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Line 39"/>
          <p:cNvSpPr/>
          <p:nvPr/>
        </p:nvSpPr>
        <p:spPr>
          <a:xfrm flipV="1">
            <a:off x="5762520" y="1995120"/>
            <a:ext cx="690840" cy="41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Line 40"/>
          <p:cNvSpPr/>
          <p:nvPr/>
        </p:nvSpPr>
        <p:spPr>
          <a:xfrm flipH="1" flipV="1">
            <a:off x="3511080" y="2771640"/>
            <a:ext cx="574920" cy="15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Line 41"/>
          <p:cNvSpPr/>
          <p:nvPr/>
        </p:nvSpPr>
        <p:spPr>
          <a:xfrm flipH="1">
            <a:off x="3501720" y="3235320"/>
            <a:ext cx="584280" cy="1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Line 42"/>
          <p:cNvSpPr/>
          <p:nvPr/>
        </p:nvSpPr>
        <p:spPr>
          <a:xfrm>
            <a:off x="5762520" y="2925720"/>
            <a:ext cx="393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Line 43"/>
          <p:cNvSpPr/>
          <p:nvPr/>
        </p:nvSpPr>
        <p:spPr>
          <a:xfrm>
            <a:off x="5762520" y="3132000"/>
            <a:ext cx="435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Line 44"/>
          <p:cNvSpPr/>
          <p:nvPr/>
        </p:nvSpPr>
        <p:spPr>
          <a:xfrm flipH="1" flipV="1">
            <a:off x="2239560" y="1534680"/>
            <a:ext cx="398520" cy="26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Line 45"/>
          <p:cNvSpPr/>
          <p:nvPr/>
        </p:nvSpPr>
        <p:spPr>
          <a:xfrm flipH="1" flipV="1">
            <a:off x="2115720" y="1736280"/>
            <a:ext cx="522360" cy="7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Line 46"/>
          <p:cNvSpPr/>
          <p:nvPr/>
        </p:nvSpPr>
        <p:spPr>
          <a:xfrm flipH="1">
            <a:off x="1941480" y="1822320"/>
            <a:ext cx="696960" cy="7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Line 47"/>
          <p:cNvSpPr/>
          <p:nvPr/>
        </p:nvSpPr>
        <p:spPr>
          <a:xfrm>
            <a:off x="4875120" y="457992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Line 48"/>
          <p:cNvSpPr/>
          <p:nvPr/>
        </p:nvSpPr>
        <p:spPr>
          <a:xfrm>
            <a:off x="4875120" y="5097600"/>
            <a:ext cx="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Line 49"/>
          <p:cNvSpPr/>
          <p:nvPr/>
        </p:nvSpPr>
        <p:spPr>
          <a:xfrm flipH="1">
            <a:off x="3427560" y="4948200"/>
            <a:ext cx="987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Line 50"/>
          <p:cNvSpPr/>
          <p:nvPr/>
        </p:nvSpPr>
        <p:spPr>
          <a:xfrm flipH="1">
            <a:off x="3395160" y="4948200"/>
            <a:ext cx="101916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Line 51"/>
          <p:cNvSpPr/>
          <p:nvPr/>
        </p:nvSpPr>
        <p:spPr>
          <a:xfrm>
            <a:off x="5302080" y="4948200"/>
            <a:ext cx="98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Line 52"/>
          <p:cNvSpPr/>
          <p:nvPr/>
        </p:nvSpPr>
        <p:spPr>
          <a:xfrm>
            <a:off x="5302080" y="4951440"/>
            <a:ext cx="954360" cy="24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Line 53"/>
          <p:cNvSpPr/>
          <p:nvPr/>
        </p:nvSpPr>
        <p:spPr>
          <a:xfrm flipV="1">
            <a:off x="7085160" y="1458720"/>
            <a:ext cx="741240" cy="37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Line 54"/>
          <p:cNvSpPr/>
          <p:nvPr/>
        </p:nvSpPr>
        <p:spPr>
          <a:xfrm flipV="1">
            <a:off x="7062840" y="1630440"/>
            <a:ext cx="73188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Line 55"/>
          <p:cNvSpPr/>
          <p:nvPr/>
        </p:nvSpPr>
        <p:spPr>
          <a:xfrm flipV="1">
            <a:off x="7074000" y="1817640"/>
            <a:ext cx="701640" cy="2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Line 56"/>
          <p:cNvSpPr/>
          <p:nvPr/>
        </p:nvSpPr>
        <p:spPr>
          <a:xfrm flipV="1">
            <a:off x="6585120" y="2408040"/>
            <a:ext cx="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Line 57"/>
          <p:cNvSpPr/>
          <p:nvPr/>
        </p:nvSpPr>
        <p:spPr>
          <a:xfrm>
            <a:off x="7089840" y="3522600"/>
            <a:ext cx="577800" cy="19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Line 58"/>
          <p:cNvSpPr/>
          <p:nvPr/>
        </p:nvSpPr>
        <p:spPr>
          <a:xfrm>
            <a:off x="7062840" y="3519360"/>
            <a:ext cx="60480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Line 59"/>
          <p:cNvSpPr/>
          <p:nvPr/>
        </p:nvSpPr>
        <p:spPr>
          <a:xfrm>
            <a:off x="7066080" y="3522600"/>
            <a:ext cx="644400" cy="58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Line 60"/>
          <p:cNvSpPr/>
          <p:nvPr/>
        </p:nvSpPr>
        <p:spPr>
          <a:xfrm>
            <a:off x="8515440" y="4121280"/>
            <a:ext cx="39996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Line 61"/>
          <p:cNvSpPr/>
          <p:nvPr/>
        </p:nvSpPr>
        <p:spPr>
          <a:xfrm>
            <a:off x="8515440" y="4121280"/>
            <a:ext cx="42228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Line 62"/>
          <p:cNvSpPr/>
          <p:nvPr/>
        </p:nvSpPr>
        <p:spPr>
          <a:xfrm>
            <a:off x="8515440" y="4121280"/>
            <a:ext cx="42840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Line 63"/>
          <p:cNvSpPr/>
          <p:nvPr/>
        </p:nvSpPr>
        <p:spPr>
          <a:xfrm>
            <a:off x="8515440" y="4121280"/>
            <a:ext cx="41436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Line 64"/>
          <p:cNvSpPr/>
          <p:nvPr/>
        </p:nvSpPr>
        <p:spPr>
          <a:xfrm>
            <a:off x="8515440" y="4121280"/>
            <a:ext cx="393480" cy="132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Line 65"/>
          <p:cNvSpPr/>
          <p:nvPr/>
        </p:nvSpPr>
        <p:spPr>
          <a:xfrm flipH="1" flipV="1">
            <a:off x="1994040" y="2566800"/>
            <a:ext cx="637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Line 66"/>
          <p:cNvSpPr/>
          <p:nvPr/>
        </p:nvSpPr>
        <p:spPr>
          <a:xfrm flipH="1">
            <a:off x="2075040" y="2728800"/>
            <a:ext cx="590400" cy="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Line 67"/>
          <p:cNvSpPr/>
          <p:nvPr/>
        </p:nvSpPr>
        <p:spPr>
          <a:xfrm flipH="1">
            <a:off x="1999800" y="2719440"/>
            <a:ext cx="638280" cy="24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Line 68"/>
          <p:cNvSpPr/>
          <p:nvPr/>
        </p:nvSpPr>
        <p:spPr>
          <a:xfrm flipH="1">
            <a:off x="2034720" y="2738520"/>
            <a:ext cx="598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Line 69"/>
          <p:cNvSpPr/>
          <p:nvPr/>
        </p:nvSpPr>
        <p:spPr>
          <a:xfrm flipH="1" flipV="1">
            <a:off x="676440" y="2168280"/>
            <a:ext cx="863280" cy="58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Line 70"/>
          <p:cNvSpPr/>
          <p:nvPr/>
        </p:nvSpPr>
        <p:spPr>
          <a:xfrm flipH="1" flipV="1">
            <a:off x="725400" y="2547720"/>
            <a:ext cx="75744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Line 71"/>
          <p:cNvSpPr/>
          <p:nvPr/>
        </p:nvSpPr>
        <p:spPr>
          <a:xfrm flipH="1" flipV="1">
            <a:off x="618840" y="2333160"/>
            <a:ext cx="86364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Line 72"/>
          <p:cNvSpPr/>
          <p:nvPr/>
        </p:nvSpPr>
        <p:spPr>
          <a:xfrm flipH="1" flipV="1">
            <a:off x="816120" y="2720520"/>
            <a:ext cx="706320" cy="1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73"/>
          <p:cNvSpPr/>
          <p:nvPr/>
        </p:nvSpPr>
        <p:spPr>
          <a:xfrm>
            <a:off x="2638440" y="4476600"/>
            <a:ext cx="8888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Kuah Bakmi 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Line 74"/>
          <p:cNvSpPr/>
          <p:nvPr/>
        </p:nvSpPr>
        <p:spPr>
          <a:xfrm>
            <a:off x="4875120" y="3753000"/>
            <a:ext cx="0" cy="51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Text Box 75"/>
          <p:cNvSpPr/>
          <p:nvPr/>
        </p:nvSpPr>
        <p:spPr>
          <a:xfrm>
            <a:off x="6256440" y="960480"/>
            <a:ext cx="887400" cy="31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PANKREAS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Line 76"/>
          <p:cNvSpPr/>
          <p:nvPr/>
        </p:nvSpPr>
        <p:spPr>
          <a:xfrm flipH="1" flipV="1">
            <a:off x="2036520" y="1247400"/>
            <a:ext cx="238428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Line 77"/>
          <p:cNvSpPr/>
          <p:nvPr/>
        </p:nvSpPr>
        <p:spPr>
          <a:xfrm flipH="1" flipV="1">
            <a:off x="3255840" y="1285560"/>
            <a:ext cx="1619280" cy="19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Line 78"/>
          <p:cNvSpPr/>
          <p:nvPr/>
        </p:nvSpPr>
        <p:spPr>
          <a:xfrm flipV="1">
            <a:off x="4875120" y="1147320"/>
            <a:ext cx="138456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Line 79"/>
          <p:cNvSpPr/>
          <p:nvPr/>
        </p:nvSpPr>
        <p:spPr>
          <a:xfrm flipV="1">
            <a:off x="5316480" y="1274760"/>
            <a:ext cx="201636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Line 80"/>
          <p:cNvSpPr/>
          <p:nvPr/>
        </p:nvSpPr>
        <p:spPr>
          <a:xfrm>
            <a:off x="8327880" y="1839960"/>
            <a:ext cx="49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81"/>
          <p:cNvSpPr/>
          <p:nvPr/>
        </p:nvSpPr>
        <p:spPr>
          <a:xfrm>
            <a:off x="8682120" y="1693800"/>
            <a:ext cx="11253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ihat Ke Bawah!!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Line 82"/>
          <p:cNvSpPr/>
          <p:nvPr/>
        </p:nvSpPr>
        <p:spPr>
          <a:xfrm>
            <a:off x="8426520" y="3753000"/>
            <a:ext cx="592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Text Box 83"/>
          <p:cNvSpPr/>
          <p:nvPr/>
        </p:nvSpPr>
        <p:spPr>
          <a:xfrm>
            <a:off x="65160" y="3132000"/>
            <a:ext cx="11271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ihat Ke Bawah !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Line 84"/>
          <p:cNvSpPr/>
          <p:nvPr/>
        </p:nvSpPr>
        <p:spPr>
          <a:xfrm flipH="1">
            <a:off x="1101600" y="3305160"/>
            <a:ext cx="3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Line 85"/>
          <p:cNvSpPr/>
          <p:nvPr/>
        </p:nvSpPr>
        <p:spPr>
          <a:xfrm flipV="1">
            <a:off x="7045200" y="2082600"/>
            <a:ext cx="74160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Line 86"/>
          <p:cNvSpPr/>
          <p:nvPr/>
        </p:nvSpPr>
        <p:spPr>
          <a:xfrm flipV="1">
            <a:off x="7045200" y="2415960"/>
            <a:ext cx="730440" cy="50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Line 87"/>
          <p:cNvSpPr/>
          <p:nvPr/>
        </p:nvSpPr>
        <p:spPr>
          <a:xfrm flipV="1">
            <a:off x="7045200" y="2611080"/>
            <a:ext cx="719280" cy="31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Line 88"/>
          <p:cNvSpPr/>
          <p:nvPr/>
        </p:nvSpPr>
        <p:spPr>
          <a:xfrm flipV="1">
            <a:off x="7045200" y="2784600"/>
            <a:ext cx="696960" cy="14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Line 89"/>
          <p:cNvSpPr/>
          <p:nvPr/>
        </p:nvSpPr>
        <p:spPr>
          <a:xfrm>
            <a:off x="7045200" y="2925720"/>
            <a:ext cx="719280" cy="4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Text Box 90"/>
          <p:cNvSpPr/>
          <p:nvPr/>
        </p:nvSpPr>
        <p:spPr>
          <a:xfrm>
            <a:off x="9080640" y="3666960"/>
            <a:ext cx="8874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Roti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Biskuit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Flavor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Line 91"/>
          <p:cNvSpPr/>
          <p:nvPr/>
        </p:nvSpPr>
        <p:spPr>
          <a:xfrm>
            <a:off x="8434440" y="3753000"/>
            <a:ext cx="584280" cy="1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Line 92"/>
          <p:cNvSpPr/>
          <p:nvPr/>
        </p:nvSpPr>
        <p:spPr>
          <a:xfrm>
            <a:off x="8426520" y="3753000"/>
            <a:ext cx="59220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Text Box 93"/>
          <p:cNvSpPr/>
          <p:nvPr/>
        </p:nvSpPr>
        <p:spPr>
          <a:xfrm>
            <a:off x="7342200" y="4834080"/>
            <a:ext cx="88740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Juice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Syrup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Margarine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Text Box 94"/>
          <p:cNvSpPr/>
          <p:nvPr/>
        </p:nvSpPr>
        <p:spPr>
          <a:xfrm>
            <a:off x="1630440" y="4579920"/>
            <a:ext cx="8874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Yoghurt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Es Krim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Mentega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Line 95"/>
          <p:cNvSpPr/>
          <p:nvPr/>
        </p:nvSpPr>
        <p:spPr>
          <a:xfrm flipH="1" flipV="1">
            <a:off x="2236320" y="4768920"/>
            <a:ext cx="46836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Line 96"/>
          <p:cNvSpPr/>
          <p:nvPr/>
        </p:nvSpPr>
        <p:spPr>
          <a:xfrm flipH="1" flipV="1">
            <a:off x="2250720" y="4928760"/>
            <a:ext cx="45396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Line 97"/>
          <p:cNvSpPr/>
          <p:nvPr/>
        </p:nvSpPr>
        <p:spPr>
          <a:xfrm flipH="1">
            <a:off x="2244240" y="4929120"/>
            <a:ext cx="4971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Text Box 98"/>
          <p:cNvSpPr/>
          <p:nvPr/>
        </p:nvSpPr>
        <p:spPr>
          <a:xfrm>
            <a:off x="2604960" y="5408640"/>
            <a:ext cx="8892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arsmallow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Text Box 99"/>
          <p:cNvSpPr/>
          <p:nvPr/>
        </p:nvSpPr>
        <p:spPr>
          <a:xfrm>
            <a:off x="5367240" y="5464080"/>
            <a:ext cx="8892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elly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Text Box 100"/>
          <p:cNvSpPr/>
          <p:nvPr/>
        </p:nvSpPr>
        <p:spPr>
          <a:xfrm>
            <a:off x="3494160" y="5456160"/>
            <a:ext cx="8874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am/Selai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Text Box 101"/>
          <p:cNvSpPr/>
          <p:nvPr/>
        </p:nvSpPr>
        <p:spPr>
          <a:xfrm>
            <a:off x="6156360" y="5408640"/>
            <a:ext cx="8888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udding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Text Box 102"/>
          <p:cNvSpPr/>
          <p:nvPr/>
        </p:nvSpPr>
        <p:spPr>
          <a:xfrm>
            <a:off x="6207120" y="3865680"/>
            <a:ext cx="8874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Kuah Bakso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Line 103"/>
          <p:cNvSpPr/>
          <p:nvPr/>
        </p:nvSpPr>
        <p:spPr>
          <a:xfrm flipH="1">
            <a:off x="3398760" y="4468680"/>
            <a:ext cx="992160" cy="18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Line 104"/>
          <p:cNvSpPr/>
          <p:nvPr/>
        </p:nvSpPr>
        <p:spPr>
          <a:xfrm flipV="1">
            <a:off x="5302080" y="4324320"/>
            <a:ext cx="1006560" cy="10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Line 105"/>
          <p:cNvSpPr/>
          <p:nvPr/>
        </p:nvSpPr>
        <p:spPr>
          <a:xfrm>
            <a:off x="5286240" y="4416480"/>
            <a:ext cx="99540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Text Box 106"/>
          <p:cNvSpPr/>
          <p:nvPr/>
        </p:nvSpPr>
        <p:spPr>
          <a:xfrm>
            <a:off x="7300800" y="4167360"/>
            <a:ext cx="102708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Susu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Minuman Lain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Pasta Gigi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Line 107"/>
          <p:cNvSpPr/>
          <p:nvPr/>
        </p:nvSpPr>
        <p:spPr>
          <a:xfrm flipV="1">
            <a:off x="7012080" y="4335120"/>
            <a:ext cx="358560" cy="31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Line 108"/>
          <p:cNvSpPr/>
          <p:nvPr/>
        </p:nvSpPr>
        <p:spPr>
          <a:xfrm flipV="1">
            <a:off x="7020000" y="4478400"/>
            <a:ext cx="35856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Line 109"/>
          <p:cNvSpPr/>
          <p:nvPr/>
        </p:nvSpPr>
        <p:spPr>
          <a:xfrm>
            <a:off x="7020000" y="4667400"/>
            <a:ext cx="363600" cy="2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Line 110"/>
          <p:cNvSpPr/>
          <p:nvPr/>
        </p:nvSpPr>
        <p:spPr>
          <a:xfrm>
            <a:off x="6996240" y="4968720"/>
            <a:ext cx="46008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Line 111"/>
          <p:cNvSpPr/>
          <p:nvPr/>
        </p:nvSpPr>
        <p:spPr>
          <a:xfrm>
            <a:off x="6996240" y="4976640"/>
            <a:ext cx="474480" cy="21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Line 112"/>
          <p:cNvSpPr/>
          <p:nvPr/>
        </p:nvSpPr>
        <p:spPr>
          <a:xfrm>
            <a:off x="6996240" y="4968720"/>
            <a:ext cx="415800" cy="41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Line 113"/>
          <p:cNvSpPr/>
          <p:nvPr/>
        </p:nvSpPr>
        <p:spPr>
          <a:xfrm flipV="1">
            <a:off x="5278320" y="4019040"/>
            <a:ext cx="986040" cy="4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Line 114"/>
          <p:cNvSpPr/>
          <p:nvPr/>
        </p:nvSpPr>
        <p:spPr>
          <a:xfrm flipH="1" flipV="1">
            <a:off x="3429000" y="4331880"/>
            <a:ext cx="9525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Line 115"/>
          <p:cNvSpPr/>
          <p:nvPr/>
        </p:nvSpPr>
        <p:spPr>
          <a:xfrm flipH="1">
            <a:off x="3428640" y="5097600"/>
            <a:ext cx="144612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Line 116"/>
          <p:cNvSpPr/>
          <p:nvPr/>
        </p:nvSpPr>
        <p:spPr>
          <a:xfrm flipH="1">
            <a:off x="3973680" y="5097600"/>
            <a:ext cx="90144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Line 117"/>
          <p:cNvSpPr/>
          <p:nvPr/>
        </p:nvSpPr>
        <p:spPr>
          <a:xfrm>
            <a:off x="4875120" y="5097600"/>
            <a:ext cx="88920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Line 118"/>
          <p:cNvSpPr/>
          <p:nvPr/>
        </p:nvSpPr>
        <p:spPr>
          <a:xfrm>
            <a:off x="4875120" y="5097600"/>
            <a:ext cx="171144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Line 119"/>
          <p:cNvSpPr/>
          <p:nvPr/>
        </p:nvSpPr>
        <p:spPr>
          <a:xfrm flipV="1">
            <a:off x="3191040" y="607680"/>
            <a:ext cx="479160" cy="6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Text Box 120"/>
          <p:cNvSpPr/>
          <p:nvPr/>
        </p:nvSpPr>
        <p:spPr>
          <a:xfrm>
            <a:off x="6207120" y="487440"/>
            <a:ext cx="8874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sulin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Text Box 121"/>
          <p:cNvSpPr/>
          <p:nvPr/>
        </p:nvSpPr>
        <p:spPr>
          <a:xfrm>
            <a:off x="852480" y="3753000"/>
            <a:ext cx="22687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edia Fermentasi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contoh untuk  pembuatan Vitamin),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Line 122"/>
          <p:cNvSpPr/>
          <p:nvPr/>
        </p:nvSpPr>
        <p:spPr>
          <a:xfrm flipH="1">
            <a:off x="2060280" y="3548160"/>
            <a:ext cx="949320" cy="26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Line 123"/>
          <p:cNvSpPr/>
          <p:nvPr/>
        </p:nvSpPr>
        <p:spPr>
          <a:xfrm>
            <a:off x="3000240" y="3546360"/>
            <a:ext cx="314640" cy="3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Line 124"/>
          <p:cNvSpPr/>
          <p:nvPr/>
        </p:nvSpPr>
        <p:spPr>
          <a:xfrm flipH="1">
            <a:off x="2112480" y="1787400"/>
            <a:ext cx="49212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Text Box 125"/>
          <p:cNvSpPr/>
          <p:nvPr/>
        </p:nvSpPr>
        <p:spPr>
          <a:xfrm>
            <a:off x="3675240" y="3890880"/>
            <a:ext cx="8874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scesoris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Line 126"/>
          <p:cNvSpPr/>
          <p:nvPr/>
        </p:nvSpPr>
        <p:spPr>
          <a:xfrm flipH="1" flipV="1">
            <a:off x="4159080" y="4140360"/>
            <a:ext cx="222480" cy="336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Text Box 127"/>
          <p:cNvSpPr/>
          <p:nvPr/>
        </p:nvSpPr>
        <p:spPr>
          <a:xfrm>
            <a:off x="1824120" y="495360"/>
            <a:ext cx="887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edia Fermentasi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Text Box 128"/>
          <p:cNvSpPr/>
          <p:nvPr/>
        </p:nvSpPr>
        <p:spPr>
          <a:xfrm>
            <a:off x="239760" y="1684440"/>
            <a:ext cx="8874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osis (Casing)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Line 129"/>
          <p:cNvSpPr/>
          <p:nvPr/>
        </p:nvSpPr>
        <p:spPr>
          <a:xfrm flipH="1" flipV="1">
            <a:off x="1028520" y="1890720"/>
            <a:ext cx="493560" cy="67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Line 130"/>
          <p:cNvSpPr/>
          <p:nvPr/>
        </p:nvSpPr>
        <p:spPr>
          <a:xfrm flipH="1">
            <a:off x="2074680" y="2738520"/>
            <a:ext cx="541080" cy="51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Line 131"/>
          <p:cNvSpPr/>
          <p:nvPr/>
        </p:nvSpPr>
        <p:spPr>
          <a:xfrm flipV="1">
            <a:off x="1620720" y="753840"/>
            <a:ext cx="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Line 132"/>
          <p:cNvSpPr/>
          <p:nvPr/>
        </p:nvSpPr>
        <p:spPr>
          <a:xfrm flipV="1">
            <a:off x="2975040" y="753840"/>
            <a:ext cx="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Line 133"/>
          <p:cNvSpPr/>
          <p:nvPr/>
        </p:nvSpPr>
        <p:spPr>
          <a:xfrm flipH="1" flipV="1">
            <a:off x="2507760" y="856800"/>
            <a:ext cx="492120" cy="10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Line 134"/>
          <p:cNvSpPr/>
          <p:nvPr/>
        </p:nvSpPr>
        <p:spPr>
          <a:xfrm flipV="1">
            <a:off x="6649920" y="753840"/>
            <a:ext cx="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Line 135"/>
          <p:cNvSpPr/>
          <p:nvPr/>
        </p:nvSpPr>
        <p:spPr>
          <a:xfrm flipV="1">
            <a:off x="7658280" y="753840"/>
            <a:ext cx="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Text Box 136"/>
          <p:cNvSpPr/>
          <p:nvPr/>
        </p:nvSpPr>
        <p:spPr>
          <a:xfrm>
            <a:off x="157320" y="1374840"/>
            <a:ext cx="10839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ahan Kosmetik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Line 137"/>
          <p:cNvSpPr/>
          <p:nvPr/>
        </p:nvSpPr>
        <p:spPr>
          <a:xfrm flipH="1" flipV="1">
            <a:off x="1087560" y="1617840"/>
            <a:ext cx="434880" cy="93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Text Box 138"/>
          <p:cNvSpPr/>
          <p:nvPr/>
        </p:nvSpPr>
        <p:spPr>
          <a:xfrm>
            <a:off x="3483000" y="442800"/>
            <a:ext cx="8874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Kasein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Keju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hey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aktose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Line 139"/>
          <p:cNvSpPr/>
          <p:nvPr/>
        </p:nvSpPr>
        <p:spPr>
          <a:xfrm>
            <a:off x="3138480" y="657360"/>
            <a:ext cx="484200" cy="13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Line 140"/>
          <p:cNvSpPr/>
          <p:nvPr/>
        </p:nvSpPr>
        <p:spPr>
          <a:xfrm>
            <a:off x="3160800" y="657360"/>
            <a:ext cx="438120" cy="29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Line 141"/>
          <p:cNvSpPr/>
          <p:nvPr/>
        </p:nvSpPr>
        <p:spPr>
          <a:xfrm>
            <a:off x="3160800" y="657360"/>
            <a:ext cx="461880" cy="51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Line 142"/>
          <p:cNvSpPr/>
          <p:nvPr/>
        </p:nvSpPr>
        <p:spPr>
          <a:xfrm>
            <a:off x="7045200" y="2925720"/>
            <a:ext cx="68760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Line 143"/>
          <p:cNvSpPr/>
          <p:nvPr/>
        </p:nvSpPr>
        <p:spPr>
          <a:xfrm>
            <a:off x="7045200" y="2925720"/>
            <a:ext cx="69696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Line 144"/>
          <p:cNvSpPr/>
          <p:nvPr/>
        </p:nvSpPr>
        <p:spPr>
          <a:xfrm>
            <a:off x="8524800" y="4167360"/>
            <a:ext cx="357120" cy="14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Text Box 145"/>
          <p:cNvSpPr/>
          <p:nvPr/>
        </p:nvSpPr>
        <p:spPr>
          <a:xfrm>
            <a:off x="7342200" y="5511960"/>
            <a:ext cx="8874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Cake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Biskuit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Line 146"/>
          <p:cNvSpPr/>
          <p:nvPr/>
        </p:nvSpPr>
        <p:spPr>
          <a:xfrm>
            <a:off x="6946920" y="5303880"/>
            <a:ext cx="49356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Line 147"/>
          <p:cNvSpPr/>
          <p:nvPr/>
        </p:nvSpPr>
        <p:spPr>
          <a:xfrm>
            <a:off x="6946920" y="5303880"/>
            <a:ext cx="493560" cy="51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Text Box 148"/>
          <p:cNvSpPr/>
          <p:nvPr/>
        </p:nvSpPr>
        <p:spPr>
          <a:xfrm>
            <a:off x="227160" y="4167360"/>
            <a:ext cx="226980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ampuran macam-macam  Makanan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Line 149"/>
          <p:cNvSpPr/>
          <p:nvPr/>
        </p:nvSpPr>
        <p:spPr>
          <a:xfrm flipH="1">
            <a:off x="2309760" y="4338720"/>
            <a:ext cx="493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Line 150"/>
          <p:cNvSpPr/>
          <p:nvPr/>
        </p:nvSpPr>
        <p:spPr>
          <a:xfrm flipH="1">
            <a:off x="632880" y="3546360"/>
            <a:ext cx="2367000" cy="30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Text Box 151"/>
          <p:cNvSpPr/>
          <p:nvPr/>
        </p:nvSpPr>
        <p:spPr>
          <a:xfrm>
            <a:off x="0" y="3855960"/>
            <a:ext cx="11271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osis (dijeroan)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Text Box 152"/>
          <p:cNvSpPr/>
          <p:nvPr/>
        </p:nvSpPr>
        <p:spPr>
          <a:xfrm>
            <a:off x="4424400" y="960480"/>
            <a:ext cx="890640" cy="31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EMPEDU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Text Box 153"/>
          <p:cNvSpPr/>
          <p:nvPr/>
        </p:nvSpPr>
        <p:spPr>
          <a:xfrm>
            <a:off x="4424400" y="488880"/>
            <a:ext cx="890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aurin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Line 154"/>
          <p:cNvSpPr/>
          <p:nvPr/>
        </p:nvSpPr>
        <p:spPr>
          <a:xfrm flipV="1">
            <a:off x="4875120" y="753840"/>
            <a:ext cx="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Line 155"/>
          <p:cNvSpPr/>
          <p:nvPr/>
        </p:nvSpPr>
        <p:spPr>
          <a:xfrm flipV="1">
            <a:off x="4875120" y="1271160"/>
            <a:ext cx="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Line 156"/>
          <p:cNvSpPr/>
          <p:nvPr/>
        </p:nvSpPr>
        <p:spPr>
          <a:xfrm>
            <a:off x="7066080" y="3522600"/>
            <a:ext cx="592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9" name="Picture 157" descr="pom-5"/>
          <p:cNvPicPr/>
          <p:nvPr/>
        </p:nvPicPr>
        <p:blipFill>
          <a:blip r:embed="rId1"/>
          <a:stretch/>
        </p:blipFill>
        <p:spPr>
          <a:xfrm>
            <a:off x="3990960" y="2016000"/>
            <a:ext cx="1662120" cy="133200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316"/>
          <p:cNvSpPr/>
          <p:nvPr/>
        </p:nvSpPr>
        <p:spPr>
          <a:xfrm>
            <a:off x="41400" y="4572000"/>
            <a:ext cx="157932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00"/>
                </a:solidFill>
                <a:uFillTx/>
                <a:latin typeface="Arial"/>
              </a:rPr>
              <a:t>Babi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ahoma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. Berkembang biak lebih dari 14 ekor (sapi 1, kambing1,2)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ahoma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. Pakannya apa saja termasuk kotorannya, bangkainya dan anaknya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21" name="Picture 158" descr="logo-mui"/>
          <p:cNvPicPr/>
          <p:nvPr/>
        </p:nvPicPr>
        <p:blipFill>
          <a:blip r:embed="rId2"/>
          <a:stretch/>
        </p:blipFill>
        <p:spPr>
          <a:xfrm>
            <a:off x="8502480" y="304920"/>
            <a:ext cx="990720" cy="914400"/>
          </a:xfrm>
          <a:prstGeom prst="rect">
            <a:avLst/>
          </a:prstGeom>
          <a:ln w="0">
            <a:noFill/>
          </a:ln>
        </p:spPr>
      </p:pic>
      <p:sp>
        <p:nvSpPr>
          <p:cNvPr id="322" name="Slide Number Placeholder 5"/>
          <p:cNvSpPr/>
          <p:nvPr/>
        </p:nvSpPr>
        <p:spPr>
          <a:xfrm>
            <a:off x="80010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900" spc="-1" strike="noStrike">
                <a:solidFill>
                  <a:srgbClr val="ffff00"/>
                </a:solidFill>
                <a:latin typeface="Garamond"/>
              </a:rPr>
              <a:t>LPPOM MUI JAWA TENGAH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</a:t>
            </a:r>
            <a:fld id="{CADA0419-C15F-4AF8-83DA-46FDF9F1001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8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IBALIK EMPUKNYA JELL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95000" y="182844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han Utama: Agar-agar, Karagenan, atau Koniyak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fat: Hidrokoloid, pada suhu tinggi akan mengembang, air masuk ke dalamnya. Ketika dingin molekul air akan terjebak di dalam ny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tik Kritis: Gelatin, Flavour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7594560" y="6629400"/>
            <a:ext cx="231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00"/>
                </a:solidFill>
                <a:latin typeface="Garamond"/>
              </a:rPr>
              <a:t>LPPOM MUI JAWA TENGAH </a:t>
            </a:r>
            <a:r>
              <a:rPr b="0" i="1" lang="en-US" sz="1200" spc="-1" strike="noStrike">
                <a:solidFill>
                  <a:srgbClr val="ffff00"/>
                </a:solidFill>
                <a:latin typeface="Garamond"/>
              </a:rPr>
              <a:t> </a:t>
            </a:r>
            <a:fld id="{EEC385E4-9587-41C0-B80A-2D89EFC697CE}" type="slidenum">
              <a:rPr b="0" i="1" lang="en-US" sz="1200" spc="-1" strike="noStrike">
                <a:solidFill>
                  <a:srgbClr val="ffff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26" name="Picture 15" descr="logo-mui"/>
          <p:cNvPicPr/>
          <p:nvPr/>
        </p:nvPicPr>
        <p:blipFill>
          <a:blip r:embed="rId1"/>
          <a:stretch/>
        </p:blipFill>
        <p:spPr>
          <a:xfrm>
            <a:off x="8502480" y="30492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8" descr="C:\DATA\Kingston\Brownies\Contoh\jelly1.jpg"/>
          <p:cNvPicPr/>
          <p:nvPr/>
        </p:nvPicPr>
        <p:blipFill>
          <a:blip r:embed="rId2"/>
          <a:stretch/>
        </p:blipFill>
        <p:spPr>
          <a:xfrm>
            <a:off x="5943600" y="4038480"/>
            <a:ext cx="269892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9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GELATIN DALAM PRODUK PANGA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duk pangan yang menggunakan gelati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men (kenya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eju (penstabi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30" name="Picture 4" descr="logo-mui"/>
          <p:cNvPicPr/>
          <p:nvPr/>
        </p:nvPicPr>
        <p:blipFill>
          <a:blip r:embed="rId1"/>
          <a:stretch/>
        </p:blipFill>
        <p:spPr>
          <a:xfrm>
            <a:off x="8502480" y="304920"/>
            <a:ext cx="990720" cy="914400"/>
          </a:xfrm>
          <a:prstGeom prst="rect">
            <a:avLst/>
          </a:prstGeom>
          <a:ln w="0">
            <a:noFill/>
          </a:ln>
        </p:spPr>
      </p:pic>
      <p:sp>
        <p:nvSpPr>
          <p:cNvPr id="331" name="Slide Number Placeholder 3"/>
          <p:cNvSpPr/>
          <p:nvPr/>
        </p:nvSpPr>
        <p:spPr>
          <a:xfrm>
            <a:off x="78487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00"/>
                </a:solidFill>
                <a:latin typeface="Garamond"/>
              </a:rPr>
              <a:t>LPPOM MUI JAWA TENGAH</a:t>
            </a:r>
            <a:r>
              <a:rPr b="0" i="1" lang="en-US" sz="1000" spc="-1" strike="noStrike">
                <a:solidFill>
                  <a:srgbClr val="ffff00"/>
                </a:solidFill>
                <a:latin typeface="Garamond"/>
              </a:rPr>
              <a:t>  </a:t>
            </a:r>
            <a:fld id="{A2CBE373-93F5-4248-89EB-EC466FF1AE32}" type="slidenum">
              <a:rPr b="0" i="1" lang="en-US" sz="1200" spc="-1" strike="noStrike">
                <a:solidFill>
                  <a:srgbClr val="ffff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32" name="Picture 6" descr="C:\Users\Toshiba\Downloads\permen.jpg"/>
          <p:cNvPicPr/>
          <p:nvPr/>
        </p:nvPicPr>
        <p:blipFill>
          <a:blip r:embed="rId2"/>
          <a:stretch/>
        </p:blipFill>
        <p:spPr>
          <a:xfrm>
            <a:off x="3809880" y="2362320"/>
            <a:ext cx="2691000" cy="20574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C:\Users\Toshiba\Downloads\keju.jpg"/>
          <p:cNvPicPr/>
          <p:nvPr/>
        </p:nvPicPr>
        <p:blipFill>
          <a:blip r:embed="rId3"/>
          <a:stretch/>
        </p:blipFill>
        <p:spPr>
          <a:xfrm>
            <a:off x="6553080" y="4495680"/>
            <a:ext cx="2381400" cy="1914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5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10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78865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GELATIN DALAM PRODUK PANGA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duk pangan yang menggunakan gelati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kla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pelembut / penghalus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ghurt (memperbaiki tekstur, pelembut, penstabi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36" name="Picture 7" descr="C:\Users\Toshiba\Downloads\yoghurt.jpg"/>
          <p:cNvPicPr/>
          <p:nvPr/>
        </p:nvPicPr>
        <p:blipFill>
          <a:blip r:embed="rId1"/>
          <a:stretch/>
        </p:blipFill>
        <p:spPr>
          <a:xfrm>
            <a:off x="5105520" y="4952880"/>
            <a:ext cx="2438280" cy="17528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" descr="C:\DATA\Kingston\Brownies\Contoh\cinnamon pralines.jpg"/>
          <p:cNvPicPr/>
          <p:nvPr/>
        </p:nvPicPr>
        <p:blipFill>
          <a:blip r:embed="rId2"/>
          <a:stretch/>
        </p:blipFill>
        <p:spPr>
          <a:xfrm>
            <a:off x="2057400" y="2666880"/>
            <a:ext cx="2819520" cy="18288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5" descr="logo-mui"/>
          <p:cNvPicPr/>
          <p:nvPr/>
        </p:nvPicPr>
        <p:blipFill>
          <a:blip r:embed="rId3"/>
          <a:stretch/>
        </p:blipFill>
        <p:spPr>
          <a:xfrm>
            <a:off x="8502480" y="304920"/>
            <a:ext cx="990720" cy="91440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8"/>
          <p:cNvSpPr/>
          <p:nvPr/>
        </p:nvSpPr>
        <p:spPr>
          <a:xfrm>
            <a:off x="7587720" y="6488280"/>
            <a:ext cx="26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900" spc="-1" strike="noStrike">
                <a:solidFill>
                  <a:srgbClr val="ffff00"/>
                </a:solidFill>
                <a:latin typeface="Garamond"/>
              </a:rPr>
              <a:t>LPPOM MUI JAWA TENGAH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fld id="{F02645B9-D68D-4DDD-B143-014590DD663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60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10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GELATIN DALAM PRODUK PANGA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duk pangan yang menggunakan gelati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 Kri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mencegah terbentuknya kristal es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lembut, penstabi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ngkang Kapsul  (tekstur lembut, mudah diserap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mbung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42" name="Picture 3" descr="C:\Users\Toshiba\Downloads\cangkang kapsul.jpg"/>
          <p:cNvPicPr/>
          <p:nvPr/>
        </p:nvPicPr>
        <p:blipFill>
          <a:blip r:embed="rId1"/>
          <a:stretch/>
        </p:blipFill>
        <p:spPr>
          <a:xfrm>
            <a:off x="5257800" y="4952880"/>
            <a:ext cx="2577960" cy="16002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C:\Users\Toshiba\Downloads\Ice cream.jpg"/>
          <p:cNvPicPr/>
          <p:nvPr/>
        </p:nvPicPr>
        <p:blipFill>
          <a:blip r:embed="rId2"/>
          <a:stretch/>
        </p:blipFill>
        <p:spPr>
          <a:xfrm>
            <a:off x="1371600" y="2819520"/>
            <a:ext cx="2600280" cy="15238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5" descr="logo-mui"/>
          <p:cNvPicPr/>
          <p:nvPr/>
        </p:nvPicPr>
        <p:blipFill>
          <a:blip r:embed="rId3"/>
          <a:stretch/>
        </p:blipFill>
        <p:spPr>
          <a:xfrm>
            <a:off x="8502480" y="304920"/>
            <a:ext cx="990720" cy="91440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8"/>
          <p:cNvSpPr/>
          <p:nvPr/>
        </p:nvSpPr>
        <p:spPr>
          <a:xfrm>
            <a:off x="7587720" y="6488280"/>
            <a:ext cx="26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900" spc="-1" strike="noStrike">
                <a:solidFill>
                  <a:srgbClr val="ffff00"/>
                </a:solidFill>
                <a:latin typeface="Garamond"/>
              </a:rPr>
              <a:t>LPPOM MUI JAWA TENGAH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fld id="{BFB5A7F6-2C6B-4A47-8538-BA903025D7C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64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1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1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10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10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JENIS-JENIS MIKOL/MIRA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ir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3 –   5 %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in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9 – 18 %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ggur Oba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9 – 18 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quor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. 24 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sk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. 30 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rand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. 30 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enever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. 30 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gnag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. 35 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i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. 38 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rak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in. 38 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hum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in. 38 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odk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. 40 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48" name="Picture 4" descr="logo-mui"/>
          <p:cNvPicPr/>
          <p:nvPr/>
        </p:nvPicPr>
        <p:blipFill>
          <a:blip r:embed="rId1"/>
          <a:stretch/>
        </p:blipFill>
        <p:spPr>
          <a:xfrm>
            <a:off x="8502480" y="304920"/>
            <a:ext cx="990720" cy="914400"/>
          </a:xfrm>
          <a:prstGeom prst="rect">
            <a:avLst/>
          </a:prstGeom>
          <a:ln w="0">
            <a:noFill/>
          </a:ln>
        </p:spPr>
      </p:pic>
      <p:sp>
        <p:nvSpPr>
          <p:cNvPr id="349" name="Slide Number Placeholder 3"/>
          <p:cNvSpPr/>
          <p:nvPr/>
        </p:nvSpPr>
        <p:spPr>
          <a:xfrm>
            <a:off x="80010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00"/>
                </a:solidFill>
                <a:latin typeface="Garamond"/>
              </a:rPr>
              <a:t>LPPOM MUI JAWA TENGAH</a:t>
            </a:r>
            <a:r>
              <a:rPr b="0" i="1" lang="en-US" sz="10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fld id="{8C971BF2-0113-4F05-B741-218997BC4F4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000"/>
                            </p:stCondLst>
                            <p:childTnLst>
                              <p:par>
                                <p:cTn id="69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69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10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10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10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10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10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10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10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10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10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10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10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10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1000" fill="hold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1000" fill="hold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1000" fill="hold"/>
                                        <p:tgtEl>
                                          <p:spTgt spid="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1000" fill="hold"/>
                                        <p:tgtEl>
                                          <p:spTgt spid="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1000" fill="hold"/>
                                        <p:tgtEl>
                                          <p:spTgt spid="3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1000" fill="hold"/>
                                        <p:tgtEl>
                                          <p:spTgt spid="3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1000" fill="hold"/>
                                        <p:tgtEl>
                                          <p:spTgt spid="3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1000" fill="hold"/>
                                        <p:tgtEl>
                                          <p:spTgt spid="3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1000" fill="hold"/>
                                        <p:tgtEl>
                                          <p:spTgt spid="3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1000" fill="hold"/>
                                        <p:tgtEl>
                                          <p:spTgt spid="3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RAK DALAM MASAKA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95000" y="175212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nis Arak : Arak Putih (Pek Be Ciu), Arak Merah (Ang Ciu), Arak Mie (Kue Low Ciu), Arak Gentong, dl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ngsi Arak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oster (penguat Rasa &amp; Arom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fat Addictive (kecandua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7962840" y="6553080"/>
            <a:ext cx="194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00"/>
                </a:solidFill>
                <a:latin typeface="Garamond"/>
              </a:rPr>
              <a:t>LPPOM MUI JAWA TENGAH</a:t>
            </a:r>
            <a:r>
              <a:rPr b="0" i="1" lang="en-US" sz="1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fld id="{7F72707D-E709-4FC8-926A-C416DD89AEA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53" name="Picture 4" descr="logo-mui"/>
          <p:cNvPicPr/>
          <p:nvPr/>
        </p:nvPicPr>
        <p:blipFill>
          <a:blip r:embed="rId1"/>
          <a:stretch/>
        </p:blipFill>
        <p:spPr>
          <a:xfrm>
            <a:off x="8502480" y="30492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7" descr="tumis kangkung"/>
          <p:cNvPicPr/>
          <p:nvPr/>
        </p:nvPicPr>
        <p:blipFill>
          <a:blip r:embed="rId2"/>
          <a:stretch/>
        </p:blipFill>
        <p:spPr>
          <a:xfrm>
            <a:off x="6248520" y="3886200"/>
            <a:ext cx="294624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000"/>
                            </p:stCondLst>
                            <p:childTnLst>
                              <p:par>
                                <p:cTn id="78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86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29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3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333">
                                          <p:stCondLst>
                                            <p:cond delay="333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66">
                                          <p:stCondLst>
                                            <p:cond delay="663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7" dur="14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8" dur="82" fill="hold">
                                          <p:stCondLst>
                                            <p:cond delay="33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9" dur="14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0" dur="82" fill="hold">
                                          <p:stCondLst>
                                            <p:cond delay="671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1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2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4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7342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SAM AMINO DALAM MINUMA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9500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oh: Minuman Berenerg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ngsi Asam Amino: Meningkatkan metabolisme tubuh dan meningkatkan pembakaran energi tubu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han : berasal dari empedu atau pankreas hewan, atau diperoleh ekstraksi seperti bulu unggas, rambut manusia dan juga biji jagu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7886880" y="6553080"/>
            <a:ext cx="201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00"/>
                </a:solidFill>
                <a:latin typeface="Garamond"/>
              </a:rPr>
              <a:t>LPPOM MUI JAWA TENGAH</a:t>
            </a:r>
            <a:r>
              <a:rPr b="0" i="1" lang="en-US" sz="1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fld id="{15CAB556-5BB3-4811-97D1-6A9F14F8228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58" name="Picture 4" descr="logo-mui"/>
          <p:cNvPicPr/>
          <p:nvPr/>
        </p:nvPicPr>
        <p:blipFill>
          <a:blip r:embed="rId1"/>
          <a:stretch/>
        </p:blipFill>
        <p:spPr>
          <a:xfrm>
            <a:off x="8502480" y="304920"/>
            <a:ext cx="990720" cy="914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0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84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7342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KHAMER TERSELUBU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oh 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ruit Punch atau Mix Juice berasal dari jus buah atau campuran beberapa buah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uman Kopi, Cappuccino,  Moccaccin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uman Cokla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lack Forest (ditambahkan Rhum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ramisu (ditambahkan Kahlua &amp; Tia Mari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la untuk Puding (ditambahkan Rhum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ngsi : Penguat Rasa (Booste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8039160" y="6629400"/>
            <a:ext cx="1866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00"/>
                </a:solidFill>
                <a:latin typeface="Garamond"/>
              </a:rPr>
              <a:t>LPPOM MUI JAWA TENGAH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fld id="{3F37A1FF-3763-44CC-AE0F-3923CDA067C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62" name="Picture 4" descr="logo-mui"/>
          <p:cNvPicPr/>
          <p:nvPr/>
        </p:nvPicPr>
        <p:blipFill>
          <a:blip r:embed="rId1"/>
          <a:stretch/>
        </p:blipFill>
        <p:spPr>
          <a:xfrm>
            <a:off x="8502480" y="30492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black forest"/>
          <p:cNvPicPr/>
          <p:nvPr/>
        </p:nvPicPr>
        <p:blipFill>
          <a:blip r:embed="rId2"/>
          <a:stretch/>
        </p:blipFill>
        <p:spPr>
          <a:xfrm>
            <a:off x="7467480" y="480060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guava-fruit-punch"/>
          <p:cNvPicPr/>
          <p:nvPr/>
        </p:nvPicPr>
        <p:blipFill>
          <a:blip r:embed="rId3"/>
          <a:stretch/>
        </p:blipFill>
        <p:spPr>
          <a:xfrm>
            <a:off x="8153280" y="2666880"/>
            <a:ext cx="158760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0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8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88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2" dur="29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3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333">
                                          <p:stCondLst>
                                            <p:cond delay="333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66">
                                          <p:stCondLst>
                                            <p:cond delay="663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8" dur="14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9" dur="82" fill="hold">
                                          <p:stCondLst>
                                            <p:cond delay="33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0" dur="14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1" dur="82" fill="hold">
                                          <p:stCondLst>
                                            <p:cond delay="671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2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3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4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5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1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1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29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3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333">
                                          <p:stCondLst>
                                            <p:cond delay="333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66">
                                          <p:stCondLst>
                                            <p:cond delay="663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4" dur="14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5" dur="82" fill="hold">
                                          <p:stCondLst>
                                            <p:cond delay="33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6" dur="14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7" dur="82" fill="hold">
                                          <p:stCondLst>
                                            <p:cond delay="671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8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9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0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1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10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10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10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10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10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10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10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10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BAGAIMANA MEMILIH PRODUK HALAL 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762120" y="2209680"/>
            <a:ext cx="8400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69440" indent="-469440">
              <a:spcBef>
                <a:spcPts val="799"/>
              </a:spcBef>
              <a:buClr>
                <a:srgbClr val="00ff99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lihat Logo Halal MUI pada kemasan produ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440" indent="-469440">
              <a:spcBef>
                <a:spcPts val="799"/>
              </a:spcBef>
              <a:buClr>
                <a:srgbClr val="00ff99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lihat Sertifikat Halal yang dikeluarkan MU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440" indent="-469440">
              <a:spcBef>
                <a:spcPts val="799"/>
              </a:spcBef>
              <a:buClr>
                <a:srgbClr val="00ff99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lihat Daftar Produk Bersertifikat Halal pada Jurnal Halal atau di website : www.halalmui.org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440" indent="-469440">
              <a:spcBef>
                <a:spcPts val="700"/>
              </a:spcBef>
              <a:buClr>
                <a:srgbClr val="00ff99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rtanya lewat email ke 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lal_jateng@yahoo.c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68" name="Picture 18" descr="logo-mui"/>
          <p:cNvPicPr/>
          <p:nvPr/>
        </p:nvPicPr>
        <p:blipFill>
          <a:blip r:embed="rId1"/>
          <a:stretch/>
        </p:blipFill>
        <p:spPr>
          <a:xfrm>
            <a:off x="8502480" y="304920"/>
            <a:ext cx="990720" cy="914400"/>
          </a:xfrm>
          <a:prstGeom prst="rect">
            <a:avLst/>
          </a:prstGeom>
          <a:ln w="0">
            <a:noFill/>
          </a:ln>
        </p:spPr>
      </p:pic>
      <p:sp>
        <p:nvSpPr>
          <p:cNvPr id="369" name="Slide Number Placeholder 5"/>
          <p:cNvSpPr/>
          <p:nvPr/>
        </p:nvSpPr>
        <p:spPr>
          <a:xfrm>
            <a:off x="80010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00"/>
                </a:solidFill>
                <a:latin typeface="Garamond"/>
              </a:rPr>
              <a:t>LPPOM MUI JAWA TENGAH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</a:t>
            </a:r>
            <a:fld id="{04317CEF-4E9A-42E1-81C6-C638D6710E5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98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8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8991720" cy="1447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“ 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BRAND TERKENAL BELUM TENTU HALAL ?”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33160" y="41148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leh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rs. Ir. H. Mochammad Iman, MB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4" descr="logo-mui"/>
          <p:cNvPicPr/>
          <p:nvPr/>
        </p:nvPicPr>
        <p:blipFill>
          <a:blip r:embed="rId1"/>
          <a:stretch/>
        </p:blipFill>
        <p:spPr>
          <a:xfrm>
            <a:off x="8502480" y="304920"/>
            <a:ext cx="990720" cy="9144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1828800" y="5638680"/>
            <a:ext cx="6324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asjid An-Nur Lamper Tengah Raya Semarang, 1 Oktober 2016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22"/>
          <p:cNvSpPr/>
          <p:nvPr/>
        </p:nvSpPr>
        <p:spPr>
          <a:xfrm>
            <a:off x="80773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00"/>
                </a:solidFill>
                <a:latin typeface="Garamond"/>
              </a:rPr>
              <a:t>LPPOM MUI JAWA TENGAH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</a:t>
            </a:r>
            <a:fld id="{B2AA1A6B-DFC2-4018-B179-2D00D433347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OGO HALAL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371" name="Picture 7" descr="logo-mui"/>
          <p:cNvPicPr/>
          <p:nvPr/>
        </p:nvPicPr>
        <p:blipFill>
          <a:blip r:embed="rId1"/>
          <a:stretch/>
        </p:blipFill>
        <p:spPr>
          <a:xfrm>
            <a:off x="8502480" y="304920"/>
            <a:ext cx="990720" cy="9144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43000" y="35809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80010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00"/>
                </a:solidFill>
                <a:latin typeface="Garamond"/>
              </a:rPr>
              <a:t>LPPOM MUI JAWA TENGAH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</a:t>
            </a:r>
            <a:fld id="{380B15C0-8600-46BC-80CD-4A8FF70FBD6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74" name="Picture 9" descr=""/>
          <p:cNvPicPr/>
          <p:nvPr/>
        </p:nvPicPr>
        <p:blipFill>
          <a:blip r:embed="rId2"/>
          <a:stretch/>
        </p:blipFill>
        <p:spPr>
          <a:xfrm>
            <a:off x="3581280" y="152388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0" descr=""/>
          <p:cNvPicPr/>
          <p:nvPr/>
        </p:nvPicPr>
        <p:blipFill>
          <a:blip r:embed="rId3"/>
          <a:stretch/>
        </p:blipFill>
        <p:spPr>
          <a:xfrm>
            <a:off x="457200" y="1523880"/>
            <a:ext cx="2844720" cy="2133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1" descr=""/>
          <p:cNvPicPr/>
          <p:nvPr/>
        </p:nvPicPr>
        <p:blipFill>
          <a:blip r:embed="rId4"/>
          <a:stretch/>
        </p:blipFill>
        <p:spPr>
          <a:xfrm>
            <a:off x="457200" y="4114800"/>
            <a:ext cx="2844720" cy="21337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"/>
          <p:cNvPicPr/>
          <p:nvPr/>
        </p:nvPicPr>
        <p:blipFill>
          <a:blip r:embed="rId5"/>
          <a:stretch/>
        </p:blipFill>
        <p:spPr>
          <a:xfrm>
            <a:off x="6553080" y="411480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2" descr=""/>
          <p:cNvPicPr/>
          <p:nvPr/>
        </p:nvPicPr>
        <p:blipFill>
          <a:blip r:embed="rId6"/>
          <a:stretch/>
        </p:blipFill>
        <p:spPr>
          <a:xfrm>
            <a:off x="3505320" y="4114800"/>
            <a:ext cx="2844720" cy="21337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3" descr="C:\DATA\Canon 2011\2011_12_16\IMG_1455.JPG"/>
          <p:cNvPicPr/>
          <p:nvPr/>
        </p:nvPicPr>
        <p:blipFill>
          <a:blip r:embed="rId7"/>
          <a:stretch/>
        </p:blipFill>
        <p:spPr>
          <a:xfrm>
            <a:off x="6705720" y="1523880"/>
            <a:ext cx="2666880" cy="2113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0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3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SERTIFIKAT HALAL DI DUNIA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381" name="Picture 4" descr="SH3"/>
          <p:cNvPicPr/>
          <p:nvPr/>
        </p:nvPicPr>
        <p:blipFill>
          <a:blip r:embed="rId1"/>
          <a:stretch/>
        </p:blipFill>
        <p:spPr>
          <a:xfrm>
            <a:off x="6629400" y="1981080"/>
            <a:ext cx="3067200" cy="41911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sh10"/>
          <p:cNvPicPr/>
          <p:nvPr/>
        </p:nvPicPr>
        <p:blipFill>
          <a:blip r:embed="rId2"/>
          <a:stretch/>
        </p:blipFill>
        <p:spPr>
          <a:xfrm>
            <a:off x="3429000" y="1981080"/>
            <a:ext cx="3013200" cy="41911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6" descr="sh8"/>
          <p:cNvPicPr/>
          <p:nvPr/>
        </p:nvPicPr>
        <p:blipFill>
          <a:blip r:embed="rId3"/>
          <a:stretch/>
        </p:blipFill>
        <p:spPr>
          <a:xfrm>
            <a:off x="380880" y="1981080"/>
            <a:ext cx="2881440" cy="41911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7" descr="logo-mui"/>
          <p:cNvPicPr/>
          <p:nvPr/>
        </p:nvPicPr>
        <p:blipFill>
          <a:blip r:embed="rId4"/>
          <a:stretch/>
        </p:blipFill>
        <p:spPr>
          <a:xfrm>
            <a:off x="8502480" y="304920"/>
            <a:ext cx="990720" cy="914400"/>
          </a:xfrm>
          <a:prstGeom prst="rect">
            <a:avLst/>
          </a:prstGeom>
          <a:ln w="0">
            <a:noFill/>
          </a:ln>
        </p:spPr>
      </p:pic>
      <p:sp>
        <p:nvSpPr>
          <p:cNvPr id="385" name="Slide Number Placeholder 5"/>
          <p:cNvSpPr/>
          <p:nvPr/>
        </p:nvSpPr>
        <p:spPr>
          <a:xfrm>
            <a:off x="80010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00"/>
                </a:solidFill>
                <a:latin typeface="Garamond"/>
              </a:rPr>
              <a:t>LPPOM MUI JAWA TENGAH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</a:t>
            </a:r>
            <a:fld id="{4207A8BE-0D28-4828-B589-256023F7213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0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8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ERIMA  KASIH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387" name="Picture 9" descr="sh15"/>
          <p:cNvPicPr/>
          <p:nvPr/>
        </p:nvPicPr>
        <p:blipFill>
          <a:blip r:embed="rId1"/>
          <a:stretch/>
        </p:blipFill>
        <p:spPr>
          <a:xfrm>
            <a:off x="3276720" y="2133720"/>
            <a:ext cx="3039840" cy="27874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11"/>
          <p:cNvSpPr/>
          <p:nvPr/>
        </p:nvSpPr>
        <p:spPr>
          <a:xfrm>
            <a:off x="3276720" y="5029200"/>
            <a:ext cx="3054240" cy="380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PPOM MUI JAWA TENGAH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89" name="Picture 12" descr="logo-mui"/>
          <p:cNvPicPr/>
          <p:nvPr/>
        </p:nvPicPr>
        <p:blipFill>
          <a:blip r:embed="rId2"/>
          <a:stretch/>
        </p:blipFill>
        <p:spPr>
          <a:xfrm>
            <a:off x="8502480" y="304920"/>
            <a:ext cx="990720" cy="914400"/>
          </a:xfrm>
          <a:prstGeom prst="rect">
            <a:avLst/>
          </a:prstGeom>
          <a:ln w="0">
            <a:noFill/>
          </a:ln>
        </p:spPr>
      </p:pic>
      <p:sp>
        <p:nvSpPr>
          <p:cNvPr id="390" name="Slide Number Placeholder 5"/>
          <p:cNvSpPr/>
          <p:nvPr/>
        </p:nvSpPr>
        <p:spPr>
          <a:xfrm>
            <a:off x="80010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00"/>
                </a:solidFill>
                <a:latin typeface="Garamond"/>
              </a:rPr>
              <a:t>LPPOM MUI JAWA TENGAH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</a:t>
            </a:r>
            <a:fld id="{BAF3C08F-3808-47FF-890E-3188986DD3A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0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1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12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DA APA DENGAN HALAL DAN HARAM 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9372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 algn="just">
              <a:spcBef>
                <a:spcPts val="649"/>
              </a:spcBef>
              <a:buClr>
                <a:srgbClr val="00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tatus Manusia sebagai makhluk dan hamba Allah seringkali bia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 algn="just">
              <a:spcBef>
                <a:spcPts val="649"/>
              </a:spcBef>
              <a:buClr>
                <a:srgbClr val="00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Makna kehidupan hakikatnya adalah berserah diri kepada Allah dengan mentauhidkan-Nya, tunduk kepada-Nya dengan penuh ketaatan, serta berlepas diri dari kesyirikan 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 algn="just">
              <a:spcBef>
                <a:spcPts val="649"/>
              </a:spcBef>
              <a:buClr>
                <a:srgbClr val="00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abda Rasulullah:</a:t>
            </a: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 “Akan datang kepada manusia suatu masa/zaman, yang ketika seseorang tidak lagi memperdulikan sesuatu yang diraihnya, apakah dari hasil yang Halal atau dari hasil yang haram.”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(HR. Al-Bukhari no.2059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4" descr="logo-mui"/>
          <p:cNvPicPr/>
          <p:nvPr/>
        </p:nvPicPr>
        <p:blipFill>
          <a:blip r:embed="rId1"/>
          <a:stretch/>
        </p:blipFill>
        <p:spPr>
          <a:xfrm>
            <a:off x="8502480" y="304920"/>
            <a:ext cx="990720" cy="914400"/>
          </a:xfrm>
          <a:prstGeom prst="rect">
            <a:avLst/>
          </a:prstGeom>
          <a:ln w="0">
            <a:noFill/>
          </a:ln>
        </p:spPr>
      </p:pic>
      <p:sp>
        <p:nvSpPr>
          <p:cNvPr id="137" name="Slide Number Placeholder 5"/>
          <p:cNvSpPr/>
          <p:nvPr/>
        </p:nvSpPr>
        <p:spPr>
          <a:xfrm>
            <a:off x="8077320" y="655308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00"/>
                </a:solidFill>
                <a:latin typeface="Garamond"/>
              </a:rPr>
              <a:t>LPPOM MUI JAWA TENGAH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</a:t>
            </a:r>
            <a:fld id="{40295CE7-64AD-4D2F-8F70-E72162E5A7B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8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ENENTUAN HALAL DAN HARAM 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9448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 algn="just">
              <a:spcBef>
                <a:spcPts val="649"/>
              </a:spcBef>
              <a:buClr>
                <a:srgbClr val="00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tandar Halal adalah apa yang dihalalkan oleh Allah dan Rasul-Nya. Dan Standar Haram adalah apa yang diharamkan oleh Allah dan Rasul-Nya. Dengan demikian, yang berhak menentukan Halal dan Haram itu adalah Allah dan Rasul-Nya.  Mengapa?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 algn="just">
              <a:spcBef>
                <a:spcPts val="649"/>
              </a:spcBef>
              <a:buClr>
                <a:srgbClr val="00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Karena Allah adalah Pencipta, Pengatur dan Penguasa Alam Semesta. Allah Maha Mengetahui segala yang baik dan yang buruk bagi para hambanya. Sehingga Dia-lah yang berhak untuk menentukan apa yang Halal dan yang Haram bagi para hamba-Nya, serta memilihkan apa yang terbaik bagi kehidupan mereka sesuai dengan hikmah dan kasih sayang-Nya yang sempurna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logo-mui"/>
          <p:cNvPicPr/>
          <p:nvPr/>
        </p:nvPicPr>
        <p:blipFill>
          <a:blip r:embed="rId1"/>
          <a:stretch/>
        </p:blipFill>
        <p:spPr>
          <a:xfrm>
            <a:off x="8502480" y="304920"/>
            <a:ext cx="990720" cy="91440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5"/>
          <p:cNvSpPr/>
          <p:nvPr/>
        </p:nvSpPr>
        <p:spPr>
          <a:xfrm>
            <a:off x="8077320" y="655308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00"/>
                </a:solidFill>
                <a:latin typeface="Garamond"/>
              </a:rPr>
              <a:t>LPPOM MUI JAWA TENGAH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</a:t>
            </a:r>
            <a:fld id="{8A1D21CA-273B-4AE1-AA54-207318BDB44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2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ANFAAT MENGETAHUI HALAL DAN HARAM 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944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 algn="just">
              <a:spcBef>
                <a:spcPts val="649"/>
              </a:spcBef>
              <a:buClr>
                <a:srgbClr val="00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Rasulullah mengingatkan umatnya bahwa makanan, minuman dan pakaian yang diperoleh dari hasil yang haram sangat besar pengaruhnya bagi kehidupan dan agama seseorang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 algn="just">
              <a:spcBef>
                <a:spcPts val="649"/>
              </a:spcBef>
              <a:buClr>
                <a:srgbClr val="00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Rasulullah menyebutkan tentang seorang laki-laki yang sedang melakukan perjalanan jauh (safar) dalam kondisi rambutnya acak-acakan dan tubuhnya dipenuhi debu, lalu menengadahkan tangannya ke langit seraya berdoa, Ya Rabbi, Ya Rabbi ! Sementara itu, makanannya dari hasil yang haram, minumannya dari dari hasil yang haram, pakaiannya dari hasil yang haram, dan badannya tumbuh berkembang dari hasil yang haram.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Maka mana mungkin doanya akan dikabulkan oleh Allah?”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(HR. Muslim no. 1015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4" descr="logo-mui"/>
          <p:cNvPicPr/>
          <p:nvPr/>
        </p:nvPicPr>
        <p:blipFill>
          <a:blip r:embed="rId1"/>
          <a:stretch/>
        </p:blipFill>
        <p:spPr>
          <a:xfrm>
            <a:off x="8502480" y="304920"/>
            <a:ext cx="990720" cy="914400"/>
          </a:xfrm>
          <a:prstGeom prst="rect">
            <a:avLst/>
          </a:prstGeom>
          <a:ln w="0">
            <a:noFill/>
          </a:ln>
        </p:spPr>
      </p:pic>
      <p:sp>
        <p:nvSpPr>
          <p:cNvPr id="145" name="Slide Number Placeholder 5"/>
          <p:cNvSpPr/>
          <p:nvPr/>
        </p:nvSpPr>
        <p:spPr>
          <a:xfrm>
            <a:off x="8077320" y="655308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00"/>
                </a:solidFill>
                <a:latin typeface="Garamond"/>
              </a:rPr>
              <a:t>LPPOM MUI JAWA TENGAH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</a:t>
            </a:r>
            <a:fld id="{D281F6B6-D6E7-4AE1-9080-5C50C7DFD2C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5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KONSEP HALAL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9760" y="1599840"/>
            <a:ext cx="9194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engertian makanan halal dan minuman halal 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lal secara zatny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lal cara memprosesny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lal cara penyembelihanny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lal cara memperolehny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uman yang tidak diharamk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Picture 4" descr="logo-mui"/>
          <p:cNvPicPr/>
          <p:nvPr/>
        </p:nvPicPr>
        <p:blipFill>
          <a:blip r:embed="rId1"/>
          <a:stretch/>
        </p:blipFill>
        <p:spPr>
          <a:xfrm>
            <a:off x="8502480" y="304920"/>
            <a:ext cx="990720" cy="91440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5"/>
          <p:cNvSpPr/>
          <p:nvPr/>
        </p:nvSpPr>
        <p:spPr>
          <a:xfrm>
            <a:off x="80010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900" spc="-1" strike="noStrike">
                <a:solidFill>
                  <a:srgbClr val="ffff00"/>
                </a:solidFill>
                <a:latin typeface="Garamond"/>
              </a:rPr>
              <a:t>LPPOM MUI JAWA TENGAH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</a:t>
            </a:r>
            <a:fld id="{E8E166AE-FEAE-4B03-ADF8-C3A9A3F6C23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8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KONSEP HALAL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9760" y="1752120"/>
            <a:ext cx="9271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alam Syariat Islam hanya ada pengertian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l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ram ( Tidak halal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ragukan kehalalanny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dak ada pengertian 100% halal 90% halal, d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Picture 7" descr="logo-mui"/>
          <p:cNvPicPr/>
          <p:nvPr/>
        </p:nvPicPr>
        <p:blipFill>
          <a:blip r:embed="rId1"/>
          <a:stretch/>
        </p:blipFill>
        <p:spPr>
          <a:xfrm>
            <a:off x="8502480" y="304920"/>
            <a:ext cx="990720" cy="914400"/>
          </a:xfrm>
          <a:prstGeom prst="rect">
            <a:avLst/>
          </a:prstGeom>
          <a:ln w="0">
            <a:noFill/>
          </a:ln>
        </p:spPr>
      </p:pic>
      <p:sp>
        <p:nvSpPr>
          <p:cNvPr id="153" name="Slide Number Placeholder 5"/>
          <p:cNvSpPr/>
          <p:nvPr/>
        </p:nvSpPr>
        <p:spPr>
          <a:xfrm>
            <a:off x="80010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00"/>
                </a:solidFill>
                <a:latin typeface="Garamond"/>
              </a:rPr>
              <a:t>LPPOM MUI JAWA TENGAH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</a:t>
            </a:r>
            <a:fld id="{FA4C5398-5A4B-4521-83CC-64099A0A538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3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ERKARA SYUBHAT 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000" y="18288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649"/>
              </a:spcBef>
              <a:buClr>
                <a:srgbClr val="00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Sesungguhnya yang Halal itu jelas dan yang Haram pun telah jelas. Diantara keduanya ada perkara-perkara syubhat (samar) yang tidak diketahui orang banyak.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Maka barangs iapa menjauhi perkara-perkara yang syubhat (samar) sungguh dia telah melakukan penjagaan terhadap agama dan kehormatannya. Barang siapa terjatuh dalam perkara-perkara  yang syubhat (samar), niscaya dia akan terjatuh dalam sesuatu yang Haram.”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HR.Bukhari no.52 dan Muslim no. 1599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Picture 4" descr="logo-mui"/>
          <p:cNvPicPr/>
          <p:nvPr/>
        </p:nvPicPr>
        <p:blipFill>
          <a:blip r:embed="rId1"/>
          <a:stretch/>
        </p:blipFill>
        <p:spPr>
          <a:xfrm>
            <a:off x="8502480" y="304920"/>
            <a:ext cx="990720" cy="914400"/>
          </a:xfrm>
          <a:prstGeom prst="rect">
            <a:avLst/>
          </a:prstGeom>
          <a:ln w="0">
            <a:noFill/>
          </a:ln>
        </p:spPr>
      </p:pic>
      <p:sp>
        <p:nvSpPr>
          <p:cNvPr id="157" name="Slide Number Placeholder 5"/>
          <p:cNvSpPr/>
          <p:nvPr/>
        </p:nvSpPr>
        <p:spPr>
          <a:xfrm>
            <a:off x="8077320" y="655308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00"/>
                </a:solidFill>
                <a:latin typeface="Garamond"/>
              </a:rPr>
              <a:t>LPPOM MUI JAWA TENGAH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</a:t>
            </a:r>
            <a:fld id="{7CF18AFF-529E-4D70-89CD-A6A1DB1D026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8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071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JENIS MAKANAN YANG DIHARAMKA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5240" y="1599840"/>
            <a:ext cx="9410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KANAN tidak halal / haram adalah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ngk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ra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bi dan turunannya (lihat lampiran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wan yang tidak disembelih sesuai dengan syariat Isla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wan yang disembelih untuk dipersembahkan kepada selain Alla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00ff99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UMAN tidak halal / haram adalah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hamr (beralkohol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15" descr="logo-mui"/>
          <p:cNvPicPr/>
          <p:nvPr/>
        </p:nvPicPr>
        <p:blipFill>
          <a:blip r:embed="rId1"/>
          <a:stretch/>
        </p:blipFill>
        <p:spPr>
          <a:xfrm>
            <a:off x="8502480" y="30492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bir"/>
          <p:cNvPicPr/>
          <p:nvPr/>
        </p:nvPicPr>
        <p:blipFill>
          <a:blip r:embed="rId2"/>
          <a:stretch/>
        </p:blipFill>
        <p:spPr>
          <a:xfrm>
            <a:off x="6477120" y="5029200"/>
            <a:ext cx="2514600" cy="1459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0" descr="bintang_zero"/>
          <p:cNvPicPr/>
          <p:nvPr/>
        </p:nvPicPr>
        <p:blipFill>
          <a:blip r:embed="rId3"/>
          <a:stretch/>
        </p:blipFill>
        <p:spPr>
          <a:xfrm>
            <a:off x="3886200" y="502920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1" descr="pig"/>
          <p:cNvPicPr/>
          <p:nvPr/>
        </p:nvPicPr>
        <p:blipFill>
          <a:blip r:embed="rId4"/>
          <a:stretch/>
        </p:blipFill>
        <p:spPr>
          <a:xfrm>
            <a:off x="7772400" y="198108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5"/>
          <p:cNvSpPr/>
          <p:nvPr/>
        </p:nvSpPr>
        <p:spPr>
          <a:xfrm>
            <a:off x="80773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00"/>
                </a:solidFill>
                <a:latin typeface="Garamond"/>
              </a:rPr>
              <a:t>LPPOM MUI JAWA TENGAH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</a:t>
            </a:r>
            <a:fld id="{5B6F6558-30A8-4FD3-AF37-169753EB495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0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06:19:59Z</dcterms:created>
  <dc:creator>KF-PA1</dc:creator>
  <dc:description/>
  <dc:language>en-US</dc:language>
  <cp:lastModifiedBy>fiberglass</cp:lastModifiedBy>
  <dcterms:modified xsi:type="dcterms:W3CDTF">2016-10-01T06:45:03Z</dcterms:modified>
  <cp:revision>211</cp:revision>
  <dc:subject/>
  <dc:title>MAJELIS ULAMA INDONESIA BALI</dc:title>
</cp:coreProperties>
</file>