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822240" y="725040"/>
            <a:ext cx="5243760" cy="36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8C9-4763-425A-9A7F-018481EE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0BE-E562-4EF7-BF9C-CAA31A1033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B3B9-EC3D-4A17-9C5F-4AED9BFC5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D17F-31F5-4E97-97F6-B83E4E723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10E-788B-4D2F-A3E0-0A2682B44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0A8D-378F-4055-ABA2-0E4C1CAAC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2A0A-AD99-42DF-BCF8-A2744C85C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22240" y="725400"/>
            <a:ext cx="5243760" cy="363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DB3-4263-45AC-86FA-14CE9D9C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8BE-A132-4854-874F-E1A75E3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BFC-EFAC-436C-8335-4C55A5F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AD-D462-43A8-A401-FAB5C1D5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8BF-6A05-47D7-8DBF-1A63048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ED1E-9A3D-4CDF-8432-8BDF137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3CF-8042-4D80-AC89-5705FA9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7369-83AD-4B6B-A5EA-04FA490F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3463-C62F-4A29-AC39-60975BE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FF82-AD56-4259-8002-D18C210F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0A2-CFF2-43AA-98F8-E8A03A8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629-0964-4EC5-8F73-12989C4D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C9C6-4909-4DB2-BF2B-83128A9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F38-711D-4397-B59A-D4FA7A9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A73-3045-4A8B-BB3B-AAEE025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E85-3F97-4241-BB23-97017A3F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4B2-A66E-4DD6-9291-1207AD23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D20-442E-423C-847E-9D86435F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981-E78E-4D93-A799-5EA0B6DC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F3B-BECF-430E-96A6-801C8D2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C30-0F62-46D6-8569-208C4BCC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7AB-39B5-4453-BCF9-1DAE88C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DA6-EC47-4958-8BD4-CB1CF3E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B88-4ED9-4864-A78D-B840F0D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905760" cy="4046760"/>
            <a:chOff x="0" y="2438280"/>
            <a:chExt cx="990576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647520" y="4114440"/>
              <a:ext cx="528336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62240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776560" y="2438280"/>
              <a:ext cx="412920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521400" y="2438280"/>
              <a:ext cx="338436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189480" y="3932280"/>
              <a:ext cx="31968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498720" y="3798720"/>
              <a:ext cx="31824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602040" y="2914560"/>
              <a:ext cx="90792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321600" y="3198960"/>
              <a:ext cx="12402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775120" y="3000240"/>
              <a:ext cx="412740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602040" y="2943360"/>
              <a:ext cx="99216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9161280" y="2606760"/>
              <a:ext cx="828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602040" y="2743200"/>
              <a:ext cx="123120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938560" y="3605040"/>
              <a:ext cx="54648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46256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68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07B0-62B1-48D6-A1E9-C6F4EE9E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905760" cy="4046760"/>
            <a:chOff x="0" y="2438280"/>
            <a:chExt cx="990576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647520" y="4114440"/>
              <a:ext cx="528336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62240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776560" y="2438280"/>
              <a:ext cx="412920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521400" y="2438280"/>
              <a:ext cx="338436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6189480" y="3932280"/>
              <a:ext cx="31968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6498720" y="3798720"/>
              <a:ext cx="31824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602040" y="2914560"/>
              <a:ext cx="90792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321600" y="3198960"/>
              <a:ext cx="12402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775120" y="3000240"/>
              <a:ext cx="412740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602040" y="2943360"/>
              <a:ext cx="99216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9161280" y="2606760"/>
              <a:ext cx="828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602040" y="2743200"/>
              <a:ext cx="123120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938560" y="3605040"/>
              <a:ext cx="54648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46256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68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560-F57C-4E4A-9176-622FC07E6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2"/>
          <p:cNvSpPr/>
          <p:nvPr/>
        </p:nvSpPr>
        <p:spPr>
          <a:xfrm>
            <a:off x="8039160" y="6553080"/>
            <a:ext cx="18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FEA3EE7F-52E9-47A2-AF66-4FDC3F7EAA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25909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Garamond"/>
              </a:rPr>
              <a:t>MAJELIS ULAMA INDONESIA PROPINSI JAWA TENG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MBAGA PENGKAJIAN PANGA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AT-OBATAN DAN KOSMETIKA ( LPPOM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logo-mui"/>
          <p:cNvPicPr/>
          <p:nvPr/>
        </p:nvPicPr>
        <p:blipFill>
          <a:blip r:embed="rId1"/>
          <a:stretch/>
        </p:blipFill>
        <p:spPr>
          <a:xfrm>
            <a:off x="577800" y="457200"/>
            <a:ext cx="1568520" cy="144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h15"/>
          <p:cNvPicPr/>
          <p:nvPr/>
        </p:nvPicPr>
        <p:blipFill>
          <a:blip r:embed="rId2"/>
          <a:stretch/>
        </p:blipFill>
        <p:spPr>
          <a:xfrm>
            <a:off x="7759800" y="304920"/>
            <a:ext cx="165096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7759800" y="1828800"/>
            <a:ext cx="16509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P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04812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بسم الله الرحمن الرحي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5486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DOJ REGIONAL SEMARA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127160" y="5014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risan 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8120" y="49860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nne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264440" y="5014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Casing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2716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ARU-PARU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50812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ZI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26444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USU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455840" y="1374840"/>
            <a:ext cx="8874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istein/Sist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ikat Gig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u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Jaket Bulu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38440" y="1684440"/>
            <a:ext cx="8888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ULU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414680" y="147780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JERO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189840" y="1684440"/>
            <a:ext cx="8888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KIKI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627280" y="26146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KULI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455840" y="2408400"/>
            <a:ext cx="8874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ollage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Disama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Krece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amba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GELAT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39760" y="1995480"/>
            <a:ext cx="8874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Jaket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Tas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epat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Dompe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89840" y="2614680"/>
            <a:ext cx="888840" cy="5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G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 PORK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736040" y="1305000"/>
            <a:ext cx="88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op Kiki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ambak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GELATI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796000" y="2155680"/>
            <a:ext cx="1874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onsumen Babi (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Non Musli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7850160" y="2057400"/>
            <a:ext cx="19731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campur dengan daging sapi di pasar- pasar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mah Makan (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Non Musli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sta Hati ungg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am Amin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2409840" y="3235320"/>
            <a:ext cx="11174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RA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6189840" y="3235320"/>
            <a:ext cx="88884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LEMAK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Lard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4414680" y="427032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ULA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414680" y="4788000"/>
            <a:ext cx="8874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GELATI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7724880" y="3506760"/>
            <a:ext cx="14810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mpuran Sosis/Sus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ortenin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nyedap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inyak Babi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8991720" y="4484520"/>
            <a:ext cx="10843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ncampur Vegetable Oi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orenga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Pi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Mo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Mi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k …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2946240" y="3778200"/>
            <a:ext cx="887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nia Medis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anyak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646360" y="4167360"/>
            <a:ext cx="88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sfor (P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2638440" y="478800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mulsifier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2638440" y="5097600"/>
            <a:ext cx="88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rme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282920" y="5408640"/>
            <a:ext cx="1184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psul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6189840" y="5097600"/>
            <a:ext cx="88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lembut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6189840" y="478800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bilizer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6197760" y="4476600"/>
            <a:ext cx="887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lsium (Ca)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6207120" y="4167360"/>
            <a:ext cx="88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rbon Aktif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2146320" y="5738760"/>
            <a:ext cx="5129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BI &amp; PRODUK  TURUNANNY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568440" y="5975280"/>
            <a:ext cx="8977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TUK MENJAGA KESELAMATAN DARI MAKANAN HARAM “SERTIFIKAT HALAL” DARI LPPOM MUI PUSAT/DAERAH SANGAT PENTING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Dengan Sertifikasi Halal, bahan-bahan yang tidak halal/diragukan, diganti dengan bahan-bahan yang Halal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37"/>
          <p:cNvSpPr/>
          <p:nvPr/>
        </p:nvSpPr>
        <p:spPr>
          <a:xfrm flipH="1" flipV="1">
            <a:off x="4863600" y="1787400"/>
            <a:ext cx="1116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38"/>
          <p:cNvSpPr/>
          <p:nvPr/>
        </p:nvSpPr>
        <p:spPr>
          <a:xfrm flipH="1" flipV="1">
            <a:off x="3044520" y="1996560"/>
            <a:ext cx="10414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39"/>
          <p:cNvSpPr/>
          <p:nvPr/>
        </p:nvSpPr>
        <p:spPr>
          <a:xfrm flipV="1">
            <a:off x="5762520" y="1995120"/>
            <a:ext cx="69084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40"/>
          <p:cNvSpPr/>
          <p:nvPr/>
        </p:nvSpPr>
        <p:spPr>
          <a:xfrm flipH="1" flipV="1">
            <a:off x="3511080" y="2771640"/>
            <a:ext cx="5749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3501720" y="3235320"/>
            <a:ext cx="5842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5762520" y="292572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43"/>
          <p:cNvSpPr/>
          <p:nvPr/>
        </p:nvSpPr>
        <p:spPr>
          <a:xfrm>
            <a:off x="5762520" y="3132000"/>
            <a:ext cx="435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44"/>
          <p:cNvSpPr/>
          <p:nvPr/>
        </p:nvSpPr>
        <p:spPr>
          <a:xfrm flipH="1" flipV="1">
            <a:off x="2239560" y="1534680"/>
            <a:ext cx="398520" cy="2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45"/>
          <p:cNvSpPr/>
          <p:nvPr/>
        </p:nvSpPr>
        <p:spPr>
          <a:xfrm flipH="1" flipV="1">
            <a:off x="2115720" y="1736280"/>
            <a:ext cx="52236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941480" y="1822320"/>
            <a:ext cx="69696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4875120" y="45799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48"/>
          <p:cNvSpPr/>
          <p:nvPr/>
        </p:nvSpPr>
        <p:spPr>
          <a:xfrm>
            <a:off x="4875120" y="509760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49"/>
          <p:cNvSpPr/>
          <p:nvPr/>
        </p:nvSpPr>
        <p:spPr>
          <a:xfrm flipH="1">
            <a:off x="3427560" y="4948200"/>
            <a:ext cx="98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50"/>
          <p:cNvSpPr/>
          <p:nvPr/>
        </p:nvSpPr>
        <p:spPr>
          <a:xfrm flipH="1">
            <a:off x="3395160" y="4948200"/>
            <a:ext cx="10191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51"/>
          <p:cNvSpPr/>
          <p:nvPr/>
        </p:nvSpPr>
        <p:spPr>
          <a:xfrm>
            <a:off x="5302080" y="4948200"/>
            <a:ext cx="98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52"/>
          <p:cNvSpPr/>
          <p:nvPr/>
        </p:nvSpPr>
        <p:spPr>
          <a:xfrm>
            <a:off x="5302080" y="4951440"/>
            <a:ext cx="95436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53"/>
          <p:cNvSpPr/>
          <p:nvPr/>
        </p:nvSpPr>
        <p:spPr>
          <a:xfrm flipV="1">
            <a:off x="7085160" y="1458720"/>
            <a:ext cx="741240" cy="37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54"/>
          <p:cNvSpPr/>
          <p:nvPr/>
        </p:nvSpPr>
        <p:spPr>
          <a:xfrm flipV="1">
            <a:off x="7062840" y="1630440"/>
            <a:ext cx="73188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55"/>
          <p:cNvSpPr/>
          <p:nvPr/>
        </p:nvSpPr>
        <p:spPr>
          <a:xfrm flipV="1">
            <a:off x="7074000" y="1817640"/>
            <a:ext cx="70164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56"/>
          <p:cNvSpPr/>
          <p:nvPr/>
        </p:nvSpPr>
        <p:spPr>
          <a:xfrm flipV="1">
            <a:off x="6585120" y="24080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57"/>
          <p:cNvSpPr/>
          <p:nvPr/>
        </p:nvSpPr>
        <p:spPr>
          <a:xfrm>
            <a:off x="7089840" y="3522600"/>
            <a:ext cx="57780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58"/>
          <p:cNvSpPr/>
          <p:nvPr/>
        </p:nvSpPr>
        <p:spPr>
          <a:xfrm>
            <a:off x="7062840" y="3519360"/>
            <a:ext cx="60480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59"/>
          <p:cNvSpPr/>
          <p:nvPr/>
        </p:nvSpPr>
        <p:spPr>
          <a:xfrm>
            <a:off x="7066080" y="3522600"/>
            <a:ext cx="64440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60"/>
          <p:cNvSpPr/>
          <p:nvPr/>
        </p:nvSpPr>
        <p:spPr>
          <a:xfrm>
            <a:off x="8515440" y="4121280"/>
            <a:ext cx="39996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61"/>
          <p:cNvSpPr/>
          <p:nvPr/>
        </p:nvSpPr>
        <p:spPr>
          <a:xfrm>
            <a:off x="8515440" y="4121280"/>
            <a:ext cx="42228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62"/>
          <p:cNvSpPr/>
          <p:nvPr/>
        </p:nvSpPr>
        <p:spPr>
          <a:xfrm>
            <a:off x="8515440" y="4121280"/>
            <a:ext cx="42840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63"/>
          <p:cNvSpPr/>
          <p:nvPr/>
        </p:nvSpPr>
        <p:spPr>
          <a:xfrm>
            <a:off x="8515440" y="4121280"/>
            <a:ext cx="414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64"/>
          <p:cNvSpPr/>
          <p:nvPr/>
        </p:nvSpPr>
        <p:spPr>
          <a:xfrm>
            <a:off x="8515440" y="4121280"/>
            <a:ext cx="39348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65"/>
          <p:cNvSpPr/>
          <p:nvPr/>
        </p:nvSpPr>
        <p:spPr>
          <a:xfrm flipH="1" flipV="1">
            <a:off x="1994040" y="2566800"/>
            <a:ext cx="63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66"/>
          <p:cNvSpPr/>
          <p:nvPr/>
        </p:nvSpPr>
        <p:spPr>
          <a:xfrm flipH="1">
            <a:off x="2075040" y="2728800"/>
            <a:ext cx="59040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67"/>
          <p:cNvSpPr/>
          <p:nvPr/>
        </p:nvSpPr>
        <p:spPr>
          <a:xfrm flipH="1">
            <a:off x="1999800" y="2719440"/>
            <a:ext cx="63828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68"/>
          <p:cNvSpPr/>
          <p:nvPr/>
        </p:nvSpPr>
        <p:spPr>
          <a:xfrm flipH="1">
            <a:off x="2034720" y="2738520"/>
            <a:ext cx="598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69"/>
          <p:cNvSpPr/>
          <p:nvPr/>
        </p:nvSpPr>
        <p:spPr>
          <a:xfrm flipH="1" flipV="1">
            <a:off x="676440" y="2168280"/>
            <a:ext cx="863280" cy="5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70"/>
          <p:cNvSpPr/>
          <p:nvPr/>
        </p:nvSpPr>
        <p:spPr>
          <a:xfrm flipH="1" flipV="1">
            <a:off x="725400" y="2547720"/>
            <a:ext cx="757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71"/>
          <p:cNvSpPr/>
          <p:nvPr/>
        </p:nvSpPr>
        <p:spPr>
          <a:xfrm flipH="1" flipV="1">
            <a:off x="618840" y="2333160"/>
            <a:ext cx="86364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72"/>
          <p:cNvSpPr/>
          <p:nvPr/>
        </p:nvSpPr>
        <p:spPr>
          <a:xfrm flipH="1" flipV="1">
            <a:off x="816120" y="2720520"/>
            <a:ext cx="70632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73"/>
          <p:cNvSpPr/>
          <p:nvPr/>
        </p:nvSpPr>
        <p:spPr>
          <a:xfrm>
            <a:off x="2638440" y="4476600"/>
            <a:ext cx="888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uah Bakmi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74"/>
          <p:cNvSpPr/>
          <p:nvPr/>
        </p:nvSpPr>
        <p:spPr>
          <a:xfrm>
            <a:off x="4875120" y="3753000"/>
            <a:ext cx="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 Box 75"/>
          <p:cNvSpPr/>
          <p:nvPr/>
        </p:nvSpPr>
        <p:spPr>
          <a:xfrm>
            <a:off x="6256440" y="960480"/>
            <a:ext cx="8874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PANKREA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76"/>
          <p:cNvSpPr/>
          <p:nvPr/>
        </p:nvSpPr>
        <p:spPr>
          <a:xfrm flipH="1" flipV="1">
            <a:off x="2036520" y="1247400"/>
            <a:ext cx="23842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77"/>
          <p:cNvSpPr/>
          <p:nvPr/>
        </p:nvSpPr>
        <p:spPr>
          <a:xfrm flipH="1" flipV="1">
            <a:off x="3255840" y="1285560"/>
            <a:ext cx="1619280" cy="19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Line 78"/>
          <p:cNvSpPr/>
          <p:nvPr/>
        </p:nvSpPr>
        <p:spPr>
          <a:xfrm flipV="1">
            <a:off x="4875120" y="1147320"/>
            <a:ext cx="138456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Line 79"/>
          <p:cNvSpPr/>
          <p:nvPr/>
        </p:nvSpPr>
        <p:spPr>
          <a:xfrm flipV="1">
            <a:off x="5316480" y="1274760"/>
            <a:ext cx="20163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Line 80"/>
          <p:cNvSpPr/>
          <p:nvPr/>
        </p:nvSpPr>
        <p:spPr>
          <a:xfrm>
            <a:off x="8327880" y="18399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81"/>
          <p:cNvSpPr/>
          <p:nvPr/>
        </p:nvSpPr>
        <p:spPr>
          <a:xfrm>
            <a:off x="8682120" y="1693800"/>
            <a:ext cx="1125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hat Ke Bawah!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8426520" y="375300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65160" y="3132000"/>
            <a:ext cx="112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hat Ke Bawah 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Line 84"/>
          <p:cNvSpPr/>
          <p:nvPr/>
        </p:nvSpPr>
        <p:spPr>
          <a:xfrm flipH="1">
            <a:off x="1101600" y="330516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Line 85"/>
          <p:cNvSpPr/>
          <p:nvPr/>
        </p:nvSpPr>
        <p:spPr>
          <a:xfrm flipV="1">
            <a:off x="7045200" y="2082600"/>
            <a:ext cx="74160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86"/>
          <p:cNvSpPr/>
          <p:nvPr/>
        </p:nvSpPr>
        <p:spPr>
          <a:xfrm flipV="1">
            <a:off x="7045200" y="2415960"/>
            <a:ext cx="73044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87"/>
          <p:cNvSpPr/>
          <p:nvPr/>
        </p:nvSpPr>
        <p:spPr>
          <a:xfrm flipV="1">
            <a:off x="7045200" y="2611080"/>
            <a:ext cx="71928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88"/>
          <p:cNvSpPr/>
          <p:nvPr/>
        </p:nvSpPr>
        <p:spPr>
          <a:xfrm flipV="1">
            <a:off x="7045200" y="2784600"/>
            <a:ext cx="69696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Line 89"/>
          <p:cNvSpPr/>
          <p:nvPr/>
        </p:nvSpPr>
        <p:spPr>
          <a:xfrm>
            <a:off x="7045200" y="2925720"/>
            <a:ext cx="71928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9080640" y="3666960"/>
            <a:ext cx="887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Rot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Biskui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Flavor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Line 91"/>
          <p:cNvSpPr/>
          <p:nvPr/>
        </p:nvSpPr>
        <p:spPr>
          <a:xfrm>
            <a:off x="8434440" y="3753000"/>
            <a:ext cx="58428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Line 92"/>
          <p:cNvSpPr/>
          <p:nvPr/>
        </p:nvSpPr>
        <p:spPr>
          <a:xfrm>
            <a:off x="8426520" y="3753000"/>
            <a:ext cx="59220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Text Box 93"/>
          <p:cNvSpPr/>
          <p:nvPr/>
        </p:nvSpPr>
        <p:spPr>
          <a:xfrm>
            <a:off x="7342200" y="4834080"/>
            <a:ext cx="8874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Juic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yrup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argarine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Text Box 94"/>
          <p:cNvSpPr/>
          <p:nvPr/>
        </p:nvSpPr>
        <p:spPr>
          <a:xfrm>
            <a:off x="1630440" y="4579920"/>
            <a:ext cx="88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Yoghur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Es Krim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enteg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Line 95"/>
          <p:cNvSpPr/>
          <p:nvPr/>
        </p:nvSpPr>
        <p:spPr>
          <a:xfrm flipH="1" flipV="1">
            <a:off x="2236320" y="4768920"/>
            <a:ext cx="4683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Line 96"/>
          <p:cNvSpPr/>
          <p:nvPr/>
        </p:nvSpPr>
        <p:spPr>
          <a:xfrm flipH="1" flipV="1">
            <a:off x="2250720" y="4928760"/>
            <a:ext cx="4539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97"/>
          <p:cNvSpPr/>
          <p:nvPr/>
        </p:nvSpPr>
        <p:spPr>
          <a:xfrm flipH="1">
            <a:off x="2244240" y="4929120"/>
            <a:ext cx="497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98"/>
          <p:cNvSpPr/>
          <p:nvPr/>
        </p:nvSpPr>
        <p:spPr>
          <a:xfrm>
            <a:off x="2604960" y="5408640"/>
            <a:ext cx="889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rsmallow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99"/>
          <p:cNvSpPr/>
          <p:nvPr/>
        </p:nvSpPr>
        <p:spPr>
          <a:xfrm>
            <a:off x="5367240" y="5464080"/>
            <a:ext cx="889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ll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 Box 100"/>
          <p:cNvSpPr/>
          <p:nvPr/>
        </p:nvSpPr>
        <p:spPr>
          <a:xfrm>
            <a:off x="3494160" y="5456160"/>
            <a:ext cx="8874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am/Sela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101"/>
          <p:cNvSpPr/>
          <p:nvPr/>
        </p:nvSpPr>
        <p:spPr>
          <a:xfrm>
            <a:off x="6156360" y="5408640"/>
            <a:ext cx="88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uddin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2"/>
          <p:cNvSpPr/>
          <p:nvPr/>
        </p:nvSpPr>
        <p:spPr>
          <a:xfrm>
            <a:off x="6207120" y="38656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uah Bakso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03"/>
          <p:cNvSpPr/>
          <p:nvPr/>
        </p:nvSpPr>
        <p:spPr>
          <a:xfrm flipH="1">
            <a:off x="3398760" y="4468680"/>
            <a:ext cx="99216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04"/>
          <p:cNvSpPr/>
          <p:nvPr/>
        </p:nvSpPr>
        <p:spPr>
          <a:xfrm flipV="1">
            <a:off x="5302080" y="4324320"/>
            <a:ext cx="100656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105"/>
          <p:cNvSpPr/>
          <p:nvPr/>
        </p:nvSpPr>
        <p:spPr>
          <a:xfrm>
            <a:off x="5286240" y="4416480"/>
            <a:ext cx="99540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Text Box 106"/>
          <p:cNvSpPr/>
          <p:nvPr/>
        </p:nvSpPr>
        <p:spPr>
          <a:xfrm>
            <a:off x="7300800" y="4167360"/>
            <a:ext cx="10270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Sus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Minuman Lain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Pasta Gig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107"/>
          <p:cNvSpPr/>
          <p:nvPr/>
        </p:nvSpPr>
        <p:spPr>
          <a:xfrm flipV="1">
            <a:off x="7012080" y="4335120"/>
            <a:ext cx="35856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108"/>
          <p:cNvSpPr/>
          <p:nvPr/>
        </p:nvSpPr>
        <p:spPr>
          <a:xfrm flipV="1">
            <a:off x="7020000" y="4478400"/>
            <a:ext cx="358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109"/>
          <p:cNvSpPr/>
          <p:nvPr/>
        </p:nvSpPr>
        <p:spPr>
          <a:xfrm>
            <a:off x="7020000" y="4667400"/>
            <a:ext cx="36360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Line 110"/>
          <p:cNvSpPr/>
          <p:nvPr/>
        </p:nvSpPr>
        <p:spPr>
          <a:xfrm>
            <a:off x="6996240" y="4968720"/>
            <a:ext cx="46008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Line 111"/>
          <p:cNvSpPr/>
          <p:nvPr/>
        </p:nvSpPr>
        <p:spPr>
          <a:xfrm>
            <a:off x="6996240" y="4976640"/>
            <a:ext cx="47448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Line 112"/>
          <p:cNvSpPr/>
          <p:nvPr/>
        </p:nvSpPr>
        <p:spPr>
          <a:xfrm>
            <a:off x="6996240" y="4968720"/>
            <a:ext cx="415800" cy="4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113"/>
          <p:cNvSpPr/>
          <p:nvPr/>
        </p:nvSpPr>
        <p:spPr>
          <a:xfrm flipV="1">
            <a:off x="5278320" y="4019040"/>
            <a:ext cx="9860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Line 114"/>
          <p:cNvSpPr/>
          <p:nvPr/>
        </p:nvSpPr>
        <p:spPr>
          <a:xfrm flipH="1" flipV="1">
            <a:off x="3429000" y="4331880"/>
            <a:ext cx="95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Line 115"/>
          <p:cNvSpPr/>
          <p:nvPr/>
        </p:nvSpPr>
        <p:spPr>
          <a:xfrm flipH="1">
            <a:off x="3428640" y="5097600"/>
            <a:ext cx="14461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Line 116"/>
          <p:cNvSpPr/>
          <p:nvPr/>
        </p:nvSpPr>
        <p:spPr>
          <a:xfrm flipH="1">
            <a:off x="3973680" y="5097600"/>
            <a:ext cx="90144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Line 117"/>
          <p:cNvSpPr/>
          <p:nvPr/>
        </p:nvSpPr>
        <p:spPr>
          <a:xfrm>
            <a:off x="4875120" y="5097600"/>
            <a:ext cx="8892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Line 118"/>
          <p:cNvSpPr/>
          <p:nvPr/>
        </p:nvSpPr>
        <p:spPr>
          <a:xfrm>
            <a:off x="4875120" y="5097600"/>
            <a:ext cx="171144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Line 119"/>
          <p:cNvSpPr/>
          <p:nvPr/>
        </p:nvSpPr>
        <p:spPr>
          <a:xfrm flipV="1">
            <a:off x="3191040" y="607680"/>
            <a:ext cx="479160" cy="6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120"/>
          <p:cNvSpPr/>
          <p:nvPr/>
        </p:nvSpPr>
        <p:spPr>
          <a:xfrm>
            <a:off x="6207120" y="48744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ul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121"/>
          <p:cNvSpPr/>
          <p:nvPr/>
        </p:nvSpPr>
        <p:spPr>
          <a:xfrm>
            <a:off x="852480" y="3753000"/>
            <a:ext cx="2268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 Fermentasi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ontoh untuk  pembuatan Vitamin),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Line 122"/>
          <p:cNvSpPr/>
          <p:nvPr/>
        </p:nvSpPr>
        <p:spPr>
          <a:xfrm flipH="1">
            <a:off x="2060280" y="3548160"/>
            <a:ext cx="94932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Line 123"/>
          <p:cNvSpPr/>
          <p:nvPr/>
        </p:nvSpPr>
        <p:spPr>
          <a:xfrm>
            <a:off x="3000240" y="3546360"/>
            <a:ext cx="31464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Line 124"/>
          <p:cNvSpPr/>
          <p:nvPr/>
        </p:nvSpPr>
        <p:spPr>
          <a:xfrm flipH="1">
            <a:off x="2112480" y="1787400"/>
            <a:ext cx="49212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75240" y="3890880"/>
            <a:ext cx="88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cesoris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Line 126"/>
          <p:cNvSpPr/>
          <p:nvPr/>
        </p:nvSpPr>
        <p:spPr>
          <a:xfrm flipH="1" flipV="1">
            <a:off x="4159080" y="4140360"/>
            <a:ext cx="22248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Text Box 127"/>
          <p:cNvSpPr/>
          <p:nvPr/>
        </p:nvSpPr>
        <p:spPr>
          <a:xfrm>
            <a:off x="1824120" y="495360"/>
            <a:ext cx="887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a Fermentas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128"/>
          <p:cNvSpPr/>
          <p:nvPr/>
        </p:nvSpPr>
        <p:spPr>
          <a:xfrm>
            <a:off x="239760" y="1684440"/>
            <a:ext cx="887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Casing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Line 129"/>
          <p:cNvSpPr/>
          <p:nvPr/>
        </p:nvSpPr>
        <p:spPr>
          <a:xfrm flipH="1" flipV="1">
            <a:off x="1028520" y="1890720"/>
            <a:ext cx="493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130"/>
          <p:cNvSpPr/>
          <p:nvPr/>
        </p:nvSpPr>
        <p:spPr>
          <a:xfrm flipH="1">
            <a:off x="2074680" y="2738520"/>
            <a:ext cx="54108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131"/>
          <p:cNvSpPr/>
          <p:nvPr/>
        </p:nvSpPr>
        <p:spPr>
          <a:xfrm flipV="1">
            <a:off x="16207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132"/>
          <p:cNvSpPr/>
          <p:nvPr/>
        </p:nvSpPr>
        <p:spPr>
          <a:xfrm flipV="1">
            <a:off x="297504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33"/>
          <p:cNvSpPr/>
          <p:nvPr/>
        </p:nvSpPr>
        <p:spPr>
          <a:xfrm flipH="1" flipV="1">
            <a:off x="2507760" y="856800"/>
            <a:ext cx="49212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34"/>
          <p:cNvSpPr/>
          <p:nvPr/>
        </p:nvSpPr>
        <p:spPr>
          <a:xfrm flipV="1">
            <a:off x="66499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35"/>
          <p:cNvSpPr/>
          <p:nvPr/>
        </p:nvSpPr>
        <p:spPr>
          <a:xfrm flipV="1">
            <a:off x="765828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136"/>
          <p:cNvSpPr/>
          <p:nvPr/>
        </p:nvSpPr>
        <p:spPr>
          <a:xfrm>
            <a:off x="157320" y="1374840"/>
            <a:ext cx="1083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han Kosmetik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137"/>
          <p:cNvSpPr/>
          <p:nvPr/>
        </p:nvSpPr>
        <p:spPr>
          <a:xfrm flipH="1" flipV="1">
            <a:off x="1087560" y="1617840"/>
            <a:ext cx="434880" cy="93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Text Box 138"/>
          <p:cNvSpPr/>
          <p:nvPr/>
        </p:nvSpPr>
        <p:spPr>
          <a:xfrm>
            <a:off x="3483000" y="442800"/>
            <a:ext cx="887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se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eju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ey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aktos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139"/>
          <p:cNvSpPr/>
          <p:nvPr/>
        </p:nvSpPr>
        <p:spPr>
          <a:xfrm>
            <a:off x="3138480" y="657360"/>
            <a:ext cx="48420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40"/>
          <p:cNvSpPr/>
          <p:nvPr/>
        </p:nvSpPr>
        <p:spPr>
          <a:xfrm>
            <a:off x="3160800" y="657360"/>
            <a:ext cx="4381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Line 141"/>
          <p:cNvSpPr/>
          <p:nvPr/>
        </p:nvSpPr>
        <p:spPr>
          <a:xfrm>
            <a:off x="3160800" y="657360"/>
            <a:ext cx="46188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7045200" y="2925720"/>
            <a:ext cx="68760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143"/>
          <p:cNvSpPr/>
          <p:nvPr/>
        </p:nvSpPr>
        <p:spPr>
          <a:xfrm>
            <a:off x="7045200" y="2925720"/>
            <a:ext cx="69696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144"/>
          <p:cNvSpPr/>
          <p:nvPr/>
        </p:nvSpPr>
        <p:spPr>
          <a:xfrm>
            <a:off x="8524800" y="4167360"/>
            <a:ext cx="357120" cy="14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45"/>
          <p:cNvSpPr/>
          <p:nvPr/>
        </p:nvSpPr>
        <p:spPr>
          <a:xfrm>
            <a:off x="7342200" y="5511960"/>
            <a:ext cx="887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Cake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 Biskuit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Line 146"/>
          <p:cNvSpPr/>
          <p:nvPr/>
        </p:nvSpPr>
        <p:spPr>
          <a:xfrm>
            <a:off x="6946920" y="5303880"/>
            <a:ext cx="4935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Line 147"/>
          <p:cNvSpPr/>
          <p:nvPr/>
        </p:nvSpPr>
        <p:spPr>
          <a:xfrm>
            <a:off x="6946920" y="5303880"/>
            <a:ext cx="49356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148"/>
          <p:cNvSpPr/>
          <p:nvPr/>
        </p:nvSpPr>
        <p:spPr>
          <a:xfrm>
            <a:off x="227160" y="4167360"/>
            <a:ext cx="2269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mpuran macam-macam  Makana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Line 149"/>
          <p:cNvSpPr/>
          <p:nvPr/>
        </p:nvSpPr>
        <p:spPr>
          <a:xfrm flipH="1">
            <a:off x="2309760" y="43387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Line 150"/>
          <p:cNvSpPr/>
          <p:nvPr/>
        </p:nvSpPr>
        <p:spPr>
          <a:xfrm flipH="1">
            <a:off x="632880" y="3546360"/>
            <a:ext cx="23670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 Box 151"/>
          <p:cNvSpPr/>
          <p:nvPr/>
        </p:nvSpPr>
        <p:spPr>
          <a:xfrm>
            <a:off x="0" y="3855960"/>
            <a:ext cx="112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sis (dijeroan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 Box 152"/>
          <p:cNvSpPr/>
          <p:nvPr/>
        </p:nvSpPr>
        <p:spPr>
          <a:xfrm>
            <a:off x="4424400" y="960480"/>
            <a:ext cx="8906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MPEDU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 Box 153"/>
          <p:cNvSpPr/>
          <p:nvPr/>
        </p:nvSpPr>
        <p:spPr>
          <a:xfrm>
            <a:off x="4424400" y="488880"/>
            <a:ext cx="890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auri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Line 154"/>
          <p:cNvSpPr/>
          <p:nvPr/>
        </p:nvSpPr>
        <p:spPr>
          <a:xfrm flipV="1">
            <a:off x="4875120" y="75384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155"/>
          <p:cNvSpPr/>
          <p:nvPr/>
        </p:nvSpPr>
        <p:spPr>
          <a:xfrm flipV="1">
            <a:off x="4875120" y="12711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Line 156"/>
          <p:cNvSpPr/>
          <p:nvPr/>
        </p:nvSpPr>
        <p:spPr>
          <a:xfrm>
            <a:off x="7066080" y="352260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9" name="Picture 157" descr="pom-5"/>
          <p:cNvPicPr/>
          <p:nvPr/>
        </p:nvPicPr>
        <p:blipFill>
          <a:blip r:embed="rId1"/>
          <a:stretch/>
        </p:blipFill>
        <p:spPr>
          <a:xfrm>
            <a:off x="3990960" y="2016000"/>
            <a:ext cx="1662120" cy="1332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16"/>
          <p:cNvSpPr/>
          <p:nvPr/>
        </p:nvSpPr>
        <p:spPr>
          <a:xfrm>
            <a:off x="41400" y="4572000"/>
            <a:ext cx="15793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00"/>
                </a:solidFill>
                <a:uFillTx/>
                <a:latin typeface="Arial"/>
              </a:rPr>
              <a:t>Bab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. Berkembang biak lebih dari 14 ekor (sapi 1, kambing1,2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. Pakannya apa saja termasuk kotorannya, bangkainya dan anaknya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1" name="Picture 158" descr="logo-mui"/>
          <p:cNvPicPr/>
          <p:nvPr/>
        </p:nvPicPr>
        <p:blipFill>
          <a:blip r:embed="rId2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D370C810-DBDF-4B1F-9C42-E070CB3834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BALIK EMPUKNYA JEL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500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han Utama: Agar-agar, Karagenan, atau Koniya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fat: Hidrokoloid, pada suhu tinggi akan mengembang, air masuk ke dalamnya. Ketika dingin molekul air akan terjebak di dalam ny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ik Kritis: Gelatin, Flavo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594560" y="6629400"/>
            <a:ext cx="231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 </a:t>
            </a:r>
            <a:r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 </a:t>
            </a:r>
            <a:fld id="{A911722D-294B-4DEA-BAE7-CE5C02F6F53B}" type="slidenum"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6" name="Picture 15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DATA\Kingston\Brownies\Contoh\jelly1.jpg"/>
          <p:cNvPicPr/>
          <p:nvPr/>
        </p:nvPicPr>
        <p:blipFill>
          <a:blip r:embed="rId2"/>
          <a:stretch/>
        </p:blipFill>
        <p:spPr>
          <a:xfrm>
            <a:off x="5943600" y="4038480"/>
            <a:ext cx="269892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en (keny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ju (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78487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000" spc="-1" strike="noStrike">
                <a:solidFill>
                  <a:srgbClr val="ffff00"/>
                </a:solidFill>
                <a:latin typeface="Garamond"/>
              </a:rPr>
              <a:t>  </a:t>
            </a:r>
            <a:fld id="{6A54A421-BC72-4F72-B461-0D5639839A1F}" type="slidenum">
              <a:rPr b="0" i="1" lang="en-US" sz="1200" spc="-1" strike="noStrike">
                <a:solidFill>
                  <a:srgbClr val="ffff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6" descr="C:\Users\Toshiba\Downloads\permen.jpg"/>
          <p:cNvPicPr/>
          <p:nvPr/>
        </p:nvPicPr>
        <p:blipFill>
          <a:blip r:embed="rId2"/>
          <a:stretch/>
        </p:blipFill>
        <p:spPr>
          <a:xfrm>
            <a:off x="3809880" y="2362320"/>
            <a:ext cx="2691000" cy="2057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Toshiba\Downloads\keju.jpg"/>
          <p:cNvPicPr/>
          <p:nvPr/>
        </p:nvPicPr>
        <p:blipFill>
          <a:blip r:embed="rId3"/>
          <a:stretch/>
        </p:blipFill>
        <p:spPr>
          <a:xfrm>
            <a:off x="6553080" y="449568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kla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pelembut / penghalu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ghurt (memperbaiki tekstur, pelembut, 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7" descr="C:\Users\Toshiba\Downloads\yoghurt.jpg"/>
          <p:cNvPicPr/>
          <p:nvPr/>
        </p:nvPicPr>
        <p:blipFill>
          <a:blip r:embed="rId1"/>
          <a:stretch/>
        </p:blipFill>
        <p:spPr>
          <a:xfrm>
            <a:off x="5105520" y="495288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DATA\Kingston\Brownies\Contoh\cinnamon pralines.jpg"/>
          <p:cNvPicPr/>
          <p:nvPr/>
        </p:nvPicPr>
        <p:blipFill>
          <a:blip r:embed="rId2"/>
          <a:stretch/>
        </p:blipFill>
        <p:spPr>
          <a:xfrm>
            <a:off x="2057400" y="26668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logo-mui"/>
          <p:cNvPicPr/>
          <p:nvPr/>
        </p:nvPicPr>
        <p:blipFill>
          <a:blip r:embed="rId3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7587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fld id="{23CB1022-9C9B-40F7-978D-783443A5A3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0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ELATIN DALAM PRODUK PANG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 pangan yang menggunakan gela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Kri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encegah terbentuknya kristal es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lembut, penstab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gkang Kapsul  (tekstur lembut, mudah disera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mbung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3" descr="C:\Users\Toshiba\Downloads\cangkang kapsul.jpg"/>
          <p:cNvPicPr/>
          <p:nvPr/>
        </p:nvPicPr>
        <p:blipFill>
          <a:blip r:embed="rId1"/>
          <a:stretch/>
        </p:blipFill>
        <p:spPr>
          <a:xfrm>
            <a:off x="5257800" y="4952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Toshiba\Downloads\Ice cream.jpg"/>
          <p:cNvPicPr/>
          <p:nvPr/>
        </p:nvPicPr>
        <p:blipFill>
          <a:blip r:embed="rId2"/>
          <a:stretch/>
        </p:blipFill>
        <p:spPr>
          <a:xfrm>
            <a:off x="1371600" y="2819520"/>
            <a:ext cx="260028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logo-mui"/>
          <p:cNvPicPr/>
          <p:nvPr/>
        </p:nvPicPr>
        <p:blipFill>
          <a:blip r:embed="rId3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7587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fld id="{F4F7E0EB-76D8-4E9A-A94F-BE10622BC9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ENIS-JENIS MIKOL/MIR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3 –   5 %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9 – 18 %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ggur Oba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9 – 1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qu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24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sk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an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v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a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5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h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n. 38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dk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. 40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3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8A744CC3-2A23-45BA-9FD6-2BF0B0DAE3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AK DALAM MASAK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500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nis Arak : Arak Putih (Pek Be Ciu), Arak Merah (Ang Ciu), Arak Mie (Kue Low Ciu), Arak Gentong, d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Arak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ster (penguat Rasa &amp; Aro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fat Addictive (kecandua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962840" y="6553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B6FB7112-6C16-4DC8-89AB-4D2C8396D2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3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tumis kangkung"/>
          <p:cNvPicPr/>
          <p:nvPr/>
        </p:nvPicPr>
        <p:blipFill>
          <a:blip r:embed="rId2"/>
          <a:stretch/>
        </p:blipFill>
        <p:spPr>
          <a:xfrm>
            <a:off x="6248520" y="388620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8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AM AMINO DALAM MINUM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oh: Minuman Berener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Asam Amino: Meningkatkan metabolisme tubuh dan meningkatkan pembakaran energi tubu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han : berasal dari empedu atau pankreas hewan, atau diperoleh ekstraksi seperti bulu unggas, rambut manusia dan juga biji jagu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886880" y="6553080"/>
            <a:ext cx="201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i="1" lang="en-US" sz="1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4A19B4B3-D330-4ED2-8CB5-7849EEB078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HAMER TERSELUB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oh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uit Punch atau Mix Juice berasal dari jus buah atau campuran beberapa bua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Kopi, Cappuccino,  Moccaccin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Cokla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ck Forest (ditambahkan Rh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ramisu (ditambahkan Kahlua &amp; Tia Mar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 untuk Puding (ditambahkan Rhu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gsi : Penguat Rasa (Boost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8039160" y="6629400"/>
            <a:ext cx="186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569D1DB7-EB42-49C7-A38F-068CA1B0EC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2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black forest"/>
          <p:cNvPicPr/>
          <p:nvPr/>
        </p:nvPicPr>
        <p:blipFill>
          <a:blip r:embed="rId2"/>
          <a:stretch/>
        </p:blipFill>
        <p:spPr>
          <a:xfrm>
            <a:off x="7467480" y="4800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guava-fruit-punch"/>
          <p:cNvPicPr/>
          <p:nvPr/>
        </p:nvPicPr>
        <p:blipFill>
          <a:blip r:embed="rId3"/>
          <a:stretch/>
        </p:blipFill>
        <p:spPr>
          <a:xfrm>
            <a:off x="8153280" y="2666880"/>
            <a:ext cx="158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GAIMANA MEMILIH PRODUK HALAL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62120" y="2209680"/>
            <a:ext cx="840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Logo Halal MUI pada kemasan prod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Sertifikat Halal yang dikeluarkan 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lihat Daftar Produk Bersertifikat Halal pada Jurnal Halal atau di website : www.halalmui.org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tanya lewat email ke 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lal_jateng@yahoo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Picture 18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988B3627-FC76-4D08-8191-23B00E048E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“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RAND TERKENAL BELUM TENTU HALAL ?”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eh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s. Ir. H. Mochammad Iman, M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828800" y="5638680"/>
            <a:ext cx="6324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sjid An-Nur Lamper Tengah Raya Semarang, 1 Oktober 20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80773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DAB155F0-738C-457F-825A-B1814CE862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O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71" name="Picture 7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3580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22B84FE1-2A3E-473C-8254-EEB612C5AE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3581280" y="1523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"/>
          <p:cNvPicPr/>
          <p:nvPr/>
        </p:nvPicPr>
        <p:blipFill>
          <a:blip r:embed="rId5"/>
          <a:stretch/>
        </p:blipFill>
        <p:spPr>
          <a:xfrm>
            <a:off x="6553080" y="4114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"/>
          <p:cNvPicPr/>
          <p:nvPr/>
        </p:nvPicPr>
        <p:blipFill>
          <a:blip r:embed="rId6"/>
          <a:stretch/>
        </p:blipFill>
        <p:spPr>
          <a:xfrm>
            <a:off x="3505320" y="41148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C:\DATA\Canon 2011\2011_12_16\IMG_1455.JPG"/>
          <p:cNvPicPr/>
          <p:nvPr/>
        </p:nvPicPr>
        <p:blipFill>
          <a:blip r:embed="rId7"/>
          <a:stretch/>
        </p:blipFill>
        <p:spPr>
          <a:xfrm>
            <a:off x="6705720" y="1523880"/>
            <a:ext cx="2666880" cy="21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ERTIFIKAT HALAL DI DUNI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81" name="Picture 4" descr="SH3"/>
          <p:cNvPicPr/>
          <p:nvPr/>
        </p:nvPicPr>
        <p:blipFill>
          <a:blip r:embed="rId1"/>
          <a:stretch/>
        </p:blipFill>
        <p:spPr>
          <a:xfrm>
            <a:off x="6629400" y="1981080"/>
            <a:ext cx="3067200" cy="4191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sh10"/>
          <p:cNvPicPr/>
          <p:nvPr/>
        </p:nvPicPr>
        <p:blipFill>
          <a:blip r:embed="rId2"/>
          <a:stretch/>
        </p:blipFill>
        <p:spPr>
          <a:xfrm>
            <a:off x="3429000" y="1981080"/>
            <a:ext cx="3013200" cy="4191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sh8"/>
          <p:cNvPicPr/>
          <p:nvPr/>
        </p:nvPicPr>
        <p:blipFill>
          <a:blip r:embed="rId3"/>
          <a:stretch/>
        </p:blipFill>
        <p:spPr>
          <a:xfrm>
            <a:off x="380880" y="1981080"/>
            <a:ext cx="2881440" cy="4191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logo-mui"/>
          <p:cNvPicPr/>
          <p:nvPr/>
        </p:nvPicPr>
        <p:blipFill>
          <a:blip r:embed="rId4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DB2A66E-504C-425C-B53E-DA5F6EB301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8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RIMA  KASI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87" name="Picture 9" descr="sh15"/>
          <p:cNvPicPr/>
          <p:nvPr/>
        </p:nvPicPr>
        <p:blipFill>
          <a:blip r:embed="rId1"/>
          <a:stretch/>
        </p:blipFill>
        <p:spPr>
          <a:xfrm>
            <a:off x="3276720" y="2133720"/>
            <a:ext cx="3039840" cy="2787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276720" y="5029200"/>
            <a:ext cx="305424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PPOM MUI JAWA TENGA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12" descr="logo-mui"/>
          <p:cNvPicPr/>
          <p:nvPr/>
        </p:nvPicPr>
        <p:blipFill>
          <a:blip r:embed="rId2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AA897906-A012-4F97-A324-D3739F0BC1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DA APA DENGAN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9372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tus Manusia sebagai makhluk dan hamba Allah seringkali bia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kna kehidupan hakikatnya adalah berserah diri kepada Allah dengan mentauhidkan-Nya, tunduk kepada-Nya dengan penuh ketaatan, serta berlepas diri dari kesyirika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abda Rasulullah: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 “Akan datang kepada manusia suatu masa/zaman, yang ketika seseorang tidak lagi memperdulikan sesuatu yang diraihnya, apakah dari hasil yang Halal atau dari hasil yang haram.”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(HR. Al-Bukhari no.2059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89EDC1BE-02DA-44DF-825F-D174FDF52A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NENTUAN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944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ndar Halal adalah apa yang dihalalkan oleh Allah dan Rasul-Nya. Dan Standar Haram adalah apa yang diharamkan oleh Allah dan Rasul-Nya. Dengan demikian, yang berhak menentukan Halal dan Haram itu adalah Allah dan Rasul-Nya.  Mengapa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arena Allah adalah Pencipta, Pengatur dan Penguasa Alam Semesta. Allah Maha Mengetahui segala yang baik dan yang buruk bagi para hambanya. Sehingga Dia-lah yang berhak untuk menentukan apa yang Halal dan yang Haram bagi para hamba-Nya, serta memilihkan apa yang terbaik bagi kehidupan mereka sesuai dengan hikmah dan kasih sayang-Nya yang sempurn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FDBB0B1-D939-41AD-9C39-0D3EE75261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NFAAT MENGETAHUI HALAL DAN HARAM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944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sulullah mengingatkan umatnya bahwa makanan, minuman dan pakaian yang diperoleh dari hasil yang haram sangat besar pengaruhnya bagi kehidupan dan agama seseora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Rasulullah menyebutkan tentang seorang laki-laki yang sedang melakukan perjalanan jauh (safar) dalam kondisi rambutnya acak-acakan dan tubuhnya dipenuhi debu, lalu menengadahkan tangannya ke langit seraya berdoa, Ya Rabbi, Ya Rabbi ! Sementara itu, makanannya dari hasil yang haram, minumannya dari dari hasil yang haram, pakaiannya dari hasil yang haram, dan badannya tumbuh berkembang dari hasil yang haram.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ka mana mungkin doanya akan dikabulkan oleh Allah?”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(HR. Muslim no. 1015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238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C6ECC92B-EE72-4ABB-8AF9-2B8A37E961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SEP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9760" y="1599840"/>
            <a:ext cx="9194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engertian makanan halal dan minuman halal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secara zat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memproses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penyembeliha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 cara memperoleh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uman yang tidak diharamk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1910F002-A88C-47CF-876A-0F0AC8815D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SEP HAL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9760" y="1752120"/>
            <a:ext cx="927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alam Syariat Islam hanya ada pengerti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am ( Tidak halal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agukan kehalalan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dak ada pengertian 100% halal 90% halal, d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5"/>
          <p:cNvSpPr/>
          <p:nvPr/>
        </p:nvSpPr>
        <p:spPr>
          <a:xfrm>
            <a:off x="80010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7FB919EE-74C3-4C42-A493-D5FF50A4D4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RKARA SYUBHAT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Sesungguhnya yang Halal itu jelas dan yang Haram pun telah jelas. Diantara keduanya ada perkara-perkara syubhat (samar) yang tidak diketahui orang banyak.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ka barangs iapa menjauhi perkara-perkara yang syubhat (samar) sungguh dia telah melakukan penjagaan terhadap agama dan kehormatannya. Barang siapa terjatuh dalam perkara-perkara  yang syubhat (samar), niscaya dia akan terjatuh dalam sesuatu yang Haram.”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HR.Bukhari no.52 dan Muslim no. 1599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5"/>
          <p:cNvSpPr/>
          <p:nvPr/>
        </p:nvSpPr>
        <p:spPr>
          <a:xfrm>
            <a:off x="8077320" y="65530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41C0E78-696B-4B21-9FC3-7C9E7BB83F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007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JENIS MAKANAN YANG DIHARAMK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240" y="1599840"/>
            <a:ext cx="9410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ANAN tidak halal / haram adala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gk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r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bi dan turunannya (lihat lampira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wan yang tidak disembelih sesuai dengan syariat Isl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wan yang disembelih untuk dipersembahkan kepada selain All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UMAN tidak halal / haram adalah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hamr (beralkohol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15" descr="logo-mui"/>
          <p:cNvPicPr/>
          <p:nvPr/>
        </p:nvPicPr>
        <p:blipFill>
          <a:blip r:embed="rId1"/>
          <a:stretch/>
        </p:blipFill>
        <p:spPr>
          <a:xfrm>
            <a:off x="8502480" y="304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ir"/>
          <p:cNvPicPr/>
          <p:nvPr/>
        </p:nvPicPr>
        <p:blipFill>
          <a:blip r:embed="rId2"/>
          <a:stretch/>
        </p:blipFill>
        <p:spPr>
          <a:xfrm>
            <a:off x="6477120" y="5029200"/>
            <a:ext cx="2514600" cy="145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bintang_zero"/>
          <p:cNvPicPr/>
          <p:nvPr/>
        </p:nvPicPr>
        <p:blipFill>
          <a:blip r:embed="rId3"/>
          <a:stretch/>
        </p:blipFill>
        <p:spPr>
          <a:xfrm>
            <a:off x="388620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pig"/>
          <p:cNvPicPr/>
          <p:nvPr/>
        </p:nvPicPr>
        <p:blipFill>
          <a:blip r:embed="rId4"/>
          <a:stretch/>
        </p:blipFill>
        <p:spPr>
          <a:xfrm>
            <a:off x="7772400" y="19810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5"/>
          <p:cNvSpPr/>
          <p:nvPr/>
        </p:nvSpPr>
        <p:spPr>
          <a:xfrm>
            <a:off x="80773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00"/>
                </a:solidFill>
                <a:latin typeface="Garamond"/>
              </a:rPr>
              <a:t>LPPOM MUI JAWA TENGAH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fld id="{47548C51-1E0A-4A26-BE5B-709D1F94F4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6:19:59Z</dcterms:created>
  <dc:creator>KF-PA1</dc:creator>
  <dc:description/>
  <dc:language>en-US</dc:language>
  <cp:lastModifiedBy>fiberglass</cp:lastModifiedBy>
  <dcterms:modified xsi:type="dcterms:W3CDTF">2016-10-01T06:45:03Z</dcterms:modified>
  <cp:revision>211</cp:revision>
  <dc:subject/>
  <dc:title>MAJELIS ULAMA INDONESIA BALI</dc:title>
</cp:coreProperties>
</file>