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7.jpeg" ContentType="image/jpeg"/>
  <Override PartName="/ppt/media/image10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0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9704-0920-4F2A-825F-57226972238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usic" TargetMode="External"/><Relationship Id="rId2" Type="http://schemas.openxmlformats.org/officeDocument/2006/relationships/hyperlink" Target="http://en.wikipedia.org/wiki/Help:Pronunciation" TargetMode="External"/><Relationship Id="rId3" Type="http://schemas.openxmlformats.org/officeDocument/2006/relationships/slide" Target=""/><Relationship Id="rId4" Type="http://schemas.openxmlformats.org/officeDocument/2006/relationships/hyperlink" Target="http://en.wikipedia.org/wiki/Musical_note" TargetMode="External"/><Relationship Id="rId5" Type="http://schemas.openxmlformats.org/officeDocument/2006/relationships/hyperlink" Target="http://en.wikipedia.org/wiki/Musical_instrument" TargetMode="External"/><Relationship Id="rId6" Type="http://schemas.openxmlformats.org/officeDocument/2006/relationships/hyperlink" Target="http://en.wikipedia.org/wiki/Psychoacoustics" TargetMode="External"/><Relationship Id="rId7" Type="http://schemas.openxmlformats.org/officeDocument/2006/relationships/slide" Target="../slides/slide34.xml"/><Relationship Id="rId8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Times New Roman"/>
              </a:rPr>
              <a:t>Intensity: </a:t>
            </a:r>
            <a:r>
              <a:rPr b="0" lang="ar-LB" sz="12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شد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chestra: </a:t>
            </a:r>
            <a:r>
              <a:rPr b="0" lang="ar-LB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ركستر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/8=1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rnet media 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[1] originally called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ME 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fter MIME and sometimes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ent-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fter the name of a header in several protocols whose value is such a type, is a two-part identifier for file formats on the Inter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process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WA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M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MI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bre (“sound color”, or instrument, e.g., flute, cello,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us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mb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ronounc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/ˈtam-bər'/, tɪm.bər lik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i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r ˈtæm(brə),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[1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rom Fr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mb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ɛ̃bʁ) is the quality of a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musical no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sound that distinguishes different types of sound production, such as voices or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usical instrum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The physical characteristics of sound that mediate the perception of timbre include spectrum and envelope. Timbre is also known in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sychoacoust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nd qual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nd col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imbre is what, with a little practice, people use to distinguish the saxophone from the trumpet in a jazz group, even if both instruments are playing notes at the same pitch and amplitude. Timbre has been called "the psychoacoustician's multidimensional wastebasket category" [2] as it can denote many apparently unrelated aspects of a s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EC45-FEF2-4F06-95BA-65AFD78E917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830B-79E3-46F2-A45F-B75712A0009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15D6-440E-4D90-86D8-74A12362C58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Times New Roman"/>
              </a:rPr>
              <a:t>Pitch </a:t>
            </a:r>
            <a:r>
              <a:rPr b="1" i="1" lang="ar-LB" sz="1200" spc="-1" strike="noStrike">
                <a:solidFill>
                  <a:srgbClr val="003399"/>
                </a:solidFill>
                <a:latin typeface="Times New Roman"/>
                <a:cs typeface="Times New Roman"/>
              </a:rPr>
              <a:t>حدة الصوت</a:t>
            </a:r>
            <a:r>
              <a:rPr b="1" i="1" lang="ar-LB" sz="1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B8A-88D4-4D20-8DE8-DE05B775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8484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6AA-B1A6-4416-BE14-3D4AAC94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088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5EE-CC37-4936-AD55-E6A5BF3F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160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68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160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68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54F-BBE7-4E00-B6C5-A8BD87FA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8D15-4B46-4050-87B2-06C033DA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6CDF-B748-4331-9146-96A32D8B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BDDB-AF7A-4E8F-9691-D1A05E11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1276-B74F-4B4C-A13A-C998BE49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AE33-99FC-41C8-B660-199CD3CF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761F-8405-464D-8260-FC615DDE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96B2-5F35-47BF-9D99-B6085EAC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999-191F-46CD-A5BA-7E5282E0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088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DBEF-D07F-401B-99FF-591C4B31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9955-7D9F-469F-8500-7E7FD189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398484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2A0F-059B-4301-825C-EFE95151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088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C191-034E-4229-AC0C-6E03C346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160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68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160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68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0CFD-C20B-48D0-9049-8669554C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052-2F17-4BEE-99FD-FD23817D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D41-34A3-4377-B46A-6ED1DF3B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5A3-CFA1-48B0-9B50-25A3A25D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520-2244-4104-9BBB-0498CC6C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808-FA73-485D-95D3-BB8F2F34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088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15D-CA80-47BC-A8B0-901B8049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A0C-6375-4B7D-8013-858C719C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12A0-BC81-428C-80AA-E294AC7E7229}" type="slidenum">
              <a:rPr b="0" lang="ar-SA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348F-8644-413C-91B0-CE5D0172F5CD}" type="slidenum">
              <a:rPr b="0" lang="ar-SA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66ff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Multimedia Systems and Applications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73152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ecture 2 - Sound/Audi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910C-36D1-4471-A2B8-90BBFB6DF4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Loudness and Amplitud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ther important perceptual quality is </a:t>
            </a:r>
            <a:r>
              <a:rPr b="0" i="1" lang="en-US" sz="2800" spc="-1" strike="noStrike">
                <a:solidFill>
                  <a:srgbClr val="990000"/>
                </a:solidFill>
                <a:latin typeface="Tahoma"/>
              </a:rPr>
              <a:t>loudnes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2800" spc="-1" strike="noStrike">
                <a:solidFill>
                  <a:srgbClr val="990000"/>
                </a:solidFill>
                <a:latin typeface="Tahoma"/>
              </a:rPr>
              <a:t>volu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ahoma"/>
              </a:rPr>
              <a:t>Amplitud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measure of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ound leve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igit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und, amplitude is th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ample val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ason that sounds hav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ifferent loudn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at they carry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ifferent amount of pow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19320" y="5105520"/>
            <a:ext cx="3209760" cy="981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876920" y="5105520"/>
            <a:ext cx="3257280" cy="9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496-5B34-4DBE-8DAE-9CE50FEBCE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Loudness and Amplitud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nit of power is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wat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Th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intens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sound is th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amount of power transmit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rough an area of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1 m</a:t>
            </a:r>
            <a:r>
              <a:rPr b="0" lang="en-US" sz="2800" spc="-1" strike="noStrike" baseline="30000">
                <a:solidFill>
                  <a:srgbClr val="99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iented perpendicular to the propagation direction of the sou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intensity of a sound is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1 watt/m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we may start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feel the sou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The ear may be damaged. This is known as the </a:t>
            </a:r>
            <a:r>
              <a:rPr b="0" i="1" lang="en-US" sz="2800" spc="-1" strike="noStrike">
                <a:solidFill>
                  <a:srgbClr val="990000"/>
                </a:solidFill>
                <a:latin typeface="Tahoma"/>
              </a:rPr>
              <a:t>threshold of fee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1F3-E7C7-45D5-8E46-BA9CC150D1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Loudness and Amplitud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intensity is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10 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ahoma"/>
              </a:rPr>
              <a:t>-12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watt/m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may just be able to hear it. This is know as the </a:t>
            </a:r>
            <a:r>
              <a:rPr b="0" i="1" lang="en-US" sz="2800" spc="-1" strike="noStrike">
                <a:solidFill>
                  <a:srgbClr val="990000"/>
                </a:solidFill>
                <a:latin typeface="Tahoma"/>
              </a:rPr>
              <a:t>threshold of hea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lative intensity of two different sounds is measured using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eciB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often, we will compare a sound with the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threshold of hea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1E2-01D8-44F4-9D80-C9E167B4BC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2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ADA-9D13-42F6-9A84-CE40AA517E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Dynamic and Bandwidth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ahoma"/>
              </a:rPr>
              <a:t>Dynamic rang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the change in sound lev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, a large orchestra can reach 130dB at its climax and drop to as low as 30dB at its softest, giving a range of 100d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ahoma"/>
              </a:rPr>
              <a:t>Bandwidth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range of frequencies a device can produce or a human can h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61A-A3ED-4D14-88B1-A96F936E03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Dynamic and Bandwidth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7920" y="1676520"/>
          <a:ext cx="6095880" cy="43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6095880" cy="43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280-12AB-41FB-886C-83471E3201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Computer Representation of Sound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255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 ar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continu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ile computers are good at handling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iscr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umb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 to store a sound wave in a computer,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amp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wave are tak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is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represented by a num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 ‘code’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process is known as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digitiz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ethod of digitizing sound is know as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pulse code modulation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CM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15D2-62BC-4D1E-9E36-68CE381D7A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Computer Representation of Sound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rding to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yquist sampling 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n order to capture all audible frequency components of a sound, i.e., up to 20kHz, we need to set the sampling to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at least twice of 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why one of the most popular sampling rate for high quality sound is 44,100 sample/s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aspect we need to consider is the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solu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Quantization bands), i.e., the number of bits used to represent a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, 16-bits are used for each sample in high quality s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D60-03E1-47F9-B317-70A9194D08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Quality versus File Siz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ize of a digital recording depends on the sampling rate, resolution and number of chann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8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le size by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ampling rate (samples / seco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solution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nnels 1 - mono, 2 - ster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cording duration 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2E1-932B-405D-A9E0-6319A8C59D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8001000" cy="683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B46-58B3-4868-96A2-191FC9763A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understand how computers process sou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understand how computers synthesize sou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understand the differences between two major kinds of audio, namely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igitiz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und and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ID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us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5CD-2275-425B-A92E-EC7C53E9EB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74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DF7-192A-4A38-AAFE-414CEC4EC2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Quality versus File Size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ampling rate, higher resolution gives higher quality but bigger file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if we record 10 seconds of stereo music at 44.1kHz, 16 bits, the size will b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= 441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16/8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1,764,000 by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1722.7 Kby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1.68 Mby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quality sound files are very big, however, the file size can be reduced by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ompres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980-06E3-4683-A103-E6CA62E1CE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File size for some common sampling rates and resolutions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371600"/>
          <a:ext cx="89917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9917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E95-B634-474E-9335-ECF634DBDB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File size for some common sampling rates and resolutions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600200"/>
          <a:ext cx="89154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8915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809-6735-4802-BCFF-905135F62C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Audio File Formats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st commonly used digital sound format in Windows systems is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.wa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nd is stored in .wav as digital samples known a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ulse Code Modul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CM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.wav file has a header containing information of the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type of format, e.g., PCM or other modulations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ize of the dat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number of channels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amples per second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bytes per sample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usually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no compression in .wav fi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format may use different compression technique to reduce file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.v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daptive Delta Pulse Code Modul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DPCM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.mp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PEG-1 layer 3 au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RealAudi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is a proprietary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2AD-68F3-4E7E-9057-E357E862BC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Some common audio files formats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14400" y="1371600"/>
          <a:ext cx="7391520" cy="53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39152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E9E-210B-4116-B9F0-6D0AD411EA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Audio Hardwar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ing and Digitizing sou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n </a:t>
            </a:r>
            <a:r>
              <a:rPr b="0" i="1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analog-to-digital converter</a:t>
            </a:r>
            <a:r>
              <a:rPr b="0" i="1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(ADC) converts the analog sound signal into digital samples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 </a:t>
            </a:r>
            <a:r>
              <a:rPr b="0" i="1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digital signal processor</a:t>
            </a:r>
            <a:r>
              <a:rPr b="0" i="1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(DSP) processes the sample, e.g. filtering, modulation, compression, and so on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y back sou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 </a:t>
            </a:r>
            <a:r>
              <a:rPr b="0" i="1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digital signal processor</a:t>
            </a:r>
            <a:r>
              <a:rPr b="0" i="1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processes the sample, e.g. decompression, demodulation, and so on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n </a:t>
            </a:r>
            <a:r>
              <a:rPr b="0" i="1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digital-to-analog converter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(DAC) converts the digital samples into sound signal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hese hardware devices are integrated into a few chips on a sound c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4A3-CDA8-458C-AC77-92BB9296EA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Audio Hardwar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ound card have different capability of processing digital sou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buying a sound card, you should look 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aximum sampling rate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tereo or mono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duplex or simplex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352680" y="3505320"/>
          <a:ext cx="5486400" cy="25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505320"/>
                    <a:ext cx="548640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66A-B000-4FBF-B669-E26200142E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Audio Softwar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indows device dri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controls the hardware de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ice manag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the user interface to the hardware for configuring the de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You can choose which audio device you want to use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You can set the audio volume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9F5-5968-4501-9201-ADD14EA2EC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Audio Softwar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3520" y="1676520"/>
          <a:ext cx="792468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92468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F53E-F00C-4543-B41D-CFB72BEC7C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Contents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Nature of S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er Representation of S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er Music — MID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mmary —MIDI versus digital au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ercis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743-95BE-4C09-864E-3D2860FC7D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Audio Softwar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x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 its functions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To combine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sound from different sources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To adjust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the playback volume of sound sources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To adjust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the recording volume of sound sources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ordin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 Windows has a simple Sound Rec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itin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 The Windows Sound Recorder has a limiting editing function, such as changing volume and speed, deleting part of the s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many freeware and shareware programs for sound recording, editing and process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2B87-02AF-4FCC-9B0D-ABF42AAE7E7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2285640"/>
            <a:ext cx="73152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uter Music MIDI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9AB4-E42A-4364-863D-1016E81A85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Computer Music  (MIDI)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, whether occurred natural or man-made, are often very complex, i.e., they consist of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any frequenc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ound is relatively straight forward to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reco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plex sound. However, it is quite difficult to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gene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or synthesize) complex sou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a better way to generate high quality music. This is known a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D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usical Instrument Digital Interf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E0C-64B7-46CF-8B9B-D24B5E3DDB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Computer Music  (MIDI)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 communication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tanda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veloped in the early 1980s for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electronic instrum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computers. It specifies th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hardware conne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tween equipments as well as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the form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which th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ata are transfer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tween the equip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MIDI devices include electronic music synthesizers, modu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667-9F00-47A8-BC86-3EDE39A8E5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876920" y="4572000"/>
          <a:ext cx="4190760" cy="12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4572000"/>
                    <a:ext cx="419076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General MIDI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l MID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tandard specified by MIDI Manufacturers Association. To be GM compatible, a sound generating device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must me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General MIDI system level-1 performance requir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inimum of 24 fully voice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16 channel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inimum 16 simultaneous and different timbre instrument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inimum 128 preset instruments (MIDI program numbers)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upport certain controller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5531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midi.org/techspecs/gm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n.wikipedia.org/wiki/General_MI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11C-F78B-4EBE-B146-AEFCE4C523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MIDI Hardwar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ctronic musical instrument or a computer which has MIDI interface should has one or more MIDI ports. The MIDI ports on musical instruments are usually labeled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— for receiving MIDI data;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OUT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— for outputting MIDI data that are generated by the instrument;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THRU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— for passing MIDI data coming from 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to the next instrument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DI devices can b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aisy-chained toge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681-A224-4840-B7D3-A397FE7FD2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MIDI Hardwar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80880" y="2438280"/>
          <a:ext cx="845820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38280"/>
                    <a:ext cx="845820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796-1E46-432B-AB2F-5F5CA4DD06F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457360" y="4629240"/>
            <a:ext cx="2210040" cy="1619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896000" y="3714840"/>
            <a:ext cx="2895480" cy="1479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152280" y="3105000"/>
            <a:ext cx="2667240" cy="920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6877080" y="2571840"/>
            <a:ext cx="1600200" cy="1163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3520" y="45720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DI Daisy-chain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24760" y="2733840"/>
            <a:ext cx="1562040" cy="1577880"/>
          </a:xfrm>
          <a:custGeom>
            <a:avLst/>
            <a:gdLst/>
            <a:ahLst/>
            <a:rect l="l" t="t" r="r" b="b"/>
            <a:pathLst>
              <a:path w="984" h="994">
                <a:moveTo>
                  <a:pt x="0" y="994"/>
                </a:moveTo>
                <a:cubicBezTo>
                  <a:pt x="53" y="966"/>
                  <a:pt x="210" y="880"/>
                  <a:pt x="317" y="824"/>
                </a:cubicBezTo>
                <a:cubicBezTo>
                  <a:pt x="424" y="768"/>
                  <a:pt x="545" y="725"/>
                  <a:pt x="640" y="659"/>
                </a:cubicBezTo>
                <a:cubicBezTo>
                  <a:pt x="735" y="593"/>
                  <a:pt x="831" y="508"/>
                  <a:pt x="887" y="430"/>
                </a:cubicBezTo>
                <a:cubicBezTo>
                  <a:pt x="943" y="352"/>
                  <a:pt x="984" y="257"/>
                  <a:pt x="975" y="189"/>
                </a:cubicBezTo>
                <a:cubicBezTo>
                  <a:pt x="966" y="121"/>
                  <a:pt x="890" y="48"/>
                  <a:pt x="834" y="24"/>
                </a:cubicBezTo>
                <a:cubicBezTo>
                  <a:pt x="778" y="0"/>
                  <a:pt x="680" y="38"/>
                  <a:pt x="640" y="4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35840" y="2006640"/>
            <a:ext cx="1620720" cy="1903320"/>
          </a:xfrm>
          <a:custGeom>
            <a:avLst/>
            <a:gdLst/>
            <a:ahLst/>
            <a:rect l="l" t="t" r="r" b="b"/>
            <a:pathLst>
              <a:path w="1021" h="1199">
                <a:moveTo>
                  <a:pt x="917" y="359"/>
                </a:moveTo>
                <a:cubicBezTo>
                  <a:pt x="932" y="318"/>
                  <a:pt x="1021" y="167"/>
                  <a:pt x="1005" y="112"/>
                </a:cubicBezTo>
                <a:cubicBezTo>
                  <a:pt x="989" y="57"/>
                  <a:pt x="915" y="0"/>
                  <a:pt x="823" y="30"/>
                </a:cubicBezTo>
                <a:cubicBezTo>
                  <a:pt x="731" y="60"/>
                  <a:pt x="544" y="154"/>
                  <a:pt x="452" y="294"/>
                </a:cubicBezTo>
                <a:cubicBezTo>
                  <a:pt x="360" y="434"/>
                  <a:pt x="345" y="719"/>
                  <a:pt x="270" y="870"/>
                </a:cubicBezTo>
                <a:cubicBezTo>
                  <a:pt x="195" y="1021"/>
                  <a:pt x="56" y="1130"/>
                  <a:pt x="0" y="119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00760" y="3943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91280" y="3714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10600" y="41403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0720" y="4295880"/>
            <a:ext cx="4008600" cy="1285920"/>
          </a:xfrm>
          <a:custGeom>
            <a:avLst/>
            <a:gdLst/>
            <a:ahLst/>
            <a:rect l="l" t="t" r="r" b="b"/>
            <a:pathLst>
              <a:path w="2525" h="810">
                <a:moveTo>
                  <a:pt x="0" y="204"/>
                </a:moveTo>
                <a:cubicBezTo>
                  <a:pt x="70" y="181"/>
                  <a:pt x="233" y="0"/>
                  <a:pt x="418" y="69"/>
                </a:cubicBezTo>
                <a:cubicBezTo>
                  <a:pt x="603" y="138"/>
                  <a:pt x="895" y="496"/>
                  <a:pt x="1111" y="616"/>
                </a:cubicBezTo>
                <a:cubicBezTo>
                  <a:pt x="1327" y="736"/>
                  <a:pt x="1537" y="774"/>
                  <a:pt x="1717" y="792"/>
                </a:cubicBezTo>
                <a:cubicBezTo>
                  <a:pt x="1897" y="810"/>
                  <a:pt x="2069" y="774"/>
                  <a:pt x="2189" y="725"/>
                </a:cubicBezTo>
                <a:cubicBezTo>
                  <a:pt x="2309" y="676"/>
                  <a:pt x="2380" y="574"/>
                  <a:pt x="2436" y="496"/>
                </a:cubicBezTo>
                <a:cubicBezTo>
                  <a:pt x="2492" y="418"/>
                  <a:pt x="2523" y="319"/>
                  <a:pt x="2524" y="255"/>
                </a:cubicBezTo>
                <a:cubicBezTo>
                  <a:pt x="2525" y="191"/>
                  <a:pt x="2482" y="133"/>
                  <a:pt x="2439" y="110"/>
                </a:cubicBezTo>
                <a:cubicBezTo>
                  <a:pt x="2396" y="87"/>
                  <a:pt x="2300" y="115"/>
                  <a:pt x="2263" y="1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33480" y="2662200"/>
            <a:ext cx="1766880" cy="1957320"/>
          </a:xfrm>
          <a:custGeom>
            <a:avLst/>
            <a:gdLst/>
            <a:ahLst/>
            <a:rect l="l" t="t" r="r" b="b"/>
            <a:pathLst>
              <a:path w="1113" h="1233">
                <a:moveTo>
                  <a:pt x="0" y="264"/>
                </a:moveTo>
                <a:cubicBezTo>
                  <a:pt x="59" y="224"/>
                  <a:pt x="220" y="55"/>
                  <a:pt x="354" y="27"/>
                </a:cubicBezTo>
                <a:cubicBezTo>
                  <a:pt x="488" y="0"/>
                  <a:pt x="695" y="37"/>
                  <a:pt x="807" y="97"/>
                </a:cubicBezTo>
                <a:cubicBezTo>
                  <a:pt x="919" y="157"/>
                  <a:pt x="977" y="275"/>
                  <a:pt x="1026" y="385"/>
                </a:cubicBezTo>
                <a:cubicBezTo>
                  <a:pt x="1075" y="495"/>
                  <a:pt x="1091" y="613"/>
                  <a:pt x="1102" y="754"/>
                </a:cubicBezTo>
                <a:cubicBezTo>
                  <a:pt x="1113" y="895"/>
                  <a:pt x="1095" y="1133"/>
                  <a:pt x="1093" y="12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05280" y="4095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85960" y="4262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90680" y="2800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6324480"/>
            <a:ext cx="838080" cy="228600"/>
          </a:xfrm>
          <a:custGeom>
            <a:avLst/>
            <a:gdLst>
              <a:gd name="textAreaLeft" fmla="*/ 9360 w 838080"/>
              <a:gd name="textAreaRight" fmla="*/ 828720 w 838080"/>
              <a:gd name="textAreaTop" fmla="*/ 9360 h 228600"/>
              <a:gd name="textAreaBottom" fmla="*/ 2192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8198" y="900"/>
                </a:lnTo>
                <a:lnTo>
                  <a:pt x="900" y="9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8198" y="20700"/>
                </a:lnTo>
                <a:lnTo>
                  <a:pt x="78198" y="9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900" y="20700"/>
                </a:lnTo>
                <a:lnTo>
                  <a:pt x="78198" y="207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900" y="900"/>
                </a:lnTo>
                <a:lnTo>
                  <a:pt x="900" y="20700"/>
                </a:lnTo>
                <a:close/>
              </a:path>
              <a:path fill="darken" w="79098" h="21600">
                <a:moveTo>
                  <a:pt x="32170" y="10800"/>
                </a:moveTo>
                <a:lnTo>
                  <a:pt x="46928" y="3421"/>
                </a:lnTo>
                <a:lnTo>
                  <a:pt x="46928" y="18179"/>
                </a:lnTo>
                <a:close/>
              </a:path>
            </a:pathLst>
          </a:custGeom>
          <a:solidFill>
            <a:srgbClr val="4da7e5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934320" y="0"/>
            <a:ext cx="1981080" cy="1959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924680" y="1828800"/>
            <a:ext cx="685800" cy="914400"/>
          </a:xfrm>
          <a:custGeom>
            <a:avLst/>
            <a:gdLst/>
            <a:ahLst/>
            <a:rect l="l" t="t" r="r" b="b"/>
            <a:pathLst>
              <a:path w="905" h="329">
                <a:moveTo>
                  <a:pt x="0" y="329"/>
                </a:moveTo>
                <a:cubicBezTo>
                  <a:pt x="33" y="293"/>
                  <a:pt x="130" y="160"/>
                  <a:pt x="199" y="111"/>
                </a:cubicBezTo>
                <a:cubicBezTo>
                  <a:pt x="268" y="62"/>
                  <a:pt x="332" y="23"/>
                  <a:pt x="417" y="35"/>
                </a:cubicBezTo>
                <a:cubicBezTo>
                  <a:pt x="502" y="47"/>
                  <a:pt x="630" y="188"/>
                  <a:pt x="711" y="182"/>
                </a:cubicBezTo>
                <a:cubicBezTo>
                  <a:pt x="792" y="176"/>
                  <a:pt x="865" y="38"/>
                  <a:pt x="905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5257800"/>
            <a:ext cx="1981080" cy="1036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5532480"/>
            <a:ext cx="5331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5913360"/>
            <a:ext cx="533160" cy="0"/>
          </a:xfrm>
          <a:prstGeom prst="line">
            <a:avLst/>
          </a:prstGeom>
          <a:ln w="442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01680" y="5345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98440" y="57038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A76-97F8-42A9-9762-6C247294500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915400" cy="37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590E-2E7D-46C1-81C9-44AE85EF15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962520" cy="1578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" action="ppaction://hlinkshowjump?jump=nextslide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33520" y="1447920"/>
            <a:ext cx="3808440" cy="2766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lti-port MIDI Interface 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/out pai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34000" y="137160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 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81360" y="137160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 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41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B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46920" y="3284640"/>
            <a:ext cx="330120" cy="1063440"/>
          </a:xfrm>
          <a:custGeom>
            <a:avLst/>
            <a:gdLst/>
            <a:ahLst/>
            <a:rect l="l" t="t" r="r" b="b"/>
            <a:pathLst>
              <a:path w="208" h="670">
                <a:moveTo>
                  <a:pt x="208" y="670"/>
                </a:moveTo>
                <a:cubicBezTo>
                  <a:pt x="184" y="641"/>
                  <a:pt x="95" y="564"/>
                  <a:pt x="62" y="494"/>
                </a:cubicBezTo>
                <a:cubicBezTo>
                  <a:pt x="29" y="424"/>
                  <a:pt x="18" y="335"/>
                  <a:pt x="9" y="253"/>
                </a:cubicBezTo>
                <a:cubicBezTo>
                  <a:pt x="0" y="171"/>
                  <a:pt x="9" y="53"/>
                  <a:pt x="9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7640" y="3807000"/>
            <a:ext cx="434880" cy="998280"/>
          </a:xfrm>
          <a:custGeom>
            <a:avLst/>
            <a:gdLst/>
            <a:ahLst/>
            <a:rect l="l" t="t" r="r" b="b"/>
            <a:pathLst>
              <a:path w="274" h="629">
                <a:moveTo>
                  <a:pt x="274" y="629"/>
                </a:moveTo>
                <a:cubicBezTo>
                  <a:pt x="239" y="606"/>
                  <a:pt x="107" y="561"/>
                  <a:pt x="63" y="494"/>
                </a:cubicBezTo>
                <a:cubicBezTo>
                  <a:pt x="19" y="427"/>
                  <a:pt x="0" y="311"/>
                  <a:pt x="10" y="229"/>
                </a:cubicBezTo>
                <a:cubicBezTo>
                  <a:pt x="20" y="147"/>
                  <a:pt x="98" y="48"/>
                  <a:pt x="121" y="0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53760" y="4648320"/>
            <a:ext cx="40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hr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witch – connects In to Ou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use without a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05000" y="52578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ave in ‘out’ posi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14040" y="2590920"/>
            <a:ext cx="1447920" cy="838080"/>
            <a:chOff x="914040" y="2590920"/>
            <a:chExt cx="1447920" cy="838080"/>
          </a:xfrm>
        </p:grpSpPr>
        <p:sp>
          <p:nvSpPr>
            <p:cNvPr id="218" name=""/>
            <p:cNvSpPr/>
            <p:nvPr/>
          </p:nvSpPr>
          <p:spPr>
            <a:xfrm>
              <a:off x="990360" y="2590920"/>
              <a:ext cx="1371600" cy="6858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914040" y="2590920"/>
              <a:ext cx="75960" cy="1522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285640" y="3276720"/>
              <a:ext cx="75960" cy="1522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650960" y="2440080"/>
            <a:ext cx="2249640" cy="1609560"/>
          </a:xfrm>
          <a:custGeom>
            <a:avLst/>
            <a:gdLst/>
            <a:ahLst/>
            <a:rect l="l" t="t" r="r" b="b"/>
            <a:pathLst>
              <a:path w="1417" h="1014">
                <a:moveTo>
                  <a:pt x="1417" y="1014"/>
                </a:moveTo>
                <a:cubicBezTo>
                  <a:pt x="1385" y="990"/>
                  <a:pt x="1279" y="957"/>
                  <a:pt x="1235" y="867"/>
                </a:cubicBezTo>
                <a:cubicBezTo>
                  <a:pt x="1191" y="777"/>
                  <a:pt x="1208" y="590"/>
                  <a:pt x="1152" y="473"/>
                </a:cubicBezTo>
                <a:cubicBezTo>
                  <a:pt x="1096" y="356"/>
                  <a:pt x="1026" y="242"/>
                  <a:pt x="900" y="167"/>
                </a:cubicBezTo>
                <a:cubicBezTo>
                  <a:pt x="774" y="92"/>
                  <a:pt x="544" y="0"/>
                  <a:pt x="394" y="21"/>
                </a:cubicBezTo>
                <a:cubicBezTo>
                  <a:pt x="244" y="42"/>
                  <a:pt x="82" y="235"/>
                  <a:pt x="0" y="291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3809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72400" y="6324480"/>
            <a:ext cx="838080" cy="228600"/>
          </a:xfrm>
          <a:custGeom>
            <a:avLst/>
            <a:gdLst>
              <a:gd name="textAreaLeft" fmla="*/ 9360 w 838080"/>
              <a:gd name="textAreaRight" fmla="*/ 828720 w 838080"/>
              <a:gd name="textAreaTop" fmla="*/ 9360 h 228600"/>
              <a:gd name="textAreaBottom" fmla="*/ 2192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8198" y="900"/>
                </a:lnTo>
                <a:lnTo>
                  <a:pt x="900" y="9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8198" y="20700"/>
                </a:lnTo>
                <a:lnTo>
                  <a:pt x="78198" y="9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900" y="20700"/>
                </a:lnTo>
                <a:lnTo>
                  <a:pt x="78198" y="207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900" y="900"/>
                </a:lnTo>
                <a:lnTo>
                  <a:pt x="900" y="20700"/>
                </a:lnTo>
                <a:close/>
              </a:path>
              <a:path fill="darken" w="79098" h="21600">
                <a:moveTo>
                  <a:pt x="32170" y="10800"/>
                </a:moveTo>
                <a:lnTo>
                  <a:pt x="46928" y="3421"/>
                </a:lnTo>
                <a:lnTo>
                  <a:pt x="46928" y="18179"/>
                </a:lnTo>
                <a:close/>
              </a:path>
            </a:pathLst>
          </a:custGeom>
          <a:solidFill>
            <a:srgbClr val="4da7e5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23D-8E55-414D-B7AA-49D077E6F9F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The Nature of Sound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Sound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physical phenomenon produced by th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vibration of mat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ransmitted as wa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647712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8BE-E984-4765-A982-1C9DF5DD82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lti-port MIDI Interface 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/out pai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8229600" cy="8665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866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19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DI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2819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DI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B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924680" y="4114800"/>
            <a:ext cx="317520" cy="1063800"/>
          </a:xfrm>
          <a:custGeom>
            <a:avLst/>
            <a:gdLst/>
            <a:ahLst/>
            <a:rect l="l" t="t" r="r" b="b"/>
            <a:pathLst>
              <a:path w="208" h="670">
                <a:moveTo>
                  <a:pt x="208" y="670"/>
                </a:moveTo>
                <a:cubicBezTo>
                  <a:pt x="184" y="641"/>
                  <a:pt x="95" y="564"/>
                  <a:pt x="62" y="494"/>
                </a:cubicBezTo>
                <a:cubicBezTo>
                  <a:pt x="29" y="424"/>
                  <a:pt x="18" y="335"/>
                  <a:pt x="9" y="253"/>
                </a:cubicBezTo>
                <a:cubicBezTo>
                  <a:pt x="0" y="171"/>
                  <a:pt x="9" y="53"/>
                  <a:pt x="9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A1D-2400-4E1D-8C2F-70F79D333A1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MIDI Data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nlike digital sound, MIDI data does not encode individual samples. MIDI data encode </a:t>
            </a:r>
            <a:r>
              <a:rPr b="0" i="1" lang="en-US" sz="2600" spc="-1" strike="noStrike">
                <a:solidFill>
                  <a:srgbClr val="990000"/>
                </a:solidFill>
                <a:latin typeface="Tahoma"/>
              </a:rPr>
              <a:t>musical events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d commands to control instrume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IDI data are grouped into </a:t>
            </a:r>
            <a:r>
              <a:rPr b="0" i="1" lang="en-US" sz="2600" spc="-1" strike="noStrike">
                <a:solidFill>
                  <a:srgbClr val="990000"/>
                </a:solidFill>
                <a:latin typeface="Tahoma"/>
              </a:rPr>
              <a:t>MIDI message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 Each MIDI message represents a </a:t>
            </a:r>
            <a:r>
              <a:rPr b="0" lang="en-US" sz="2600" spc="-1" strike="noStrike">
                <a:solidFill>
                  <a:srgbClr val="990000"/>
                </a:solidFill>
                <a:latin typeface="Tahoma"/>
              </a:rPr>
              <a:t>musical event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e.g., pressing a key, setting a switch or adjusting foot ped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sequence of MIDI messages is grouped into a </a:t>
            </a:r>
            <a:r>
              <a:rPr b="0" i="1" lang="en-US" sz="2600" spc="-1" strike="noStrike">
                <a:solidFill>
                  <a:srgbClr val="990000"/>
                </a:solidFill>
                <a:latin typeface="Tahoma"/>
              </a:rPr>
              <a:t>track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629400" y="304920"/>
          <a:ext cx="156204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304920"/>
                    <a:ext cx="156204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E57-186D-4DB9-B909-DC690B08C75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MIDI Files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ing computers to play MIDI music, the MIDI data are often stored in MIDI files. Each MIDI files contains a number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un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There are two types of chunk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Header chunk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— contains information about the entire file: the type of MIDI file, number of tracks and the timing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Track chunk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— the actual data of MIDI track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F7A-204F-4C84-99D2-1C74EE9079B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MIDI music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ical instruments are tuned to produce a set of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fixed pitch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066680" y="2514600"/>
          <a:ext cx="4038840" cy="38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4038840" cy="38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095880" y="2590920"/>
            <a:ext cx="1925640" cy="3733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8156520" y="2666880"/>
            <a:ext cx="54612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ve (0.1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804E-3C9D-4B80-B521-7F26D16D800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Octav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any two sounds whose frequencies make a 2:1 ratio are said to be separated by a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ta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sult in a particularly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pleasing s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he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 two sounds with a frequency ratio of 5:4 are said to be separated by an interval of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such sound waves also sound good when played togeth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8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80880" y="4038480"/>
          <a:ext cx="8229600" cy="2286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nterv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requency Rat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: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 Hz and 256 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: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 Hz and 256 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: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 Hz and 256 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f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: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4 Hz and 256 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D5E-25BB-4C6C-BA0C-219B99C9F3B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MIDI Fil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ic produced my musical instruments can be stored as codes since it produces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discrete number of soun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no. of key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piano of 12 sounds (12 key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Code 0-11 (position of a key) : 1 by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Octave 0-7 (principle sounds): 1 by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uration of using a key:  1 by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key press it needs 3 by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20 press/sec: 20 press * 3 bytes/press = 60 bytes/se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296-62E6-4B5E-ACB6-BBE2644C813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How MIDI Sounds Are Synthesized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255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mplistic view is tha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IDI device stores th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characteristics of soun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duced by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und 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IDI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ell the devic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which kind of sou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t which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pitc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o be generated,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how lo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sound is played and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other attribu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note should ha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1BA-3C1B-499E-A373-4BF5333E545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How Sounds Are Synthesized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two ways of synthesizing sou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FM Synthesi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requency Modulation)—Using one sine wave to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modu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other sine wave, thus generating a new wave which is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rich in </a:t>
            </a:r>
            <a:r>
              <a:rPr b="0" i="1" lang="en-US" sz="2400" spc="-1" strike="noStrike">
                <a:solidFill>
                  <a:srgbClr val="990000"/>
                </a:solidFill>
                <a:latin typeface="Tahoma"/>
              </a:rPr>
              <a:t>timb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It consists of the two original waves, their sum and difference a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rmon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 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Tahoma"/>
              </a:rPr>
              <a:t>drawbac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FM synthesis are: the generated sound is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not re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there is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no exact formul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generating a particular s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Wave-table synthes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 It stores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representative digital s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mples. It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manipul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se sample, e.g., by changing the pitch, to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reate the complete 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ot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D20-984D-41C9-BDB8-BCE1A5D6805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FM Synthesis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81680" cy="622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F3B-EB54-42AB-B611-795765D4B0B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MIDI versus digital audio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30200" y="1676520"/>
          <a:ext cx="815652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1676520"/>
                    <a:ext cx="815652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899-0FA6-4D57-894F-0B8F42E8E6F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The Nature of Sound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th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perception of sou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human beings is a very complex process. It involves three syst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he </a:t>
            </a:r>
            <a:r>
              <a:rPr b="0" i="1" lang="en-US" sz="2400" spc="-1" strike="noStrike" u="sng">
                <a:solidFill>
                  <a:srgbClr val="003399"/>
                </a:solidFill>
                <a:uFillTx/>
                <a:latin typeface="Tahoma"/>
              </a:rPr>
              <a:t>source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ich emits sound;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he </a:t>
            </a:r>
            <a:r>
              <a:rPr b="0" i="1" lang="en-US" sz="2400" spc="-1" strike="noStrike" u="sng">
                <a:solidFill>
                  <a:srgbClr val="003399"/>
                </a:solidFill>
                <a:uFillTx/>
                <a:latin typeface="Tahoma"/>
              </a:rPr>
              <a:t>medium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hrough which the sound propagates;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he </a:t>
            </a:r>
            <a:r>
              <a:rPr b="0" i="1" lang="en-US" sz="2400" spc="-1" strike="noStrike" u="sng">
                <a:solidFill>
                  <a:srgbClr val="003399"/>
                </a:solidFill>
                <a:uFillTx/>
                <a:latin typeface="Tahoma"/>
              </a:rPr>
              <a:t>detector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ich receives and interprets the sound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F2F-988E-4113-BB46-81D84FE6CD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Black"/>
              </a:rPr>
              <a:t>Exercises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447920" y="1600200"/>
          <a:ext cx="55623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5562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066-8366-478E-8516-B4C0BF37D76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The Nature of Sound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s we heard everyday ar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very comple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sound is comprised of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waves of many different frequenc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hapes. But the simplest sound we can hear is a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ine wa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 can be characterized by the following attribu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iod, Frequency, Amplitude, Bandwidth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ch, Loudness, Dynam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A10-1B01-4C52-9B4F-7C140C7581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The Nature of Sound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65160" y="2262240"/>
          <a:ext cx="708516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2262240"/>
                    <a:ext cx="708516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C28-8352-418A-A859-F8EC0E7FBA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Pitch and Frequency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Perio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interval of ti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t which a periodic signal repeats regular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Pitch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erception of sound by human beings. It measures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he fee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sound as it is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perceiv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y a liste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ir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makes a high pitch.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makes a low pitc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Frequenc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s a physical property of a wave. It is the reciprocal value of period f =1/P. The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sens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frequencies is commonly referred to as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soun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nit is Herts (Hz) or kiloHertz (kHz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0A6-2DB5-4958-9E56-F42F363C9C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Pitch and Frequency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267080" y="4343400"/>
            <a:ext cx="4419720" cy="1341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3581640" cy="208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828800" y="1676520"/>
            <a:ext cx="5791320" cy="20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B72-4377-4C84-9CBC-D097BA0BDF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3T21:19:15Z</dcterms:created>
  <dc:creator>Information and Computer Science Dept.</dc:creator>
  <dc:description/>
  <dc:language>en-US</dc:language>
  <cp:lastModifiedBy>Ahmed</cp:lastModifiedBy>
  <dcterms:modified xsi:type="dcterms:W3CDTF">2011-10-19T19:35:17Z</dcterms:modified>
  <cp:revision>82</cp:revision>
  <dc:subject/>
  <dc:title>ICS 143 - Introduction to  Operating Systems</dc:title>
</cp:coreProperties>
</file>