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jpeg" ContentType="image/jpeg"/>
  <Override PartName="/ppt/media/image10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0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CEFC-FB46-43CE-B43F-A2F6555B8A9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usic" TargetMode="External"/><Relationship Id="rId2" Type="http://schemas.openxmlformats.org/officeDocument/2006/relationships/hyperlink" Target="http://en.wikipedia.org/wiki/Help:Pronunciation" TargetMode="External"/><Relationship Id="rId3" Type="http://schemas.openxmlformats.org/officeDocument/2006/relationships/slide" Target=""/><Relationship Id="rId4" Type="http://schemas.openxmlformats.org/officeDocument/2006/relationships/hyperlink" Target="http://en.wikipedia.org/wiki/Musical_note" TargetMode="External"/><Relationship Id="rId5" Type="http://schemas.openxmlformats.org/officeDocument/2006/relationships/hyperlink" Target="http://en.wikipedia.org/wiki/Musical_instrument" TargetMode="External"/><Relationship Id="rId6" Type="http://schemas.openxmlformats.org/officeDocument/2006/relationships/hyperlink" Target="http://en.wikipedia.org/wiki/Psychoacoustics" TargetMode="External"/><Relationship Id="rId7" Type="http://schemas.openxmlformats.org/officeDocument/2006/relationships/slide" Target="../slides/slide34.xml"/><Relationship Id="rId8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Times New Roman"/>
              </a:rPr>
              <a:t>Intensity: </a:t>
            </a:r>
            <a:r>
              <a:rPr b="0" lang="ar-LB" sz="12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شد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chestra: </a:t>
            </a:r>
            <a:r>
              <a:rPr b="0" lang="ar-LB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ركستر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/8=1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net media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[1] originally called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ME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fter MIME and sometimes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ent-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fter the name of a header in several protocols whose value is such a type, is a two-part identifier for file formats on the Int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process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W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M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M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bre (“sound color”, or instrument, e.g., flute, cello,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us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mb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ronounc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/ˈtam-bər'/, tɪm.bər lik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i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ˈtæm(brə),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[1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Fr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mb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ɛ̃bʁ) is the quality of a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musical no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sound that distinguishes different types of sound production, such as voices or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usical instrum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 physical characteristics of sound that mediate the perception of timbre include spectrum and envelope. Timbre is also known in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sychoacoust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nd qua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nd 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imbre is what, with a little practice, people use to distinguish the saxophone from the trumpet in a jazz group, even if both instruments are playing notes at the same pitch and amplitude. Timbre has been called "the psychoacoustician's multidimensional wastebasket category" [2] as it can denote many apparently unrelated aspects of a s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83F4-9803-4543-B3FC-B60C3DF4DB9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71F0-9712-44DD-AC95-1B2F34D6AF2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3E3E-080D-4AC9-AB30-889F94D1CF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Times New Roman"/>
              </a:rPr>
              <a:t>Pitch </a:t>
            </a:r>
            <a:r>
              <a:rPr b="1" i="1" lang="ar-LB" sz="1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حدة الصوت</a:t>
            </a:r>
            <a:r>
              <a:rPr b="1" i="1" lang="ar-LB" sz="1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E62-E83C-438F-8EF2-94FFBED4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676-2B03-4C7E-99C6-AFD0E974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EE2-CBF5-4F73-A1F3-3A1B37F5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160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68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160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68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DD0-2511-4FEF-8A24-B6C5D6FB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1431-0C14-4DA4-9FAD-EEF53AFD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1F4F-C0EF-4716-A4EB-63E9800C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8C7C-1A2C-4F2C-A7E5-B3719E8D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95AC-8405-429E-A4F1-0C5FB3E6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699F-6451-4F3F-ABAC-C4F7057E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F1F6-1FF4-459B-AC7D-E0C70DA0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975C-D4A4-4467-9309-7C8680E9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03F-B53D-4A51-91CB-AB94F06F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C72D-07FA-476B-820B-7732A9E0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85CF-52DE-4F6A-BF0D-59A4349A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2F2E-FF6B-4C6B-AB44-189E3624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D8C0-594C-49F4-A47A-3B7C8ADD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160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68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160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68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2583-62A5-4078-8B43-572ECE1B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76E-EF15-4D01-8E80-321EA214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581-EC4B-4977-8D80-8C1E787C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36D-3BD0-46FA-9952-1DF27C7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AAD-F48F-4C86-8C87-988D117B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835-0F08-4960-93B7-9C2122B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32D-879B-46DF-97D3-0D1B88D4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D24-82EB-4695-85FB-758F75D3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C3CE-1987-4B74-8448-E756FFA42A78}" type="slidenum">
              <a:rPr b="0" lang="ar-SA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7033-B46E-4F54-A555-2107ACEC5816}" type="slidenum">
              <a:rPr b="0" lang="ar-SA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66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ultimedia Systems and Application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73152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ecture 2 - Sound/Audi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8A29-5924-4725-8435-137434A4E3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Loudness and Amplitud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ther important perceptual quality is </a:t>
            </a:r>
            <a:r>
              <a:rPr b="0" i="1" lang="en-US" sz="2800" spc="-1" strike="noStrike">
                <a:solidFill>
                  <a:srgbClr val="990000"/>
                </a:solidFill>
                <a:latin typeface="Tahoma"/>
              </a:rPr>
              <a:t>loudnes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800" spc="-1" strike="noStrike">
                <a:solidFill>
                  <a:srgbClr val="990000"/>
                </a:solidFill>
                <a:latin typeface="Tahoma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ahoma"/>
              </a:rPr>
              <a:t>Amplitud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measure of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ound leve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git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und, amplitude is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ample va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ason that sounds hav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fferent loudn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at they carry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fferent amount of pow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3209760" cy="981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76920" y="5105520"/>
            <a:ext cx="325728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E4F-FFAE-42F8-B963-071A754618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Loudness and Amplitud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nit of power is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wat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intens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ound is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amount of power transmit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rough an area of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1 m</a:t>
            </a:r>
            <a:r>
              <a:rPr b="0" lang="en-US" sz="28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iented perpendicular to the propagation direction of the s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intensity of a sound is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1 watt/m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we may start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feel the s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 ear may be damaged. This is known as the </a:t>
            </a:r>
            <a:r>
              <a:rPr b="0" i="1" lang="en-US" sz="2800" spc="-1" strike="noStrike">
                <a:solidFill>
                  <a:srgbClr val="990000"/>
                </a:solidFill>
                <a:latin typeface="Tahoma"/>
              </a:rPr>
              <a:t>threshold of fee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2D57-D5C0-4B4B-BFCA-6DE53715BE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Loudness and Amplitud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intensity is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10 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ahoma"/>
              </a:rPr>
              <a:t>-12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watt/m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may just be able to hear it. This is know as the </a:t>
            </a:r>
            <a:r>
              <a:rPr b="0" i="1" lang="en-US" sz="2800" spc="-1" strike="noStrike">
                <a:solidFill>
                  <a:srgbClr val="990000"/>
                </a:solidFill>
                <a:latin typeface="Tahoma"/>
              </a:rPr>
              <a:t>threshold of hea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lative intensity of two different sounds is measur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eciB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often, we will compare a sound with the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threshold of hea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E81-A2D9-4BAA-99D9-82A16956F0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2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ADA-5DC5-49B0-9E40-59EFB380BB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Dynamic and Bandwidth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ahoma"/>
              </a:rPr>
              <a:t>Dynamic rang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the change in sound lev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a large orchestra can reach 130dB at its climax and drop to as low as 30dB at its softest, giving a range of 100d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Tahoma"/>
              </a:rPr>
              <a:t>Bandwidth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range of frequencies a device can produce or a human can h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097-5C8E-4645-84BE-D5278BD68D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Dynamic and Bandwidth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1676520"/>
          <a:ext cx="6095880" cy="43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6095880" cy="43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9B2-E666-47E4-B983-66CD4588F1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omputer Representation of Sound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255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ontinu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ile computers are good at handling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scr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umb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store a sound wave in a computer,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amp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the wave are tak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is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presented by a num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‘code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process is known as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digit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ethod of digitizing sound is know as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pulse code modulation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CM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61B-9ED5-4A42-AAF8-B23E7DB2D7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Computer Representation of Sound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ording to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yquist sampling 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 order to capture all audible frequency components of a sound, i.e., up to 20kHz, we need to set the sampling to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at least twice of 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why one of the most popular sampling rate for high quality sound is 44,100 sample/s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aspect we need to consider is the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solu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Quantization bands), i.e., the number of bits used to represent a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16-bits are used for each sample in high quality s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A1D-8480-4248-BE3E-730484F9D9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Quality versus File Siz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ize of a digital recording depends on the sampling rate, resolution and number of chann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8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le size by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ampling rate (samples / seco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solution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nnels 1 - mono, 2 - ster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cording duration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041-C7CA-4CB0-910D-CE5307E9B6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8001000" cy="683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E54-F793-4AF1-90CE-BB00D29B79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how computers process s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how computers synthesize s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understand the differences between two major kinds of audio, namely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git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und and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ID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us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575-BE92-45B5-8B80-97A315BAE0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4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01C-E0AA-4129-B512-BB0C239797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Quality versus File Size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ampling rate, higher resolution gives higher quality but bigger file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if we record 10 seconds of stereo music at 44.1kHz, 16 bits, the size will b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= 441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16/8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,764,000 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722.7 K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.68 M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quality sound files are very big, however, the file size can be reduced by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omp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094-A0CA-41FD-8878-A8350575C6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File size for some common sampling rates and resolution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371600"/>
          <a:ext cx="8991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991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BD2-1E66-4663-898E-8B732B3EDA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File size for some common sampling rates and resolution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600200"/>
          <a:ext cx="8915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915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E1D-4E5E-42BB-98BF-3F500FAD1D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File Format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st commonly used digital sound format in Windows systems is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.wa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nd is stored in .wav as digital samples known a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ulse Code Modul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CM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.wav file has a header containing information of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ype of format, e.g., PCM or other modulation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ize of the data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number of channels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amples per second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bytes per sample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usually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no compression in .wav fi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format may use different compression technique to reduce file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.v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daptive Delta Pulse Code Modul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DPCM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.mp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PEG-1 layer 3 au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RealAud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is a proprietary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1107-BA44-4E52-81C3-566B666290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Some common audio files format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1371600"/>
          <a:ext cx="7391520" cy="53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39152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FA2-0699-4E04-8686-54BE59CB63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Hard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ing and Digitizing sou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n </a:t>
            </a:r>
            <a:r>
              <a:rPr b="0" i="1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analog-to-digital converter</a:t>
            </a:r>
            <a:r>
              <a:rPr b="0" i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(ADC) converts the analog sound signal into digital samples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 </a:t>
            </a:r>
            <a:r>
              <a:rPr b="0" i="1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digital signal processor</a:t>
            </a:r>
            <a:r>
              <a:rPr b="0" i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(DSP) processes the sample, e.g. filtering, modulation, compression, and so on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 back sou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 </a:t>
            </a:r>
            <a:r>
              <a:rPr b="0" i="1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digital signal processor</a:t>
            </a:r>
            <a:r>
              <a:rPr b="0" i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rocesses the sample, e.g. decompression, demodulation, and so on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n </a:t>
            </a:r>
            <a:r>
              <a:rPr b="0" i="1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digital-to-analog converter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(DAC) converts the digital samples into sound signal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hese hardware devices are integrated into a few chips on a sound c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738-CE97-4266-99A4-D576E3A247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Hard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ound card have different capability of processing digital sou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buying a sound card, you should look 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aximum sampling rate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tereo or mono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uplex or simplex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52680" y="3505320"/>
          <a:ext cx="5486400" cy="25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505320"/>
                    <a:ext cx="54864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510-E353-4768-88FD-E4CCBC7E3B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Soft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ndows device driv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controls the hardware devi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ice mana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the user interface to the hardware for configuring the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You can choose which audio device you want to use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You can set the audio volume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3D8-01DE-4F7F-9543-CAA3DB8970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Soft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3520" y="1676520"/>
          <a:ext cx="792468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9246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F25-83DA-4C1C-B8CA-66EAD5E704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ontent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Nature of S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r Representation of S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ter Music —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mmary —MIDI versus digital au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erci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65B-08F4-4E10-95E0-AEA30D6C5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Audio Soft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x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 its functions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o combine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sound from different sources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o adjust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the playback volume of sound sources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o adjust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the recording volume of sound sources.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ord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 Windows has a simple Sound Rec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it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 The Windows Sound Recorder has a limiting editing function, such as changing volume and speed, deleting part of the s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any freeware and shareware programs for sound recording, editing and process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71B-EF39-486B-B5DE-94E01A82BE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285640"/>
            <a:ext cx="73152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Music MIDI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9DC7-3237-4064-AAED-23894E097A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omputer Music  (MIDI)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, whether occurred natural or man-made, are often very complex, i.e., they consist of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any frequenc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ound is relatively straight forward to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rec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lex sound. However, it is quite difficult to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gene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ynthesize) complex sou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a better way to generate high quality music. This i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D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usical Instrument Digital Interf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7DA-4F0E-4130-8D0E-A4467F17F7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Computer Music  (MIDI)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 communication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tanda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veloped in the early 1980s for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electronic instru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computers. It specifies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hardware conne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equipments as well as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the form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which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ta are transfer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the equip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MIDI devices include electronic music synthesizers, modu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BAD-54D7-4B3F-8362-729802C3E0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876920" y="4572000"/>
          <a:ext cx="419076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572000"/>
                    <a:ext cx="419076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General MIDI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l MID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tandard specified by MIDI Manufacturers Association. To be GM compatible, a sound generating device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ust me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General MIDI system level-1 performance requir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inimum of 24 fully voic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16 channel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inimum 16 simultaneous and different timbre instrument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inimum 128 preset instruments (MIDI program numbers) 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upport certain controller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5531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midi.org/techspecs/gm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en.wikipedia.org/wiki/General_MI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160-0878-4436-8E43-A1E95429B8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Hard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ctronic musical instrument or a computer which has MIDI interface should has one or more MIDI ports. The MIDI ports on musical instruments are usually labeled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for receiving MIDI data;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OUT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for outputting MIDI data that are generated by the instrument;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THRU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for passing MIDI data coming from 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to the next instrument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I devices can b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isy-chained toge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3B3-8E6D-4A01-9033-B4D9F062BF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Hardwar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2438280"/>
          <a:ext cx="845820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845820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5C1-D055-4975-952A-C898DD63F9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57360" y="4629240"/>
            <a:ext cx="2210040" cy="161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96000" y="3714840"/>
            <a:ext cx="2895480" cy="1479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152280" y="3105000"/>
            <a:ext cx="2667240" cy="920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6877080" y="2571840"/>
            <a:ext cx="1600200" cy="1163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3520" y="4572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DI Daisy-chain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24760" y="2733840"/>
            <a:ext cx="1562040" cy="1577880"/>
          </a:xfrm>
          <a:custGeom>
            <a:avLst/>
            <a:gdLst/>
            <a:ahLst/>
            <a:rect l="l" t="t" r="r" b="b"/>
            <a:pathLst>
              <a:path w="984" h="994">
                <a:moveTo>
                  <a:pt x="0" y="994"/>
                </a:moveTo>
                <a:cubicBezTo>
                  <a:pt x="53" y="966"/>
                  <a:pt x="210" y="880"/>
                  <a:pt x="317" y="824"/>
                </a:cubicBezTo>
                <a:cubicBezTo>
                  <a:pt x="424" y="768"/>
                  <a:pt x="545" y="725"/>
                  <a:pt x="640" y="659"/>
                </a:cubicBezTo>
                <a:cubicBezTo>
                  <a:pt x="735" y="593"/>
                  <a:pt x="831" y="508"/>
                  <a:pt x="887" y="430"/>
                </a:cubicBezTo>
                <a:cubicBezTo>
                  <a:pt x="943" y="352"/>
                  <a:pt x="984" y="257"/>
                  <a:pt x="975" y="189"/>
                </a:cubicBezTo>
                <a:cubicBezTo>
                  <a:pt x="966" y="121"/>
                  <a:pt x="890" y="48"/>
                  <a:pt x="834" y="24"/>
                </a:cubicBezTo>
                <a:cubicBezTo>
                  <a:pt x="778" y="0"/>
                  <a:pt x="680" y="38"/>
                  <a:pt x="640" y="4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35840" y="2006640"/>
            <a:ext cx="1620720" cy="1903320"/>
          </a:xfrm>
          <a:custGeom>
            <a:avLst/>
            <a:gdLst/>
            <a:ahLst/>
            <a:rect l="l" t="t" r="r" b="b"/>
            <a:pathLst>
              <a:path w="1021" h="1199">
                <a:moveTo>
                  <a:pt x="917" y="359"/>
                </a:moveTo>
                <a:cubicBezTo>
                  <a:pt x="932" y="318"/>
                  <a:pt x="1021" y="167"/>
                  <a:pt x="1005" y="112"/>
                </a:cubicBezTo>
                <a:cubicBezTo>
                  <a:pt x="989" y="57"/>
                  <a:pt x="915" y="0"/>
                  <a:pt x="823" y="30"/>
                </a:cubicBezTo>
                <a:cubicBezTo>
                  <a:pt x="731" y="60"/>
                  <a:pt x="544" y="154"/>
                  <a:pt x="452" y="294"/>
                </a:cubicBezTo>
                <a:cubicBezTo>
                  <a:pt x="360" y="434"/>
                  <a:pt x="345" y="719"/>
                  <a:pt x="270" y="870"/>
                </a:cubicBezTo>
                <a:cubicBezTo>
                  <a:pt x="195" y="1021"/>
                  <a:pt x="56" y="1130"/>
                  <a:pt x="0" y="119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00760" y="3943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91280" y="3714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10600" y="4140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0720" y="4295880"/>
            <a:ext cx="4008600" cy="1285920"/>
          </a:xfrm>
          <a:custGeom>
            <a:avLst/>
            <a:gdLst/>
            <a:ahLst/>
            <a:rect l="l" t="t" r="r" b="b"/>
            <a:pathLst>
              <a:path w="2525" h="810">
                <a:moveTo>
                  <a:pt x="0" y="204"/>
                </a:moveTo>
                <a:cubicBezTo>
                  <a:pt x="70" y="181"/>
                  <a:pt x="233" y="0"/>
                  <a:pt x="418" y="69"/>
                </a:cubicBezTo>
                <a:cubicBezTo>
                  <a:pt x="603" y="138"/>
                  <a:pt x="895" y="496"/>
                  <a:pt x="1111" y="616"/>
                </a:cubicBezTo>
                <a:cubicBezTo>
                  <a:pt x="1327" y="736"/>
                  <a:pt x="1537" y="774"/>
                  <a:pt x="1717" y="792"/>
                </a:cubicBezTo>
                <a:cubicBezTo>
                  <a:pt x="1897" y="810"/>
                  <a:pt x="2069" y="774"/>
                  <a:pt x="2189" y="725"/>
                </a:cubicBezTo>
                <a:cubicBezTo>
                  <a:pt x="2309" y="676"/>
                  <a:pt x="2380" y="574"/>
                  <a:pt x="2436" y="496"/>
                </a:cubicBezTo>
                <a:cubicBezTo>
                  <a:pt x="2492" y="418"/>
                  <a:pt x="2523" y="319"/>
                  <a:pt x="2524" y="255"/>
                </a:cubicBezTo>
                <a:cubicBezTo>
                  <a:pt x="2525" y="191"/>
                  <a:pt x="2482" y="133"/>
                  <a:pt x="2439" y="110"/>
                </a:cubicBezTo>
                <a:cubicBezTo>
                  <a:pt x="2396" y="87"/>
                  <a:pt x="2300" y="115"/>
                  <a:pt x="2263" y="1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3480" y="2662200"/>
            <a:ext cx="1766880" cy="1957320"/>
          </a:xfrm>
          <a:custGeom>
            <a:avLst/>
            <a:gdLst/>
            <a:ahLst/>
            <a:rect l="l" t="t" r="r" b="b"/>
            <a:pathLst>
              <a:path w="1113" h="1233">
                <a:moveTo>
                  <a:pt x="0" y="264"/>
                </a:moveTo>
                <a:cubicBezTo>
                  <a:pt x="59" y="224"/>
                  <a:pt x="220" y="55"/>
                  <a:pt x="354" y="27"/>
                </a:cubicBezTo>
                <a:cubicBezTo>
                  <a:pt x="488" y="0"/>
                  <a:pt x="695" y="37"/>
                  <a:pt x="807" y="97"/>
                </a:cubicBezTo>
                <a:cubicBezTo>
                  <a:pt x="919" y="157"/>
                  <a:pt x="977" y="275"/>
                  <a:pt x="1026" y="385"/>
                </a:cubicBezTo>
                <a:cubicBezTo>
                  <a:pt x="1075" y="495"/>
                  <a:pt x="1091" y="613"/>
                  <a:pt x="1102" y="754"/>
                </a:cubicBezTo>
                <a:cubicBezTo>
                  <a:pt x="1113" y="895"/>
                  <a:pt x="1095" y="1133"/>
                  <a:pt x="1093" y="12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05280" y="4095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85960" y="4262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90680" y="2800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6324480"/>
            <a:ext cx="838080" cy="228600"/>
          </a:xfrm>
          <a:custGeom>
            <a:avLst/>
            <a:gdLst>
              <a:gd name="textAreaLeft" fmla="*/ 9360 w 838080"/>
              <a:gd name="textAreaRight" fmla="*/ 828720 w 83808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8198" y="900"/>
                </a:lnTo>
                <a:lnTo>
                  <a:pt x="900" y="9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8198" y="20700"/>
                </a:lnTo>
                <a:lnTo>
                  <a:pt x="78198" y="9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900" y="20700"/>
                </a:lnTo>
                <a:lnTo>
                  <a:pt x="78198" y="207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900" y="900"/>
                </a:lnTo>
                <a:lnTo>
                  <a:pt x="900" y="20700"/>
                </a:lnTo>
                <a:close/>
              </a:path>
              <a:path fill="darken" w="79098" h="21600">
                <a:moveTo>
                  <a:pt x="32170" y="10800"/>
                </a:moveTo>
                <a:lnTo>
                  <a:pt x="46928" y="3421"/>
                </a:lnTo>
                <a:lnTo>
                  <a:pt x="46928" y="18179"/>
                </a:lnTo>
                <a:close/>
              </a:path>
            </a:pathLst>
          </a:custGeom>
          <a:solidFill>
            <a:srgbClr val="4da7e5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934320" y="0"/>
            <a:ext cx="1981080" cy="1959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924680" y="1828800"/>
            <a:ext cx="685800" cy="914400"/>
          </a:xfrm>
          <a:custGeom>
            <a:avLst/>
            <a:gdLst/>
            <a:ahLst/>
            <a:rect l="l" t="t" r="r" b="b"/>
            <a:pathLst>
              <a:path w="905" h="329">
                <a:moveTo>
                  <a:pt x="0" y="329"/>
                </a:moveTo>
                <a:cubicBezTo>
                  <a:pt x="33" y="293"/>
                  <a:pt x="130" y="160"/>
                  <a:pt x="199" y="111"/>
                </a:cubicBezTo>
                <a:cubicBezTo>
                  <a:pt x="268" y="62"/>
                  <a:pt x="332" y="23"/>
                  <a:pt x="417" y="35"/>
                </a:cubicBezTo>
                <a:cubicBezTo>
                  <a:pt x="502" y="47"/>
                  <a:pt x="630" y="188"/>
                  <a:pt x="711" y="182"/>
                </a:cubicBezTo>
                <a:cubicBezTo>
                  <a:pt x="792" y="176"/>
                  <a:pt x="865" y="38"/>
                  <a:pt x="905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5257800"/>
            <a:ext cx="1981080" cy="1036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5532480"/>
            <a:ext cx="5331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5913360"/>
            <a:ext cx="533160" cy="0"/>
          </a:xfrm>
          <a:prstGeom prst="line">
            <a:avLst/>
          </a:prstGeom>
          <a:ln w="442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01680" y="5345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98440" y="57038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627-64A1-4B02-844E-0B9F2170CE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15400" cy="37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27F-943E-4A8F-92BE-DAB3567ACE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962520" cy="1578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nextslide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33520" y="1447920"/>
            <a:ext cx="3808440" cy="2766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-port MIDI Interface 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/out pai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34000" y="137160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1360" y="137160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411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B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46920" y="3284640"/>
            <a:ext cx="330120" cy="1063440"/>
          </a:xfrm>
          <a:custGeom>
            <a:avLst/>
            <a:gdLst/>
            <a:ahLst/>
            <a:rect l="l" t="t" r="r" b="b"/>
            <a:pathLst>
              <a:path w="208" h="670">
                <a:moveTo>
                  <a:pt x="208" y="670"/>
                </a:moveTo>
                <a:cubicBezTo>
                  <a:pt x="184" y="641"/>
                  <a:pt x="95" y="564"/>
                  <a:pt x="62" y="494"/>
                </a:cubicBezTo>
                <a:cubicBezTo>
                  <a:pt x="29" y="424"/>
                  <a:pt x="18" y="335"/>
                  <a:pt x="9" y="253"/>
                </a:cubicBezTo>
                <a:cubicBezTo>
                  <a:pt x="0" y="171"/>
                  <a:pt x="9" y="53"/>
                  <a:pt x="9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7640" y="3807000"/>
            <a:ext cx="434880" cy="998280"/>
          </a:xfrm>
          <a:custGeom>
            <a:avLst/>
            <a:gdLst/>
            <a:ahLst/>
            <a:rect l="l" t="t" r="r" b="b"/>
            <a:pathLst>
              <a:path w="274" h="629">
                <a:moveTo>
                  <a:pt x="274" y="629"/>
                </a:moveTo>
                <a:cubicBezTo>
                  <a:pt x="239" y="606"/>
                  <a:pt x="107" y="561"/>
                  <a:pt x="63" y="494"/>
                </a:cubicBezTo>
                <a:cubicBezTo>
                  <a:pt x="19" y="427"/>
                  <a:pt x="0" y="311"/>
                  <a:pt x="10" y="229"/>
                </a:cubicBezTo>
                <a:cubicBezTo>
                  <a:pt x="20" y="147"/>
                  <a:pt x="98" y="48"/>
                  <a:pt x="121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53760" y="4648320"/>
            <a:ext cx="40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r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witch – connects In to O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use without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52578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ave in ‘out’ posi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040" y="2590920"/>
            <a:ext cx="1447920" cy="838080"/>
            <a:chOff x="914040" y="2590920"/>
            <a:chExt cx="1447920" cy="838080"/>
          </a:xfrm>
        </p:grpSpPr>
        <p:sp>
          <p:nvSpPr>
            <p:cNvPr id="218" name=""/>
            <p:cNvSpPr/>
            <p:nvPr/>
          </p:nvSpPr>
          <p:spPr>
            <a:xfrm>
              <a:off x="990360" y="2590920"/>
              <a:ext cx="1371600" cy="685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914040" y="2590920"/>
              <a:ext cx="75960" cy="152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285640" y="3276720"/>
              <a:ext cx="75960" cy="152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650960" y="2440080"/>
            <a:ext cx="2249640" cy="1609560"/>
          </a:xfrm>
          <a:custGeom>
            <a:avLst/>
            <a:gdLst/>
            <a:ahLst/>
            <a:rect l="l" t="t" r="r" b="b"/>
            <a:pathLst>
              <a:path w="1417" h="1014">
                <a:moveTo>
                  <a:pt x="1417" y="1014"/>
                </a:moveTo>
                <a:cubicBezTo>
                  <a:pt x="1385" y="990"/>
                  <a:pt x="1279" y="957"/>
                  <a:pt x="1235" y="867"/>
                </a:cubicBezTo>
                <a:cubicBezTo>
                  <a:pt x="1191" y="777"/>
                  <a:pt x="1208" y="590"/>
                  <a:pt x="1152" y="473"/>
                </a:cubicBezTo>
                <a:cubicBezTo>
                  <a:pt x="1096" y="356"/>
                  <a:pt x="1026" y="242"/>
                  <a:pt x="900" y="167"/>
                </a:cubicBezTo>
                <a:cubicBezTo>
                  <a:pt x="774" y="92"/>
                  <a:pt x="544" y="0"/>
                  <a:pt x="394" y="21"/>
                </a:cubicBezTo>
                <a:cubicBezTo>
                  <a:pt x="244" y="42"/>
                  <a:pt x="82" y="235"/>
                  <a:pt x="0" y="291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3809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6324480"/>
            <a:ext cx="838080" cy="228600"/>
          </a:xfrm>
          <a:custGeom>
            <a:avLst/>
            <a:gdLst>
              <a:gd name="textAreaLeft" fmla="*/ 9360 w 838080"/>
              <a:gd name="textAreaRight" fmla="*/ 828720 w 83808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8198" y="900"/>
                </a:lnTo>
                <a:lnTo>
                  <a:pt x="900" y="9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8198" y="20700"/>
                </a:lnTo>
                <a:lnTo>
                  <a:pt x="78198" y="9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900" y="20700"/>
                </a:lnTo>
                <a:lnTo>
                  <a:pt x="78198" y="207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900" y="900"/>
                </a:lnTo>
                <a:lnTo>
                  <a:pt x="900" y="20700"/>
                </a:lnTo>
                <a:close/>
              </a:path>
              <a:path fill="darken" w="79098" h="21600">
                <a:moveTo>
                  <a:pt x="32170" y="10800"/>
                </a:moveTo>
                <a:lnTo>
                  <a:pt x="46928" y="3421"/>
                </a:lnTo>
                <a:lnTo>
                  <a:pt x="46928" y="18179"/>
                </a:lnTo>
                <a:close/>
              </a:path>
            </a:pathLst>
          </a:custGeom>
          <a:solidFill>
            <a:srgbClr val="4da7e5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665-3999-44DC-8D91-601D1D8648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The Nature of Soun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Soun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physical phenomenon produced by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vibration of mat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ransmitted as wa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647712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431-9C11-4901-AEA6-AE1D096417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-port MIDI Interface 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/out pai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229600" cy="8665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866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DI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DI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B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924680" y="4114800"/>
            <a:ext cx="317520" cy="1063800"/>
          </a:xfrm>
          <a:custGeom>
            <a:avLst/>
            <a:gdLst/>
            <a:ahLst/>
            <a:rect l="l" t="t" r="r" b="b"/>
            <a:pathLst>
              <a:path w="208" h="670">
                <a:moveTo>
                  <a:pt x="208" y="670"/>
                </a:moveTo>
                <a:cubicBezTo>
                  <a:pt x="184" y="641"/>
                  <a:pt x="95" y="564"/>
                  <a:pt x="62" y="494"/>
                </a:cubicBezTo>
                <a:cubicBezTo>
                  <a:pt x="29" y="424"/>
                  <a:pt x="18" y="335"/>
                  <a:pt x="9" y="253"/>
                </a:cubicBezTo>
                <a:cubicBezTo>
                  <a:pt x="0" y="171"/>
                  <a:pt x="9" y="53"/>
                  <a:pt x="9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542-E62A-4710-9A2D-8F0B4EE7E1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Data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nlike digital sound, MIDI data does not encode individual samples. MIDI data encode </a:t>
            </a:r>
            <a:r>
              <a:rPr b="0" i="1" lang="en-US" sz="2600" spc="-1" strike="noStrike">
                <a:solidFill>
                  <a:srgbClr val="990000"/>
                </a:solidFill>
                <a:latin typeface="Tahoma"/>
              </a:rPr>
              <a:t>musical events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commands to control instrum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IDI data are grouped into </a:t>
            </a:r>
            <a:r>
              <a:rPr b="0" i="1" lang="en-US" sz="2600" spc="-1" strike="noStrike">
                <a:solidFill>
                  <a:srgbClr val="990000"/>
                </a:solidFill>
                <a:latin typeface="Tahoma"/>
              </a:rPr>
              <a:t>MIDI message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 Each MIDI message represents a </a:t>
            </a:r>
            <a:r>
              <a:rPr b="0" lang="en-US" sz="2600" spc="-1" strike="noStrike">
                <a:solidFill>
                  <a:srgbClr val="990000"/>
                </a:solidFill>
                <a:latin typeface="Tahoma"/>
              </a:rPr>
              <a:t>musical event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e.g., pressing a key, setting a switch or adjusting foot ped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sequence of MIDI messages is grouped into a </a:t>
            </a:r>
            <a:r>
              <a:rPr b="0" i="1" lang="en-US" sz="2600" spc="-1" strike="noStrike">
                <a:solidFill>
                  <a:srgbClr val="990000"/>
                </a:solidFill>
                <a:latin typeface="Tahoma"/>
              </a:rPr>
              <a:t>track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629400" y="304920"/>
          <a:ext cx="156204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04920"/>
                    <a:ext cx="156204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8BA-6560-4966-BA9E-CA4C0245073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File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ing computers to play MIDI music, the MIDI data are often stored in MIDI files. Each MIDI files contains a number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hun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re are two types of chunk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Header chunk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contains information about the entire file: the type of MIDI file, number of tracks and the timing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Track chunk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— the actual data of MIDI track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FA3-C6B3-46A6-9FC0-FCF620B35FB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music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al instruments are tuned to produce a set of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fixed pitch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066680" y="2514600"/>
          <a:ext cx="4038840" cy="38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403884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095880" y="2590920"/>
            <a:ext cx="1925640" cy="3733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8156520" y="2666880"/>
            <a:ext cx="54612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ve (0.1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EE3-876D-49CC-A21D-FB66A669A44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Octav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any two sounds whose frequencies make a 2:1 ratio are said to be separated by a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ta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sult in a particularly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leasing s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he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 two sounds with a frequency ratio of 5:4 are said to be separated by an interval of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such sound waves also sound good when played togeth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80880" y="4038480"/>
          <a:ext cx="8229600" cy="2286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nterv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requency Rat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: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 Hz and 256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 Hz and 256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: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 Hz and 256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f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4 Hz and 256 H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BD7-8BA8-4D01-902E-A48D62ED2A7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File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produced my musical instruments can be stored as codes since it produce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discrete number of soun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no. of key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piano of 12 sounds (12 key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Code 0-11 (position of a key) : 1 by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ctave 0-7 (principle sounds): 1 by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uration of using a key:  1 by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key press it needs 3 by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20 press/sec: 20 press * 3 bytes/press = 60 bytes/se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B06-F274-4F5E-96DF-102D0D7C7CC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How MIDI Sounds Are Synthesized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255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mplistic view is tha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DI device stores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haracteristics of soun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duced by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und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DI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ell the devic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which kind of s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t which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itc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o be generated,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how lo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sound is played and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other attribu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note should ha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2A2-1A40-48D2-A26A-00EADA2C33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How Sounds Are Synthesize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two ways of synthesizing sou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FM Synthesi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requency Modulation)—Using one sine wave to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odu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other sine wave, thus generating a new wave which i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ich in </a:t>
            </a:r>
            <a:r>
              <a:rPr b="0" i="1" lang="en-US" sz="2400" spc="-1" strike="noStrike">
                <a:solidFill>
                  <a:srgbClr val="990000"/>
                </a:solidFill>
                <a:latin typeface="Tahoma"/>
              </a:rPr>
              <a:t>timb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It consists of the two original waves, their sum and difference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rmon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ahoma"/>
              </a:rPr>
              <a:t>drawba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FM synthesis are: the generated sound i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not re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there i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no exact formul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generating a particular s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Wave-table synthe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 It store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representative digital s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mples. It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manipul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se sample, e.g., by changing the pitch, to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reate the complete 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ot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B63-A8E4-4950-B582-4F2E893BCFD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FM Synthesis</a:t>
            </a:r>
            <a:endParaRPr b="0" lang="en-US" sz="32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81680" cy="622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7E1-7126-4172-A78D-8BD37EF1AF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MIDI versus digital audio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30200" y="1676520"/>
          <a:ext cx="815652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676520"/>
                    <a:ext cx="81565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683-7F76-44BB-AC10-228A3520E75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The Nature of Soun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th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perception of s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human beings is a very complex process. It involves three syst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he </a:t>
            </a:r>
            <a:r>
              <a:rPr b="0" i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source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ich emits sound;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he </a:t>
            </a:r>
            <a:r>
              <a:rPr b="0" i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medium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hrough which the sound propagates;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he </a:t>
            </a:r>
            <a:r>
              <a:rPr b="0" i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detector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ich receives and interprets the sound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9AC-C874-4FEF-8A8A-261DB553A6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Black"/>
              </a:rPr>
              <a:t>Exercises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47920" y="1600200"/>
          <a:ext cx="55623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5562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290-59A0-4043-8BAA-D321D9F7F1A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The Nature of Soun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s we heard everyday are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very comple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sound is comprised of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waves of many different frequenc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hapes. But the simplest sound we can hear is a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sine wa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can be characterized by the following attribu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iod, Frequency, Amplitude, Bandwidth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tch, Loudness, Dynam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1D8-969E-4235-876E-DB11641BC4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The Nature of Sound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65160" y="2262240"/>
          <a:ext cx="708516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2262240"/>
                    <a:ext cx="708516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B81-86BF-4747-A4FE-4A25623000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Pitch and Frequency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Perio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interval of ti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which a periodic signal repeats regu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Pitc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erception of sound by human beings. It measure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he fee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sound as it is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perceiv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y a liste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ir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makes a high pitch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makes a low pitch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Frequenc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s a physical property of a wave. It is the reciprocal value of period f =1/P. The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sens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frequencies is commonly referred to as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t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soun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it is Herts (Hz) or kiloHertz (kHz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2EC-05C7-4950-841A-1170A8C6FA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Black"/>
              </a:rPr>
              <a:t>Pitch and Frequency</a:t>
            </a:r>
            <a:endParaRPr b="0" lang="en-US" sz="36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67080" y="4343400"/>
            <a:ext cx="4419720" cy="1341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3733920"/>
            <a:ext cx="3581640" cy="208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579132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Multime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D46-DAD2-4FFB-A4A5-B4904DEFE2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3T21:19:15Z</dcterms:created>
  <dc:creator>Information and Computer Science Dept.</dc:creator>
  <dc:description/>
  <dc:language>en-US</dc:language>
  <cp:lastModifiedBy>Ahmed</cp:lastModifiedBy>
  <dcterms:modified xsi:type="dcterms:W3CDTF">2011-10-19T19:35:17Z</dcterms:modified>
  <cp:revision>82</cp:revision>
  <dc:subject/>
  <dc:title>ICS 143 - Introduction to  Operating Systems</dc:title>
</cp:coreProperties>
</file>