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4A8C-4430-4297-93BD-F25509D3F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88F6-2547-4513-8FBE-B07B18A6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C0ED-B88C-431E-9E78-47EB5E9D7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06D4-C5E4-4CD2-8C8D-B49973429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B8A2-A266-4C44-B9FC-B386255F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B40F-81D4-4343-B627-45AD0A80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C0BD-EDE0-43B7-BCA0-C8BCB4F1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0CD5-92E0-4AB3-8694-DB055ECB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828B-B366-40D6-BC32-466B2F76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3F88-EAAD-4C12-87F2-4BD56DA7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F5B1-9AD9-45E1-A76E-17C63952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B5BF-BE82-48A8-8849-B0D8000A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9842-E22D-4E09-9C1B-4774A01903C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31T01:28:53Z</dcterms:modified>
  <cp:revision>28</cp:revision>
  <dc:subject/>
  <dc:title>슬라이드 1</dc:title>
</cp:coreProperties>
</file>