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8DF-8DB2-4131-908B-2DA8526C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3D1-AC5E-4A65-B3D2-B812F17E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EA2-7E1B-412E-B938-D7BAD48E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B12-9A20-48BB-B6CB-F86FC85C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412-68BE-4924-AD2C-8F20ACF3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467-DFEE-4BAC-9140-772B5F0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10D-D511-4A3C-BFC4-4132A700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941-A26D-42F7-A026-691B4C8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6B8-54B2-4F91-B353-CDAC206A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BE3-FE55-45BC-9522-E69574D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B2D-1962-461B-8AB0-AD8EC5A3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916-5B15-4B48-A3AE-C4427BCE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7C66-6871-4D3F-B2E5-BCFA8CF77B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28:53Z</dcterms:modified>
  <cp:revision>28</cp:revision>
  <dc:subject/>
  <dc:title>슬라이드 1</dc:title>
</cp:coreProperties>
</file>